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9.jpeg" ContentType="image/jpeg"/>
  <Override PartName="/ppt/media/image11.wmf" ContentType="image/x-wmf"/>
  <Override PartName="/ppt/media/image3.png" ContentType="image/png"/>
  <Override PartName="/ppt/media/image17.jpeg" ContentType="image/jpeg"/>
  <Override PartName="/ppt/media/image7.png" ContentType="image/png"/>
  <Override PartName="/ppt/media/image1.jpeg" ContentType="image/jpeg"/>
  <Override PartName="/ppt/media/image21.png" ContentType="image/png"/>
  <Override PartName="/ppt/media/image4.png" ContentType="image/png"/>
  <Override PartName="/ppt/media/image19.jpeg" ContentType="image/jpeg"/>
  <Override PartName="/ppt/media/image18.png" ContentType="image/png"/>
  <Override PartName="/ppt/media/image15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13.jpeg" ContentType="image/jpeg"/>
  <Override PartName="/ppt/media/image20.gif" ContentType="image/gif"/>
  <Override PartName="/ppt/media/image5.wmf" ContentType="image/x-wmf"/>
  <Override PartName="/ppt/media/image6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461E-71BD-4D0A-A950-095DDB49F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9B9A-96EA-4C1D-90F0-1D12C2559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5AA3-C714-4890-8AB5-CF785CDA6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780F-92FE-4D95-B0CD-0DEEC8B99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E4F81-587C-44F0-9582-9BD2A28FD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C1D66-089A-4D72-9AC6-A3ECB43B2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87F6A-5CA0-442D-94FA-DBFE83F20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B2A88-D60E-4E99-AECF-96D3121EF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04A0C-1A69-4FC2-8C45-C065C9DCD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19E87-5B7A-4126-B5BF-EAC2C5E2C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D1F08-E3C2-420C-989C-E2289D2F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F464-D964-47F8-843F-539B06A9F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FA869-0DAA-49BA-ACEF-E2EC43ED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E1C0B-51BE-44E8-9EF5-D1EE1F11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2DFD8-CB71-47FB-94AB-CE71BEE9B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0BDD4-3726-4CAE-8C66-999495F87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01F45-5E3F-4B9C-9C92-F869A09E4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9D4A-707B-4C26-9832-80B8A11A6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58B3-CE1C-44F3-A53C-4D220CE86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9FCE-7671-4395-AB32-A1316BC31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ADF1-1433-4434-A07B-5BCDE7EDA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F8B0-794F-4DAF-8C04-586045BD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D38F-0E68-4F15-ABF3-965774BC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8F5B-4DD7-45AF-A995-3A15F2BE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2F93C-85DC-410E-B724-FE7B2D5561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5CCD3-8EF7-48C6-8E60-7B31FC3632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56500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Урок биологии в 6 классе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«Фотосинтез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50920" y="5661000"/>
            <a:ext cx="8642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История открытия фотосинтез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5280" y="234936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о второй половине 19 века особенно большой вклад в изучение процесса фотосинтеза внес русский ученый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К.А.Тимирязе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372360" y="1413000"/>
            <a:ext cx="2363760" cy="3543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4140360" y="4221000"/>
            <a:ext cx="3024000" cy="22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Доказательство процесса фотосинтез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качестве доказательства процесса фотосинтеза можно привести опыт, который называется – «проба Сакса» - «Роль света для образования крахмала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растениях (листьях) на свету образуется органическое вещество – крахма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356000" y="2421000"/>
            <a:ext cx="4456080" cy="31258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588000" y="4869000"/>
            <a:ext cx="2160720" cy="9169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Tahoma"/>
              </a:rPr>
              <a:t>Органическое вещество- крахма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372360" y="3068640"/>
            <a:ext cx="12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516720" y="3068640"/>
            <a:ext cx="1368360" cy="3682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кислор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00720" y="3716280"/>
            <a:ext cx="792000" cy="3682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Tahoma"/>
              </a:rPr>
              <a:t>в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16360" y="3068640"/>
            <a:ext cx="165600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углекислый га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Вывод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3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Растения всей Земли ежегодно образуют более 100 млрд. тонн органических вещест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Ежегодно растения выделяют в атмосферу около 145 млрд. тонн кислоро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Затраты кислорода на дыхание человека, животных, растений компенсируются </a:t>
            </a:r>
            <a:r>
              <a:rPr b="1" i="1" lang="en-US" sz="2000" spc="-1" strike="noStrike">
                <a:solidFill>
                  <a:srgbClr val="ffcc00"/>
                </a:solidFill>
                <a:latin typeface="Tahoma"/>
              </a:rPr>
              <a:t>фотосинтез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Содержание кислорода в атмосфере в пределах – 21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916360" y="4005360"/>
            <a:ext cx="319248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Вывод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28640"/>
            <a:ext cx="42591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Фотосинтез ид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а свету круглый год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 он людям да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ищу и кислоро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чень важный процесс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Фотосинтез, друзья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Без него на Земл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бойтись нам нельз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Фрукты, овощи, хлеб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голь, сено,  дрова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Фотосинтез всему этому голов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оздух чист будет, свеж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ак легко им дышать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 озоновый слой будет нас защищат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580000" y="1628640"/>
            <a:ext cx="2487600" cy="44658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 flipV="1">
            <a:off x="7380360" y="2852640"/>
            <a:ext cx="287280" cy="43200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020000" y="2708280"/>
            <a:ext cx="0" cy="504720"/>
          </a:xfrm>
          <a:prstGeom prst="line">
            <a:avLst/>
          </a:prstGeom>
          <a:ln w="572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96360" y="2565360"/>
            <a:ext cx="13683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Tahoma"/>
              </a:rPr>
              <a:t>кислор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308720" y="3860640"/>
            <a:ext cx="12956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ahoma"/>
              </a:rPr>
              <a:t>крахма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659640" y="2060640"/>
            <a:ext cx="143964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Tahoma"/>
              </a:rPr>
              <a:t>Углекислый га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651640" y="17733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св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7164360" y="3573360"/>
            <a:ext cx="432000" cy="28728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Закрепление изученного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Тестовый контроль знаний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3848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Фотосинтез происходи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В процессе фотосинтеза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происходи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Крахмал, образующийся  в листьях, в процессе фотосинтеза являетс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Крахмал, образующийся в листьях в процессе фотосинтеза,  нужен растению дл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43280" y="1989000"/>
            <a:ext cx="424512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В устьицах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В межклетниках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В хлоропластах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Поглощение кислорода, выделение воды и углекислого газ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Поглощение углекислого газа и образование кислород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Запасным питательным веществом, которым снабжаются все органы растен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Побочным продуктом обмена, выделяемым во внешнюю среду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Выделения его во внешнюю среду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Снабжения всех частей растен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826920" y="6093000"/>
            <a:ext cx="53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00"/>
                </a:solidFill>
                <a:latin typeface="Tahoma"/>
              </a:rPr>
              <a:t>Ответы:  1 – 3;    2 – 5;     3 – 6;    4 – 9.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227640" y="6093000"/>
            <a:ext cx="27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Оценка –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«_____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Результаты обучения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Фотосинтез- воздушное питани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пособность к фотосинтезу – важнейшее свойство зеленых растени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словия протекания фотосинтеза- наличие солнечного свет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рганические вещества в растениях образуются в результате фотосинтез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Атмосферный кислород – побочный процесс фотосинтез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7667640" y="5373720"/>
            <a:ext cx="1246320" cy="12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Домашнее задание-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учить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§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 34, прочитать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§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 3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3564000" y="3500280"/>
            <a:ext cx="254952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Сегодня на уроке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Меня удивили ответы ребя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Я не хотел учить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Я узнал новые факты о растения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Мне было скучн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Мне понравилось учиться с помощью компьюте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Задачи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глублять и расширять представления о питании растен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ссказать об истории открытия фотосинтез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дчеркнуть значение фотосинтеза в природе и жизни челове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17269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Планируемые результаты обучения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Фотосинтез- воздушное питани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пособность к фотосинтезу – важнейшее свойство зеленых растен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словия протекания фотосинтез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рганические вещества в растениях образуются в результате фотосинтез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тмосферный кислород – побочный процесс фотосинтез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667640" y="5373720"/>
            <a:ext cx="1246320" cy="12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Изучение нового материала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Листья растений – своеобразная лаборатория, в которой на свету образуются органические веще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Это едва ли не самый замечательный процесс, происходящий на нашей планет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лагодаря этому процессу существует все живое на Земл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012000" y="1341360"/>
            <a:ext cx="2746080" cy="2581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572000" y="4510080"/>
            <a:ext cx="1944720" cy="19447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 flipV="1">
            <a:off x="5940360" y="2997360"/>
            <a:ext cx="1368360" cy="1584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Tahoma"/>
              </a:rPr>
              <a:t>Фотосинте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ahoma"/>
              </a:rPr>
              <a:t>Фотосинтез –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процесс образования органических веществ из воды и углекислого газа под действием солнечного света («фото» - свет, «синтез» - образование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364000" y="2637000"/>
            <a:ext cx="2305080" cy="2304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788000" y="2133720"/>
            <a:ext cx="647640" cy="71892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48360" y="1989000"/>
            <a:ext cx="647640" cy="71928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08720" y="1844640"/>
            <a:ext cx="647640" cy="71928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6877080" y="2133720"/>
            <a:ext cx="576360" cy="50472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7164000" y="4508280"/>
            <a:ext cx="576360" cy="649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9767000">
            <a:off x="4643280" y="4149360"/>
            <a:ext cx="1225800" cy="826920"/>
          </a:xfrm>
          <a:prstGeom prst="rightArrow">
            <a:avLst>
              <a:gd name="adj1" fmla="val 50000"/>
              <a:gd name="adj2" fmla="val 37059"/>
            </a:avLst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516720" y="177336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ff"/>
                </a:solidFill>
                <a:latin typeface="Tahoma"/>
              </a:rPr>
              <a:t>КИСЛОР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84720" y="5013360"/>
            <a:ext cx="18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ahoma"/>
              </a:rPr>
              <a:t>Углекислый га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00720" y="15573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00"/>
                </a:solidFill>
                <a:latin typeface="Tahoma"/>
              </a:rPr>
              <a:t>СВ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19676400">
            <a:off x="4716720" y="4436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ffff"/>
                </a:solidFill>
                <a:latin typeface="Tahoma"/>
              </a:rPr>
              <a:t>В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88360" y="1413000"/>
            <a:ext cx="5047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Ф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136000" y="587700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СВ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Побочный процесс фотосинтез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ряду с процессом фотосинтеза для растений присущ процесс дыхания, который, в отличии от фотосинтеза, не прекращается круглые сутки – и на свету, и в темнот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148360" y="3357720"/>
            <a:ext cx="2055600" cy="2055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148360" y="2565360"/>
            <a:ext cx="720720" cy="108108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00720" y="206064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ff"/>
                </a:solidFill>
                <a:latin typeface="Tahoma"/>
              </a:rPr>
              <a:t>КИСЛОР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6732720" y="2923920"/>
            <a:ext cx="792000" cy="934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300720" y="2276640"/>
            <a:ext cx="18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ahoma"/>
              </a:rPr>
              <a:t>УГЛЕКИСЛЫЙ ГА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702560" y="551664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СЕГ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244000" y="1700280"/>
            <a:ext cx="6490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История открытия фотосинтез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отосинтез был открыт в конце 18 столетия. В изучение этого процесса внесли свой вклад многие ученые. В 1600 году Бельгийский естествоиспытател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Ян ван Гельмонт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оставил первый эксперимент по изучению питания растен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300720" y="1557360"/>
            <a:ext cx="2394000" cy="3024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300720" y="4653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Ян ван Гельмон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4067280" y="5157720"/>
            <a:ext cx="316872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История открытия фотосинтез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1771 году английский химик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Джозеф Пристл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роделал следующий опыт: он посадил            мышь под стеклянный колпак, и через 5 часов мышь погибла. При внесении же под колпак веточки мяты мышь осталась жив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Проблемный вопро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 вы это объясните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443640" y="1484280"/>
            <a:ext cx="2060640" cy="28814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372360" y="443700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жозеф Прист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788000" y="3213000"/>
            <a:ext cx="17953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История открытия фотосинтез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олландский ученый Ян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Ингенхаус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1779 году показал, что непременным условием удачного опыта является наличие солнечного све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ильное представление о процессе фотосинтеза дали ученые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Сенебь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Буссенго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804000" y="1413000"/>
            <a:ext cx="1717560" cy="2303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732720" y="3789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Жак Буссен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500720" y="2133720"/>
            <a:ext cx="1869840" cy="24397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6804000" y="4292640"/>
            <a:ext cx="1895400" cy="23288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500720" y="4653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Ян Ингенхау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859280" y="6093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Жан Сенебь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06:01:36Z</dcterms:created>
  <dc:creator>max</dc:creator>
  <dc:description/>
  <dc:language>en-US</dc:language>
  <cp:lastModifiedBy>max</cp:lastModifiedBy>
  <dcterms:modified xsi:type="dcterms:W3CDTF">2008-11-29T21:00:46Z</dcterms:modified>
  <cp:revision>10</cp:revision>
  <dc:subject/>
  <dc:title>Урок биологии в 6 классе «Фотосинтез»</dc:title>
</cp:coreProperties>
</file>