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53D-F918-469D-AFD3-626EAAC2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0086-5C64-4CC7-BE06-5C65DA68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0E66-3DC1-4CFC-BD7F-F8A71CD2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674-1528-4A27-9A39-9E5B9E59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4123-3F2D-4C57-B7FE-6A58C08B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A8D9-7E03-4291-A851-87B49A72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6F77-CC64-4855-93A3-BEB7F248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CBFE-EBFE-4964-B6E4-A27232E2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D7B5-1B18-40C3-B96F-1A4E1123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4049-56D9-436A-8A73-491C4F26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63DD-24A1-40A6-9D55-6A099C21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0460-D200-4CB3-97A8-CB15C909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0193-7D1B-49B0-AA90-B366EAAC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C477-BDCE-497F-98F2-A2A08177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5F6E-37D9-4229-8B63-45F12938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5ECC-7D8D-4CFB-8343-AA14EA7B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27FF-3890-49D9-9415-ACB2E937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8FE-3882-4CE4-ADA9-B499829C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47CC-C2BD-408D-AC12-D2927E64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F41-BA57-43C5-A05F-3F9F480B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B90-EA14-414F-A157-594B6035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4006-48EA-4383-BC10-0E84897C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830-D430-4F90-B837-635F9664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F093-704E-455F-9EBC-AFE47363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9DC6-54E1-43FF-9B12-5FFC7387E51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2864-4FF6-4895-87CE-E3AF0126968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Клеточная теория.  Химическая организация клетки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Белки-биополиме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омеры-аминокисло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го аминокислот 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и образуют между собой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ептидную связ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а вещества называют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липептидам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6" descr="белок 1"/>
          <p:cNvPicPr/>
          <p:nvPr/>
        </p:nvPicPr>
        <p:blipFill>
          <a:blip r:embed="rId1"/>
          <a:stretch/>
        </p:blipFill>
        <p:spPr>
          <a:xfrm>
            <a:off x="4648320" y="2035080"/>
            <a:ext cx="403848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труктура белк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49568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ервичная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последовательность аминокислот (пептидные связ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торичн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первичная структура свернутая спиралью (водородные связ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Третична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сворачивание спирали в глобулу (связи ионные, гидрофобные, дисульфидны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Четвертич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Денатурация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теря белком всех структур до первичн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6" descr="белок"/>
          <p:cNvPicPr/>
          <p:nvPr/>
        </p:nvPicPr>
        <p:blipFill>
          <a:blip r:embed="rId1"/>
          <a:stretch/>
        </p:blipFill>
        <p:spPr>
          <a:xfrm>
            <a:off x="4500720" y="1700280"/>
            <a:ext cx="44956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ункции белк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6516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уктур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ерментативная (увеличивают скорость реакций)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уляторная (гормоны – инсул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щитная(антитела, иммунитет, токсин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кратительная или двигатель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нспортная (гемоглобин кров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нергет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качки"/>
          <p:cNvPicPr/>
          <p:nvPr/>
        </p:nvPicPr>
        <p:blipFill>
          <a:blip r:embed="rId1"/>
          <a:stretch/>
        </p:blipFill>
        <p:spPr>
          <a:xfrm>
            <a:off x="6372360" y="2205000"/>
            <a:ext cx="2674800" cy="3529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мышца"/>
          <p:cNvPicPr/>
          <p:nvPr/>
        </p:nvPicPr>
        <p:blipFill>
          <a:blip r:embed="rId2"/>
          <a:stretch/>
        </p:blipFill>
        <p:spPr>
          <a:xfrm>
            <a:off x="0" y="4640400"/>
            <a:ext cx="3119400" cy="2217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фагоцит"/>
          <p:cNvPicPr/>
          <p:nvPr/>
        </p:nvPicPr>
        <p:blipFill>
          <a:blip r:embed="rId3"/>
          <a:stretch/>
        </p:blipFill>
        <p:spPr>
          <a:xfrm>
            <a:off x="3203640" y="3645000"/>
            <a:ext cx="304776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уклеиновые кислоты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572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НК  (две цепи) и РНК (одна цепь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номеры - нуклеотид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уклеотид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хар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зотистое основание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таток Н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ахара: рибоза или дезоксирибо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ания: аденин, гуанин, цитозин, тимин (ДНК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ания: аденин, гуанин, цитозин, урацил (РНК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ания располагаютс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комплиментарн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руг друг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-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-Ц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!!!! А-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пределите вторую нить ДНК, если участок первой имеет структуру: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Г Т-ГАТ- Т Т Т- Г Т Т- Т Г 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ДНК"/>
          <p:cNvPicPr/>
          <p:nvPr/>
        </p:nvPicPr>
        <p:blipFill>
          <a:blip r:embed="rId1"/>
          <a:stretch/>
        </p:blipFill>
        <p:spPr>
          <a:xfrm>
            <a:off x="5796000" y="134136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Untitled-1"/>
          <p:cNvPicPr/>
          <p:nvPr/>
        </p:nvPicPr>
        <p:blipFill>
          <a:blip r:embed="rId2"/>
          <a:stretch/>
        </p:blipFill>
        <p:spPr>
          <a:xfrm>
            <a:off x="5724360" y="4219560"/>
            <a:ext cx="34419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Функции НК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4" name="Organization Chart 7"/>
          <p:cNvGrpSpPr/>
          <p:nvPr/>
        </p:nvGrpSpPr>
        <p:grpSpPr>
          <a:xfrm>
            <a:off x="457200" y="1052640"/>
            <a:ext cx="8228880" cy="5803920"/>
            <a:chOff x="457200" y="1052640"/>
            <a:chExt cx="8228880" cy="5803920"/>
          </a:xfrm>
        </p:grpSpPr>
        <p:cxnSp>
          <p:nvCxnSpPr>
            <p:cNvPr id="145" name="_s2052"/>
            <p:cNvCxnSpPr>
              <a:stCxn id="146" idx="0"/>
              <a:endCxn id="147" idx="2"/>
            </p:cNvCxnSpPr>
            <p:nvPr/>
          </p:nvCxnSpPr>
          <p:spPr>
            <a:xfrm flipV="1" rot="16200000">
              <a:off x="5276160" y="5041440"/>
              <a:ext cx="726120" cy="2520"/>
            </a:xfrm>
            <a:prstGeom prst="bentConnector3">
              <a:avLst>
                <a:gd name="adj1" fmla="val 157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8" name="_s2053"/>
            <p:cNvCxnSpPr>
              <a:stCxn id="149" idx="0"/>
              <a:endCxn id="150" idx="2"/>
            </p:cNvCxnSpPr>
            <p:nvPr/>
          </p:nvCxnSpPr>
          <p:spPr>
            <a:xfrm flipV="1" rot="16200000">
              <a:off x="5808600" y="1265040"/>
              <a:ext cx="726120" cy="3201120"/>
            </a:xfrm>
            <a:prstGeom prst="bentConnector3">
              <a:avLst>
                <a:gd name="adj1" fmla="val 157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1" name="_s2054"/>
            <p:cNvCxnSpPr>
              <a:stCxn id="147" idx="0"/>
              <a:endCxn id="150" idx="2"/>
            </p:cNvCxnSpPr>
            <p:nvPr/>
          </p:nvCxnSpPr>
          <p:spPr>
            <a:xfrm flipV="1" rot="16200000">
              <a:off x="4741560" y="2332080"/>
              <a:ext cx="726120" cy="1067400"/>
            </a:xfrm>
            <a:prstGeom prst="bentConnector3">
              <a:avLst>
                <a:gd name="adj1" fmla="val 157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2" name="_s2055"/>
            <p:cNvCxnSpPr>
              <a:stCxn id="153" idx="0"/>
              <a:endCxn id="154" idx="2"/>
            </p:cNvCxnSpPr>
            <p:nvPr/>
          </p:nvCxnSpPr>
          <p:spPr>
            <a:xfrm flipV="1">
              <a:off x="1370880" y="4679640"/>
              <a:ext cx="2520" cy="726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5" name="_s2056"/>
            <p:cNvCxnSpPr>
              <a:stCxn id="156" idx="0"/>
              <a:endCxn id="150" idx="2"/>
            </p:cNvCxnSpPr>
            <p:nvPr/>
          </p:nvCxnSpPr>
          <p:spPr>
            <a:xfrm flipH="1" flipV="1" rot="5400000">
              <a:off x="3675240" y="2332440"/>
              <a:ext cx="726120" cy="1067040"/>
            </a:xfrm>
            <a:prstGeom prst="bentConnector3">
              <a:avLst>
                <a:gd name="adj1" fmla="val 157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7" name="_s2057"/>
            <p:cNvCxnSpPr>
              <a:stCxn id="154" idx="0"/>
              <a:endCxn id="150" idx="2"/>
            </p:cNvCxnSpPr>
            <p:nvPr/>
          </p:nvCxnSpPr>
          <p:spPr>
            <a:xfrm flipH="1" flipV="1" rot="5400000">
              <a:off x="2608200" y="1265400"/>
              <a:ext cx="726120" cy="3200760"/>
            </a:xfrm>
            <a:prstGeom prst="bentConnector3">
              <a:avLst>
                <a:gd name="adj1" fmla="val 1572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0" name="_s2058"/>
            <p:cNvSpPr/>
            <p:nvPr/>
          </p:nvSpPr>
          <p:spPr>
            <a:xfrm>
              <a:off x="3657240" y="1052640"/>
              <a:ext cx="1828440" cy="1450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НК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_s2059"/>
            <p:cNvSpPr/>
            <p:nvPr/>
          </p:nvSpPr>
          <p:spPr>
            <a:xfrm>
              <a:off x="457200" y="3229200"/>
              <a:ext cx="1828440" cy="1450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ДНК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_s2060"/>
            <p:cNvSpPr/>
            <p:nvPr/>
          </p:nvSpPr>
          <p:spPr>
            <a:xfrm>
              <a:off x="2590560" y="3229200"/>
              <a:ext cx="1828440" cy="1450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Информационная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РНК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_s2061"/>
            <p:cNvSpPr/>
            <p:nvPr/>
          </p:nvSpPr>
          <p:spPr>
            <a:xfrm>
              <a:off x="457200" y="5405760"/>
              <a:ext cx="1828440" cy="1450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ahoma"/>
                </a:rPr>
                <a:t>Хранение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500" spc="-1" strike="noStrike">
                  <a:solidFill>
                    <a:srgbClr val="ffffff"/>
                  </a:solidFill>
                  <a:latin typeface="Tahoma"/>
                </a:rPr>
                <a:t>и пердача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ahoma"/>
                </a:rPr>
                <a:t>Наследственной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ahoma"/>
                </a:rPr>
                <a:t>информации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_s2062"/>
            <p:cNvSpPr/>
            <p:nvPr/>
          </p:nvSpPr>
          <p:spPr>
            <a:xfrm>
              <a:off x="4724280" y="3229200"/>
              <a:ext cx="1828440" cy="1450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Транспортная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РНК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_s2063"/>
            <p:cNvSpPr/>
            <p:nvPr/>
          </p:nvSpPr>
          <p:spPr>
            <a:xfrm>
              <a:off x="6857640" y="3229200"/>
              <a:ext cx="1828440" cy="1450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ahoma"/>
                </a:rPr>
                <a:t>Рибосомная 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ffffff"/>
                  </a:solidFill>
                  <a:latin typeface="Tahoma"/>
                </a:rPr>
                <a:t>РНК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2064"/>
            <p:cNvSpPr/>
            <p:nvPr/>
          </p:nvSpPr>
          <p:spPr>
            <a:xfrm>
              <a:off x="4726080" y="5405760"/>
              <a:ext cx="1826640" cy="14508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Биосинтез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белка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>
              <a:off x="3564000" y="4725000"/>
              <a:ext cx="1079280" cy="136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9" name="Line 32"/>
          <p:cNvSpPr/>
          <p:nvPr/>
        </p:nvSpPr>
        <p:spPr>
          <a:xfrm flipH="1">
            <a:off x="6588000" y="4724280"/>
            <a:ext cx="1368720" cy="1368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АТ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ниверсальный источник энерг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оставе адениловый нуклеотид + остатки фосфорной кисл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отщеплении остатка фосфорной кислоты освобождается энерг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ТФ= АДФ+Ф +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пас АТФ постоянно пополня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АТФ1"/>
          <p:cNvPicPr/>
          <p:nvPr/>
        </p:nvPicPr>
        <p:blipFill>
          <a:blip r:embed="rId1"/>
          <a:stretch/>
        </p:blipFill>
        <p:spPr>
          <a:xfrm>
            <a:off x="4351320" y="1700280"/>
            <a:ext cx="47926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новные положения клеточной теори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 организмы (кроме вирусов) имеют клеточное строение, т.е. клетка –структурная и функциональная единица всего живог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 клетки имеют единый принцип организации и функционирова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летки могут существовать как одноклеточные организмы, но могут входить в состав многоклеточного организ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 новые клетки образуются при делении материнской клет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клетка"/>
          <p:cNvPicPr/>
          <p:nvPr/>
        </p:nvPicPr>
        <p:blipFill>
          <a:blip r:embed="rId1"/>
          <a:stretch/>
        </p:blipFill>
        <p:spPr>
          <a:xfrm>
            <a:off x="4648320" y="1814400"/>
            <a:ext cx="40384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Химическая организация клетки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Элементный состав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иологически важные элементы 2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акроэлемен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-98-99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основны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g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0,1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икроэлемен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o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Zn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u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0,01 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Ультрамикроэлемен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g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u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g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Organization Chart 9"/>
          <p:cNvGrpSpPr/>
          <p:nvPr/>
        </p:nvGrpSpPr>
        <p:grpSpPr>
          <a:xfrm>
            <a:off x="457200" y="260280"/>
            <a:ext cx="8229240" cy="6336720"/>
            <a:chOff x="457200" y="260280"/>
            <a:chExt cx="8229240" cy="6336720"/>
          </a:xfrm>
        </p:grpSpPr>
        <p:cxnSp>
          <p:nvCxnSpPr>
            <p:cNvPr id="95" name="_s1028"/>
            <p:cNvCxnSpPr>
              <a:stCxn id="96" idx="1"/>
              <a:endCxn id="97" idx="2"/>
            </p:cNvCxnSpPr>
            <p:nvPr/>
          </p:nvCxnSpPr>
          <p:spPr>
            <a:xfrm rot="10800000">
              <a:off x="5942520" y="2124720"/>
              <a:ext cx="392400" cy="1868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8" name="_s1029"/>
            <p:cNvCxnSpPr>
              <a:stCxn id="99" idx="1"/>
              <a:endCxn id="97" idx="2"/>
            </p:cNvCxnSpPr>
            <p:nvPr/>
          </p:nvCxnSpPr>
          <p:spPr>
            <a:xfrm rot="10800000">
              <a:off x="5942520" y="2124720"/>
              <a:ext cx="392400" cy="746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1030"/>
            <p:cNvCxnSpPr>
              <a:stCxn id="101" idx="3"/>
              <a:endCxn id="102" idx="2"/>
            </p:cNvCxnSpPr>
            <p:nvPr/>
          </p:nvCxnSpPr>
          <p:spPr>
            <a:xfrm flipV="1">
              <a:off x="2808360" y="2125080"/>
              <a:ext cx="392400" cy="41018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3" name="_s1031"/>
            <p:cNvCxnSpPr>
              <a:stCxn id="104" idx="3"/>
              <a:endCxn id="102" idx="2"/>
            </p:cNvCxnSpPr>
            <p:nvPr/>
          </p:nvCxnSpPr>
          <p:spPr>
            <a:xfrm flipV="1">
              <a:off x="2808360" y="2125080"/>
              <a:ext cx="392400" cy="29851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1032"/>
            <p:cNvCxnSpPr>
              <a:stCxn id="106" idx="3"/>
              <a:endCxn id="102" idx="2"/>
            </p:cNvCxnSpPr>
            <p:nvPr/>
          </p:nvCxnSpPr>
          <p:spPr>
            <a:xfrm flipV="1">
              <a:off x="2808360" y="2124720"/>
              <a:ext cx="392400" cy="1868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7" name="_s1033"/>
            <p:cNvCxnSpPr>
              <a:stCxn id="108" idx="3"/>
              <a:endCxn id="102" idx="2"/>
            </p:cNvCxnSpPr>
            <p:nvPr/>
          </p:nvCxnSpPr>
          <p:spPr>
            <a:xfrm flipV="1">
              <a:off x="2808360" y="2125080"/>
              <a:ext cx="392400" cy="746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034"/>
            <p:cNvCxnSpPr>
              <a:stCxn id="97" idx="0"/>
              <a:endCxn id="110" idx="2"/>
            </p:cNvCxnSpPr>
            <p:nvPr/>
          </p:nvCxnSpPr>
          <p:spPr>
            <a:xfrm flipV="1" rot="16200000">
              <a:off x="5070240" y="506160"/>
              <a:ext cx="373680" cy="1372320"/>
            </a:xfrm>
            <a:prstGeom prst="bentConnector3">
              <a:avLst>
                <a:gd name="adj1" fmla="val 4310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035"/>
            <p:cNvCxnSpPr>
              <a:stCxn id="102" idx="0"/>
              <a:endCxn id="110" idx="2"/>
            </p:cNvCxnSpPr>
            <p:nvPr/>
          </p:nvCxnSpPr>
          <p:spPr>
            <a:xfrm flipH="1" flipV="1" rot="5400000">
              <a:off x="3698640" y="506520"/>
              <a:ext cx="373680" cy="1371960"/>
            </a:xfrm>
            <a:prstGeom prst="bentConnector3">
              <a:avLst>
                <a:gd name="adj1" fmla="val 4310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0" name="_s1036"/>
            <p:cNvSpPr/>
            <p:nvPr/>
          </p:nvSpPr>
          <p:spPr>
            <a:xfrm>
              <a:off x="3395880" y="260280"/>
              <a:ext cx="2351160" cy="7459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Молекулярный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состав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7"/>
            <p:cNvSpPr/>
            <p:nvPr/>
          </p:nvSpPr>
          <p:spPr>
            <a:xfrm>
              <a:off x="2024640" y="1379160"/>
              <a:ext cx="2351160" cy="7459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Органические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вещества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_s1038"/>
            <p:cNvSpPr/>
            <p:nvPr/>
          </p:nvSpPr>
          <p:spPr>
            <a:xfrm>
              <a:off x="4767480" y="1379160"/>
              <a:ext cx="2351160" cy="7459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Неорганические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вещества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_s1039"/>
            <p:cNvSpPr/>
            <p:nvPr/>
          </p:nvSpPr>
          <p:spPr>
            <a:xfrm>
              <a:off x="457200" y="2498400"/>
              <a:ext cx="2351160" cy="7459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Липиды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_s1040"/>
            <p:cNvSpPr/>
            <p:nvPr/>
          </p:nvSpPr>
          <p:spPr>
            <a:xfrm>
              <a:off x="457200" y="3617640"/>
              <a:ext cx="2351160" cy="7459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Углеводы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41"/>
            <p:cNvSpPr/>
            <p:nvPr/>
          </p:nvSpPr>
          <p:spPr>
            <a:xfrm>
              <a:off x="457200" y="4736880"/>
              <a:ext cx="2351160" cy="7434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Белки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42"/>
            <p:cNvSpPr/>
            <p:nvPr/>
          </p:nvSpPr>
          <p:spPr>
            <a:xfrm>
              <a:off x="457200" y="5853600"/>
              <a:ext cx="2351160" cy="74340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Нуклеиновые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кислоты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43"/>
            <p:cNvSpPr/>
            <p:nvPr/>
          </p:nvSpPr>
          <p:spPr>
            <a:xfrm>
              <a:off x="6335280" y="2498400"/>
              <a:ext cx="2351160" cy="7459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Tahoma"/>
                </a:rPr>
                <a:t>Вода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1044"/>
            <p:cNvSpPr/>
            <p:nvPr/>
          </p:nvSpPr>
          <p:spPr>
            <a:xfrm>
              <a:off x="6335280" y="3617640"/>
              <a:ext cx="2351160" cy="7459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ffffff"/>
                  </a:solidFill>
                  <a:latin typeface="Tahoma"/>
                </a:rPr>
                <a:t>Минеральные соли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д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ды в клетках около 70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красный растворител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а для протекания химических реакций (гидролиз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рмостабилизатор и терморегуля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дает упругость и объем клетке (турго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нспортная функ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5" descr="вода"/>
          <p:cNvPicPr/>
          <p:nvPr/>
        </p:nvPicPr>
        <p:blipFill>
          <a:blip r:embed="rId1"/>
          <a:stretch/>
        </p:blipFill>
        <p:spPr>
          <a:xfrm>
            <a:off x="5651640" y="1628640"/>
            <a:ext cx="327816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инеральные сол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ионы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+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ионы: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2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ионы обеспечивают свойство раздражим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ионы поддерживают постоянство внутренней среды клет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глеводы-биополиме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осахариды – простые сахара: глюкоза, фруктоза, рибоза, дезоксириб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сахариды: сахароза, мальт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лисахариды: крахмал, гликоген, целлюлоза, хит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углеводы 1"/>
          <p:cNvPicPr/>
          <p:nvPr/>
        </p:nvPicPr>
        <p:blipFill>
          <a:blip r:embed="rId1"/>
          <a:stretch/>
        </p:blipFill>
        <p:spPr>
          <a:xfrm>
            <a:off x="5302080" y="1600200"/>
            <a:ext cx="2730600" cy="2171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полисахариды"/>
          <p:cNvPicPr/>
          <p:nvPr/>
        </p:nvPicPr>
        <p:blipFill>
          <a:blip r:embed="rId2"/>
          <a:stretch/>
        </p:blipFill>
        <p:spPr>
          <a:xfrm>
            <a:off x="4284720" y="4221000"/>
            <a:ext cx="446724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Функции углеводов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нергетическая (1 г - 17,6 кДж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уктурная (есть во всех тканях и органах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пасающая (у растений крахмал, у животных гликоген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щитная (вязкие секреты и слизи, например стенки кишечни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цепторная(клетки одного вида узнают друг друг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ипиды (жиры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омеры: глицерин и высшие карбоновые кислот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нергетическая (1 г - 38,9 кДж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пасающая (жировая клетчат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щитная (от переохлажде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точник метаболической воды (жители пустынь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уляторная (липиды-гормоны, например половы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руктурная (фосфолипиды - основа клето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жиры"/>
          <p:cNvPicPr/>
          <p:nvPr/>
        </p:nvPicPr>
        <p:blipFill>
          <a:blip r:embed="rId1"/>
          <a:stretch/>
        </p:blipFill>
        <p:spPr>
          <a:xfrm>
            <a:off x="6012000" y="414972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жиры 1"/>
          <p:cNvPicPr/>
          <p:nvPr/>
        </p:nvPicPr>
        <p:blipFill>
          <a:blip r:embed="rId2"/>
          <a:stretch/>
        </p:blipFill>
        <p:spPr>
          <a:xfrm>
            <a:off x="179280" y="4149720"/>
            <a:ext cx="200988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морж"/>
          <p:cNvPicPr/>
          <p:nvPr/>
        </p:nvPicPr>
        <p:blipFill>
          <a:blip r:embed="rId3"/>
          <a:stretch/>
        </p:blipFill>
        <p:spPr>
          <a:xfrm>
            <a:off x="2627280" y="414972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39:03Z</dcterms:created>
  <dc:creator>Даша</dc:creator>
  <dc:description/>
  <dc:language>en-US</dc:language>
  <cp:lastModifiedBy>Пользователь</cp:lastModifiedBy>
  <dcterms:modified xsi:type="dcterms:W3CDTF">2021-09-17T06:48:33Z</dcterms:modified>
  <cp:revision>47</cp:revision>
  <dc:subject/>
  <dc:title>Клеточная теория.  Химическая организация клетки.</dc:title>
</cp:coreProperties>
</file>