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0BC-FCCF-4192-BBD8-F5ADE7BA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FEA-F677-4583-B0E5-78519DF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702-3EDA-4697-9CF1-1C44899B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808-9DAE-4B7C-BDD8-D782C4B5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1EF8-9119-45A0-B19F-80846437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602D-F076-4712-BCFE-2AC9D20D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8C3D-1E63-4A7B-951D-7F336E1D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3BD0-BCDC-4B23-8B9A-23118E6C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E969-4924-4F0F-8B02-43A711AC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7390-04B3-4108-A1B1-302949D3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0B28-0F20-4C07-9E8C-D55A252D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66C-871B-46A3-AA75-54255AF3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132B-E8CF-4AD5-B0A8-8326B5A0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4CAA-E49C-456D-B7BC-34BA20F1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B0D2-A69D-4B88-98AB-1C3CE074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D26D-06CF-42F7-9170-E57CE7AD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A378-F06D-4AA5-AA83-2E8380C9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6EF-9D77-4ABB-8B4F-ED89F15E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9E3-01B1-49E0-B983-589D1462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198-47F2-479A-BA3F-F45F562D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C06-40C5-47BC-B18F-A42B3A3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255-963C-4E19-9A06-07399A5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F8C-D34F-45E1-B5D3-A506B22B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E28-8C74-4720-8D47-E6C0893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4ABD-3C02-4D52-857D-27C6FC8F1E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5096-342C-40B2-B869-67AA6E0147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леточная теория.  Химическая организация клет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лки-биополим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омеры-аминокисл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го аминокислот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образуют между собой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ептидную связ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а вещества называю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липептида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6" descr="белок 1"/>
          <p:cNvPicPr/>
          <p:nvPr/>
        </p:nvPicPr>
        <p:blipFill>
          <a:blip r:embed="rId1"/>
          <a:stretch/>
        </p:blipFill>
        <p:spPr>
          <a:xfrm>
            <a:off x="4648320" y="2035080"/>
            <a:ext cx="403848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руктура бел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ервична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следовательность аминокислот (пептидные свя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торичн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ервичная структура свернутая спиралью (водородные свя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Третичн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сворачивание спирали в глобулу (связи ионные, гидрофобные, дисульфидны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Четверти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енатурация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еря белком всех структур до перви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белок"/>
          <p:cNvPicPr/>
          <p:nvPr/>
        </p:nvPicPr>
        <p:blipFill>
          <a:blip r:embed="rId1"/>
          <a:stretch/>
        </p:blipFill>
        <p:spPr>
          <a:xfrm>
            <a:off x="4500720" y="1700280"/>
            <a:ext cx="4495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ункции бел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516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укту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рментативная (увеличивают скорость реакций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яторная (гормоны – инсу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ная(антитела, иммунитет, токси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тельная или двигате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ая (гемоглобин кро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нерге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качки"/>
          <p:cNvPicPr/>
          <p:nvPr/>
        </p:nvPicPr>
        <p:blipFill>
          <a:blip r:embed="rId1"/>
          <a:stretch/>
        </p:blipFill>
        <p:spPr>
          <a:xfrm>
            <a:off x="6372360" y="2205000"/>
            <a:ext cx="2674800" cy="352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мышца"/>
          <p:cNvPicPr/>
          <p:nvPr/>
        </p:nvPicPr>
        <p:blipFill>
          <a:blip r:embed="rId2"/>
          <a:stretch/>
        </p:blipFill>
        <p:spPr>
          <a:xfrm>
            <a:off x="0" y="4640400"/>
            <a:ext cx="3119400" cy="2217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фагоцит"/>
          <p:cNvPicPr/>
          <p:nvPr/>
        </p:nvPicPr>
        <p:blipFill>
          <a:blip r:embed="rId3"/>
          <a:stretch/>
        </p:blipFill>
        <p:spPr>
          <a:xfrm>
            <a:off x="3203640" y="3645000"/>
            <a:ext cx="30477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уклеиновые кислот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572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НК  (две цепи) и РНК (одна цеп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омеры - нуклеот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уклеоти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ха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зотистое основа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таток 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хара: рибоза или дезоксириб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ния: аденин, гуанин, цитозин, тимин (ДН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ния: аденин, гуанин, цитозин, урацил (РН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ния располагаю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омплиментарн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руг друг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-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-Ц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!!!! А-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е вторую нить ДНК, если участок первой имеет структуру: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Г Т-ГАТ- Т Т Т- Г Т Т- Т Г 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ДНК"/>
          <p:cNvPicPr/>
          <p:nvPr/>
        </p:nvPicPr>
        <p:blipFill>
          <a:blip r:embed="rId1"/>
          <a:stretch/>
        </p:blipFill>
        <p:spPr>
          <a:xfrm>
            <a:off x="5796000" y="134136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Untitled-1"/>
          <p:cNvPicPr/>
          <p:nvPr/>
        </p:nvPicPr>
        <p:blipFill>
          <a:blip r:embed="rId2"/>
          <a:stretch/>
        </p:blipFill>
        <p:spPr>
          <a:xfrm>
            <a:off x="5724360" y="4219560"/>
            <a:ext cx="3441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ункции Н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4" name="Organization Chart 7"/>
          <p:cNvGrpSpPr/>
          <p:nvPr/>
        </p:nvGrpSpPr>
        <p:grpSpPr>
          <a:xfrm>
            <a:off x="457200" y="1052640"/>
            <a:ext cx="8228880" cy="5803920"/>
            <a:chOff x="457200" y="1052640"/>
            <a:chExt cx="8228880" cy="5803920"/>
          </a:xfrm>
        </p:grpSpPr>
        <p:cxnSp>
          <p:nvCxnSpPr>
            <p:cNvPr id="145" name="_s2052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276160" y="5041440"/>
              <a:ext cx="726120" cy="252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053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808600" y="1265040"/>
              <a:ext cx="726120" cy="320112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2054"/>
            <p:cNvCxnSpPr>
              <a:stCxn id="147" idx="0"/>
              <a:endCxn id="150" idx="2"/>
            </p:cNvCxnSpPr>
            <p:nvPr/>
          </p:nvCxnSpPr>
          <p:spPr>
            <a:xfrm flipV="1" rot="16200000">
              <a:off x="4741560" y="2332080"/>
              <a:ext cx="726120" cy="106740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2" name="_s2055"/>
            <p:cNvCxnSpPr>
              <a:stCxn id="153" idx="0"/>
              <a:endCxn id="154" idx="2"/>
            </p:cNvCxnSpPr>
            <p:nvPr/>
          </p:nvCxnSpPr>
          <p:spPr>
            <a:xfrm flipV="1">
              <a:off x="1370880" y="4679640"/>
              <a:ext cx="2520" cy="726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2056"/>
            <p:cNvCxnSpPr>
              <a:stCxn id="156" idx="0"/>
              <a:endCxn id="150" idx="2"/>
            </p:cNvCxnSpPr>
            <p:nvPr/>
          </p:nvCxnSpPr>
          <p:spPr>
            <a:xfrm flipH="1" flipV="1" rot="5400000">
              <a:off x="3675240" y="2332440"/>
              <a:ext cx="726120" cy="106704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2057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608200" y="1265400"/>
              <a:ext cx="726120" cy="320076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2058"/>
            <p:cNvSpPr/>
            <p:nvPr/>
          </p:nvSpPr>
          <p:spPr>
            <a:xfrm>
              <a:off x="3657240" y="105264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2059"/>
            <p:cNvSpPr/>
            <p:nvPr/>
          </p:nvSpPr>
          <p:spPr>
            <a:xfrm>
              <a:off x="45720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Д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2060"/>
            <p:cNvSpPr/>
            <p:nvPr/>
          </p:nvSpPr>
          <p:spPr>
            <a:xfrm>
              <a:off x="259056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Информационна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Р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_s2061"/>
            <p:cNvSpPr/>
            <p:nvPr/>
          </p:nvSpPr>
          <p:spPr>
            <a:xfrm>
              <a:off x="457200" y="540576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Хранени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и пердача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Наследственной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информац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2062"/>
            <p:cNvSpPr/>
            <p:nvPr/>
          </p:nvSpPr>
          <p:spPr>
            <a:xfrm>
              <a:off x="472428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Транспортна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Р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2063"/>
            <p:cNvSpPr/>
            <p:nvPr/>
          </p:nvSpPr>
          <p:spPr>
            <a:xfrm>
              <a:off x="685764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Рибосомна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Р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4"/>
            <p:cNvSpPr/>
            <p:nvPr/>
          </p:nvSpPr>
          <p:spPr>
            <a:xfrm>
              <a:off x="4726080" y="5405760"/>
              <a:ext cx="18266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Биосинтез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белка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3564000" y="4725000"/>
              <a:ext cx="1079280" cy="136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9" name="Line 32"/>
          <p:cNvSpPr/>
          <p:nvPr/>
        </p:nvSpPr>
        <p:spPr>
          <a:xfrm flipH="1">
            <a:off x="6588000" y="4724280"/>
            <a:ext cx="1368720" cy="136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Т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ниверсальный источник энер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е адениловый нуклеотид + остатки фосфорной кисл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щеплении остатка фосфорной кислоты освобождается энерг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Ф= АДФ+Ф +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с АТФ постоянно пополн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АТФ1"/>
          <p:cNvPicPr/>
          <p:nvPr/>
        </p:nvPicPr>
        <p:blipFill>
          <a:blip r:embed="rId1"/>
          <a:stretch/>
        </p:blipFill>
        <p:spPr>
          <a:xfrm>
            <a:off x="4351320" y="1700280"/>
            <a:ext cx="4792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положения клеточной теори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организмы (кроме вирусов) имеют клеточное строение, т.е. клетка –структурная и функциональная единица всего жив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клетки имеют единый принцип организации и функционир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етки могут существовать как одноклеточные организмы, но могут входить в состав многоклеточного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новые клетки образуются при делении материнской кле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клетка"/>
          <p:cNvPicPr/>
          <p:nvPr/>
        </p:nvPicPr>
        <p:blipFill>
          <a:blip r:embed="rId1"/>
          <a:stretch/>
        </p:blipFill>
        <p:spPr>
          <a:xfrm>
            <a:off x="4648320" y="1814400"/>
            <a:ext cx="4038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Химическая организация клетк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ементный соста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ологически важные элементы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-98-99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основны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0,1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Z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0,01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Ультрами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Organization Chart 9"/>
          <p:cNvGrpSpPr/>
          <p:nvPr/>
        </p:nvGrpSpPr>
        <p:grpSpPr>
          <a:xfrm>
            <a:off x="457200" y="260280"/>
            <a:ext cx="8229240" cy="6336720"/>
            <a:chOff x="457200" y="260280"/>
            <a:chExt cx="8229240" cy="6336720"/>
          </a:xfrm>
        </p:grpSpPr>
        <p:cxnSp>
          <p:nvCxnSpPr>
            <p:cNvPr id="95" name="_s1028"/>
            <p:cNvCxnSpPr>
              <a:stCxn id="96" idx="1"/>
              <a:endCxn id="97" idx="2"/>
            </p:cNvCxnSpPr>
            <p:nvPr/>
          </p:nvCxnSpPr>
          <p:spPr>
            <a:xfrm rot="10800000">
              <a:off x="5942520" y="2124720"/>
              <a:ext cx="392400" cy="186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1029"/>
            <p:cNvCxnSpPr>
              <a:stCxn id="99" idx="1"/>
              <a:endCxn id="97" idx="2"/>
            </p:cNvCxnSpPr>
            <p:nvPr/>
          </p:nvCxnSpPr>
          <p:spPr>
            <a:xfrm rot="10800000">
              <a:off x="5942520" y="2124720"/>
              <a:ext cx="392400" cy="746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030"/>
            <p:cNvCxnSpPr>
              <a:stCxn id="101" idx="3"/>
              <a:endCxn id="102" idx="2"/>
            </p:cNvCxnSpPr>
            <p:nvPr/>
          </p:nvCxnSpPr>
          <p:spPr>
            <a:xfrm flipV="1">
              <a:off x="2808360" y="2125080"/>
              <a:ext cx="392400" cy="410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1031"/>
            <p:cNvCxnSpPr>
              <a:stCxn id="104" idx="3"/>
              <a:endCxn id="102" idx="2"/>
            </p:cNvCxnSpPr>
            <p:nvPr/>
          </p:nvCxnSpPr>
          <p:spPr>
            <a:xfrm flipV="1">
              <a:off x="2808360" y="2125080"/>
              <a:ext cx="392400" cy="298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032"/>
            <p:cNvCxnSpPr>
              <a:stCxn id="106" idx="3"/>
              <a:endCxn id="102" idx="2"/>
            </p:cNvCxnSpPr>
            <p:nvPr/>
          </p:nvCxnSpPr>
          <p:spPr>
            <a:xfrm flipV="1">
              <a:off x="2808360" y="2124720"/>
              <a:ext cx="392400" cy="186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033"/>
            <p:cNvCxnSpPr>
              <a:stCxn id="108" idx="3"/>
              <a:endCxn id="102" idx="2"/>
            </p:cNvCxnSpPr>
            <p:nvPr/>
          </p:nvCxnSpPr>
          <p:spPr>
            <a:xfrm flipV="1">
              <a:off x="2808360" y="2125080"/>
              <a:ext cx="392400" cy="746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34"/>
            <p:cNvCxnSpPr>
              <a:stCxn id="97" idx="0"/>
              <a:endCxn id="110" idx="2"/>
            </p:cNvCxnSpPr>
            <p:nvPr/>
          </p:nvCxnSpPr>
          <p:spPr>
            <a:xfrm flipV="1" rot="16200000">
              <a:off x="5070240" y="506160"/>
              <a:ext cx="373680" cy="1372320"/>
            </a:xfrm>
            <a:prstGeom prst="bentConnector3">
              <a:avLst>
                <a:gd name="adj1" fmla="val 431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035"/>
            <p:cNvCxnSpPr>
              <a:stCxn id="102" idx="0"/>
              <a:endCxn id="110" idx="2"/>
            </p:cNvCxnSpPr>
            <p:nvPr/>
          </p:nvCxnSpPr>
          <p:spPr>
            <a:xfrm flipH="1" flipV="1" rot="5400000">
              <a:off x="3698640" y="506520"/>
              <a:ext cx="373680" cy="1371960"/>
            </a:xfrm>
            <a:prstGeom prst="bentConnector3">
              <a:avLst>
                <a:gd name="adj1" fmla="val 431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0" name="_s1036"/>
            <p:cNvSpPr/>
            <p:nvPr/>
          </p:nvSpPr>
          <p:spPr>
            <a:xfrm>
              <a:off x="3395880" y="26028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Молекулярный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состав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7"/>
            <p:cNvSpPr/>
            <p:nvPr/>
          </p:nvSpPr>
          <p:spPr>
            <a:xfrm>
              <a:off x="2024640" y="137916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Органически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8"/>
            <p:cNvSpPr/>
            <p:nvPr/>
          </p:nvSpPr>
          <p:spPr>
            <a:xfrm>
              <a:off x="4767480" y="137916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Неорганически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9"/>
            <p:cNvSpPr/>
            <p:nvPr/>
          </p:nvSpPr>
          <p:spPr>
            <a:xfrm>
              <a:off x="457200" y="249840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Липи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40"/>
            <p:cNvSpPr/>
            <p:nvPr/>
          </p:nvSpPr>
          <p:spPr>
            <a:xfrm>
              <a:off x="457200" y="361764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Углево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41"/>
            <p:cNvSpPr/>
            <p:nvPr/>
          </p:nvSpPr>
          <p:spPr>
            <a:xfrm>
              <a:off x="457200" y="4736880"/>
              <a:ext cx="2351160" cy="7434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Белки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42"/>
            <p:cNvSpPr/>
            <p:nvPr/>
          </p:nvSpPr>
          <p:spPr>
            <a:xfrm>
              <a:off x="457200" y="5853600"/>
              <a:ext cx="2351160" cy="7434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Нуклеиновы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кислот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43"/>
            <p:cNvSpPr/>
            <p:nvPr/>
          </p:nvSpPr>
          <p:spPr>
            <a:xfrm>
              <a:off x="6335280" y="249840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Вод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44"/>
            <p:cNvSpPr/>
            <p:nvPr/>
          </p:nvSpPr>
          <p:spPr>
            <a:xfrm>
              <a:off x="6335280" y="361764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ahoma"/>
                </a:rPr>
                <a:t>Минеральные соли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ы в клетках около 70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красный раствор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а для протекания химических реакций (гидроли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остабилизатор и терморегуля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ает упругость и объем клетке (тург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ая фун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вода"/>
          <p:cNvPicPr/>
          <p:nvPr/>
        </p:nvPicPr>
        <p:blipFill>
          <a:blip r:embed="rId1"/>
          <a:stretch/>
        </p:blipFill>
        <p:spPr>
          <a:xfrm>
            <a:off x="5651640" y="1628640"/>
            <a:ext cx="327816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еральные со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ы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ы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ы обеспечивают свойство раздраж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ы поддерживают постоянство внутренней среды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глеводы-биополим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осахариды – простые сахара: глюкоза, фруктоза, рибоза, дезоксириб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ахариды: сахароза, маль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исахариды: крахмал, гликоген, целлюлоза, хит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углеводы 1"/>
          <p:cNvPicPr/>
          <p:nvPr/>
        </p:nvPicPr>
        <p:blipFill>
          <a:blip r:embed="rId1"/>
          <a:stretch/>
        </p:blipFill>
        <p:spPr>
          <a:xfrm>
            <a:off x="5302080" y="1600200"/>
            <a:ext cx="2730600" cy="2171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олисахариды"/>
          <p:cNvPicPr/>
          <p:nvPr/>
        </p:nvPicPr>
        <p:blipFill>
          <a:blip r:embed="rId2"/>
          <a:stretch/>
        </p:blipFill>
        <p:spPr>
          <a:xfrm>
            <a:off x="4284720" y="4221000"/>
            <a:ext cx="44672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ункции углевод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нергетическая (1 г - 17,6 кДж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ная (есть во всех тканях и органах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асающая (у растений крахмал, у животных гликоге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ная (вязкие секреты и слизи, например стенки кишечни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цепторная(клетки одного вида узнают друг друг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пиды (жиры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меры: глицерин и высшие карбоновые кисл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нергетическая (1 г - 38,9 кД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сающая (жировая клетчат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ная (от переохлажд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чник метаболической воды (жители пустын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яторная (липиды-гормоны, например половы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уктурная (фосфолипиды - основа клет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жиры"/>
          <p:cNvPicPr/>
          <p:nvPr/>
        </p:nvPicPr>
        <p:blipFill>
          <a:blip r:embed="rId1"/>
          <a:stretch/>
        </p:blipFill>
        <p:spPr>
          <a:xfrm>
            <a:off x="6012000" y="414972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жиры 1"/>
          <p:cNvPicPr/>
          <p:nvPr/>
        </p:nvPicPr>
        <p:blipFill>
          <a:blip r:embed="rId2"/>
          <a:stretch/>
        </p:blipFill>
        <p:spPr>
          <a:xfrm>
            <a:off x="179280" y="4149720"/>
            <a:ext cx="20098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морж"/>
          <p:cNvPicPr/>
          <p:nvPr/>
        </p:nvPicPr>
        <p:blipFill>
          <a:blip r:embed="rId3"/>
          <a:stretch/>
        </p:blipFill>
        <p:spPr>
          <a:xfrm>
            <a:off x="2627280" y="41497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9:03Z</dcterms:created>
  <dc:creator>Даша</dc:creator>
  <dc:description/>
  <dc:language>en-US</dc:language>
  <cp:lastModifiedBy>Пользователь</cp:lastModifiedBy>
  <dcterms:modified xsi:type="dcterms:W3CDTF">2021-09-17T06:48:33Z</dcterms:modified>
  <cp:revision>47</cp:revision>
  <dc:subject/>
  <dc:title>Клеточная теория.  Химическая организация клетки.</dc:title>
</cp:coreProperties>
</file>