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729-4ECE-4F68-9ED9-450E055C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FC2-E7B9-44B9-86CB-CFE9A96A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5F7-74B3-404C-B518-0F1B2172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DFE-CB52-4559-B0FA-8C019581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E20B-4899-4630-A572-01CAD015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AB71-0B0A-4E71-8E07-08C3EB76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9BD2-4425-4F90-BBA6-9AFC517A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1D10-6D1E-4039-A652-2E32AC96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51D0-EA8C-4AE2-A56A-3BA656E6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0D37-BD7E-4788-BEAB-C95B06FC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42C8-FD8E-4EDA-9FB8-87BE0CA7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BDD-F559-487B-B0A8-D643C9CA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56B2-22C6-41DD-9E04-7C76F948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44ED-45C9-4EBE-8395-93DC4A8B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F90D-5C97-4908-B0F3-7CC24431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1B91-391F-4982-A335-EA5A7908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CDA5-5FC6-429D-B875-53C07317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254-A20C-471E-A32D-E4BC5BB0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ED0-EE06-4F0C-841A-D9ECE867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336-3293-4E3B-91FD-04EC444F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D58-74A7-4E5C-A50D-08DE30E0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230-4B0A-4D24-920B-9070764E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9C7-E96A-4149-A567-71F1A544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8FE-CD85-4919-BEC9-297B6A02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E322-3865-40CE-B4A3-0410F3FAF0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8550-FC67-4319-B64E-5C207F8FFF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Клеточная теория.  Химическая организация клетк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елки-биополиме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омеры-аминокисл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го аминокислот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образуют между собой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ептидную связ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а вещества называю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липептида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6" descr="белок 1"/>
          <p:cNvPicPr/>
          <p:nvPr/>
        </p:nvPicPr>
        <p:blipFill>
          <a:blip r:embed="rId1"/>
          <a:stretch/>
        </p:blipFill>
        <p:spPr>
          <a:xfrm>
            <a:off x="4648320" y="2035080"/>
            <a:ext cx="403848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труктура бел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ервична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оследовательность аминокислот (пептидные свя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торичн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ервичная структура свернутая спиралью (водородные свя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Третичн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сворачивание спирали в глобулу (связи ионные, гидрофобные, дисульфидны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Четвертич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енатурация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теря белком всех структур до первич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6" descr="белок"/>
          <p:cNvPicPr/>
          <p:nvPr/>
        </p:nvPicPr>
        <p:blipFill>
          <a:blip r:embed="rId1"/>
          <a:stretch/>
        </p:blipFill>
        <p:spPr>
          <a:xfrm>
            <a:off x="4500720" y="1700280"/>
            <a:ext cx="44956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ункции бел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516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укту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рментативная (увеличивают скорость реакций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яторная (гормоны – инсул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щитная(антитела, иммунитет, токсин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кратительная или двигате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портная (гемоглобин кро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нерге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качки"/>
          <p:cNvPicPr/>
          <p:nvPr/>
        </p:nvPicPr>
        <p:blipFill>
          <a:blip r:embed="rId1"/>
          <a:stretch/>
        </p:blipFill>
        <p:spPr>
          <a:xfrm>
            <a:off x="6372360" y="2205000"/>
            <a:ext cx="2674800" cy="3529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мышца"/>
          <p:cNvPicPr/>
          <p:nvPr/>
        </p:nvPicPr>
        <p:blipFill>
          <a:blip r:embed="rId2"/>
          <a:stretch/>
        </p:blipFill>
        <p:spPr>
          <a:xfrm>
            <a:off x="0" y="4640400"/>
            <a:ext cx="3119400" cy="2217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фагоцит"/>
          <p:cNvPicPr/>
          <p:nvPr/>
        </p:nvPicPr>
        <p:blipFill>
          <a:blip r:embed="rId3"/>
          <a:stretch/>
        </p:blipFill>
        <p:spPr>
          <a:xfrm>
            <a:off x="3203640" y="3645000"/>
            <a:ext cx="30477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уклеиновые кислот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572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НК  (две цепи) и РНК (одна цеп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номеры - нуклеот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уклеоти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хар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зотистое основани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таток Н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хара: рибоза или дезоксириб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ания: аденин, гуанин, цитозин, тимин (ДНК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ания: аденин, гуанин, цитозин, урацил (РНК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ания располагаю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омплиментарн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руг друг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-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-Ц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!!!! А-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е вторую нить ДНК, если участок первой имеет структуру: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Г Т-ГАТ- Т Т Т- Г Т Т- Т Г 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ДНК"/>
          <p:cNvPicPr/>
          <p:nvPr/>
        </p:nvPicPr>
        <p:blipFill>
          <a:blip r:embed="rId1"/>
          <a:stretch/>
        </p:blipFill>
        <p:spPr>
          <a:xfrm>
            <a:off x="5796000" y="134136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Untitled-1"/>
          <p:cNvPicPr/>
          <p:nvPr/>
        </p:nvPicPr>
        <p:blipFill>
          <a:blip r:embed="rId2"/>
          <a:stretch/>
        </p:blipFill>
        <p:spPr>
          <a:xfrm>
            <a:off x="5724360" y="4219560"/>
            <a:ext cx="34419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ункции Н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4" name="Organization Chart 7"/>
          <p:cNvGrpSpPr/>
          <p:nvPr/>
        </p:nvGrpSpPr>
        <p:grpSpPr>
          <a:xfrm>
            <a:off x="457200" y="1052640"/>
            <a:ext cx="8228880" cy="5803920"/>
            <a:chOff x="457200" y="1052640"/>
            <a:chExt cx="8228880" cy="5803920"/>
          </a:xfrm>
        </p:grpSpPr>
        <p:cxnSp>
          <p:nvCxnSpPr>
            <p:cNvPr id="145" name="_s2052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5276160" y="5041440"/>
              <a:ext cx="726120" cy="252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2053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808600" y="1265040"/>
              <a:ext cx="726120" cy="320112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2054"/>
            <p:cNvCxnSpPr>
              <a:stCxn id="147" idx="0"/>
              <a:endCxn id="150" idx="2"/>
            </p:cNvCxnSpPr>
            <p:nvPr/>
          </p:nvCxnSpPr>
          <p:spPr>
            <a:xfrm flipV="1" rot="16200000">
              <a:off x="4741560" y="2332080"/>
              <a:ext cx="726120" cy="106740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2" name="_s2055"/>
            <p:cNvCxnSpPr>
              <a:stCxn id="153" idx="0"/>
              <a:endCxn id="154" idx="2"/>
            </p:cNvCxnSpPr>
            <p:nvPr/>
          </p:nvCxnSpPr>
          <p:spPr>
            <a:xfrm flipV="1">
              <a:off x="1370880" y="4679640"/>
              <a:ext cx="2520" cy="726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2056"/>
            <p:cNvCxnSpPr>
              <a:stCxn id="156" idx="0"/>
              <a:endCxn id="150" idx="2"/>
            </p:cNvCxnSpPr>
            <p:nvPr/>
          </p:nvCxnSpPr>
          <p:spPr>
            <a:xfrm flipH="1" flipV="1" rot="5400000">
              <a:off x="3675240" y="2332440"/>
              <a:ext cx="726120" cy="106704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2057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2608200" y="1265400"/>
              <a:ext cx="726120" cy="320076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2058"/>
            <p:cNvSpPr/>
            <p:nvPr/>
          </p:nvSpPr>
          <p:spPr>
            <a:xfrm>
              <a:off x="3657240" y="105264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_s2059"/>
            <p:cNvSpPr/>
            <p:nvPr/>
          </p:nvSpPr>
          <p:spPr>
            <a:xfrm>
              <a:off x="457200" y="322920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Д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_s2060"/>
            <p:cNvSpPr/>
            <p:nvPr/>
          </p:nvSpPr>
          <p:spPr>
            <a:xfrm>
              <a:off x="2590560" y="322920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Информационная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Р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_s2061"/>
            <p:cNvSpPr/>
            <p:nvPr/>
          </p:nvSpPr>
          <p:spPr>
            <a:xfrm>
              <a:off x="457200" y="540576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Хранение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и пердача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Наследственной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информации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2062"/>
            <p:cNvSpPr/>
            <p:nvPr/>
          </p:nvSpPr>
          <p:spPr>
            <a:xfrm>
              <a:off x="4724280" y="322920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Транспортная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Р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_s2063"/>
            <p:cNvSpPr/>
            <p:nvPr/>
          </p:nvSpPr>
          <p:spPr>
            <a:xfrm>
              <a:off x="6857640" y="322920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Рибосомная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Р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4"/>
            <p:cNvSpPr/>
            <p:nvPr/>
          </p:nvSpPr>
          <p:spPr>
            <a:xfrm>
              <a:off x="4726080" y="5405760"/>
              <a:ext cx="18266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Биосинтез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белка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3564000" y="4725000"/>
              <a:ext cx="1079280" cy="136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9" name="Line 32"/>
          <p:cNvSpPr/>
          <p:nvPr/>
        </p:nvSpPr>
        <p:spPr>
          <a:xfrm flipH="1">
            <a:off x="6588000" y="4724280"/>
            <a:ext cx="1368720" cy="136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Т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ниверсальный источник энер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ставе адениловый нуклеотид + остатки фосфорной кисл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тщеплении остатка фосфорной кислоты освобождается энерг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Ф= АДФ+Ф +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с АТФ постоянно пополн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АТФ1"/>
          <p:cNvPicPr/>
          <p:nvPr/>
        </p:nvPicPr>
        <p:blipFill>
          <a:blip r:embed="rId1"/>
          <a:stretch/>
        </p:blipFill>
        <p:spPr>
          <a:xfrm>
            <a:off x="4351320" y="1700280"/>
            <a:ext cx="4792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ые положения клеточной теори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организмы (кроме вирусов) имеют клеточное строение, т.е. клетка –структурная и функциональная единица всего жив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клетки имеют единый принцип организации и функционир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етки могут существовать как одноклеточные организмы, но могут входить в состав многоклеточного орган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новые клетки образуются при делении материнской кле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клетка"/>
          <p:cNvPicPr/>
          <p:nvPr/>
        </p:nvPicPr>
        <p:blipFill>
          <a:blip r:embed="rId1"/>
          <a:stretch/>
        </p:blipFill>
        <p:spPr>
          <a:xfrm>
            <a:off x="4648320" y="1814400"/>
            <a:ext cx="4038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Химическая организация клетк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лементный соста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иологически важные элементы 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акроэлемен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-98-99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основны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0,1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икроэлемен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Z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0,01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Ультрамикроэлемен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Organization Chart 9"/>
          <p:cNvGrpSpPr/>
          <p:nvPr/>
        </p:nvGrpSpPr>
        <p:grpSpPr>
          <a:xfrm>
            <a:off x="457200" y="260280"/>
            <a:ext cx="8229240" cy="6336720"/>
            <a:chOff x="457200" y="260280"/>
            <a:chExt cx="8229240" cy="6336720"/>
          </a:xfrm>
        </p:grpSpPr>
        <p:cxnSp>
          <p:nvCxnSpPr>
            <p:cNvPr id="95" name="_s1028"/>
            <p:cNvCxnSpPr>
              <a:stCxn id="96" idx="1"/>
              <a:endCxn id="97" idx="2"/>
            </p:cNvCxnSpPr>
            <p:nvPr/>
          </p:nvCxnSpPr>
          <p:spPr>
            <a:xfrm rot="10800000">
              <a:off x="5942520" y="2124720"/>
              <a:ext cx="392400" cy="1868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1029"/>
            <p:cNvCxnSpPr>
              <a:stCxn id="99" idx="1"/>
              <a:endCxn id="97" idx="2"/>
            </p:cNvCxnSpPr>
            <p:nvPr/>
          </p:nvCxnSpPr>
          <p:spPr>
            <a:xfrm rot="10800000">
              <a:off x="5942520" y="2124720"/>
              <a:ext cx="392400" cy="746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030"/>
            <p:cNvCxnSpPr>
              <a:stCxn id="101" idx="3"/>
              <a:endCxn id="102" idx="2"/>
            </p:cNvCxnSpPr>
            <p:nvPr/>
          </p:nvCxnSpPr>
          <p:spPr>
            <a:xfrm flipV="1">
              <a:off x="2808360" y="2125080"/>
              <a:ext cx="392400" cy="410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1031"/>
            <p:cNvCxnSpPr>
              <a:stCxn id="104" idx="3"/>
              <a:endCxn id="102" idx="2"/>
            </p:cNvCxnSpPr>
            <p:nvPr/>
          </p:nvCxnSpPr>
          <p:spPr>
            <a:xfrm flipV="1">
              <a:off x="2808360" y="2125080"/>
              <a:ext cx="392400" cy="298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032"/>
            <p:cNvCxnSpPr>
              <a:stCxn id="106" idx="3"/>
              <a:endCxn id="102" idx="2"/>
            </p:cNvCxnSpPr>
            <p:nvPr/>
          </p:nvCxnSpPr>
          <p:spPr>
            <a:xfrm flipV="1">
              <a:off x="2808360" y="2124720"/>
              <a:ext cx="392400" cy="1868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1033"/>
            <p:cNvCxnSpPr>
              <a:stCxn id="108" idx="3"/>
              <a:endCxn id="102" idx="2"/>
            </p:cNvCxnSpPr>
            <p:nvPr/>
          </p:nvCxnSpPr>
          <p:spPr>
            <a:xfrm flipV="1">
              <a:off x="2808360" y="2125080"/>
              <a:ext cx="392400" cy="746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034"/>
            <p:cNvCxnSpPr>
              <a:stCxn id="97" idx="0"/>
              <a:endCxn id="110" idx="2"/>
            </p:cNvCxnSpPr>
            <p:nvPr/>
          </p:nvCxnSpPr>
          <p:spPr>
            <a:xfrm flipV="1" rot="16200000">
              <a:off x="5070240" y="506160"/>
              <a:ext cx="373680" cy="1372320"/>
            </a:xfrm>
            <a:prstGeom prst="bentConnector3">
              <a:avLst>
                <a:gd name="adj1" fmla="val 431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035"/>
            <p:cNvCxnSpPr>
              <a:stCxn id="102" idx="0"/>
              <a:endCxn id="110" idx="2"/>
            </p:cNvCxnSpPr>
            <p:nvPr/>
          </p:nvCxnSpPr>
          <p:spPr>
            <a:xfrm flipH="1" flipV="1" rot="5400000">
              <a:off x="3698640" y="506520"/>
              <a:ext cx="373680" cy="1371960"/>
            </a:xfrm>
            <a:prstGeom prst="bentConnector3">
              <a:avLst>
                <a:gd name="adj1" fmla="val 431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0" name="_s1036"/>
            <p:cNvSpPr/>
            <p:nvPr/>
          </p:nvSpPr>
          <p:spPr>
            <a:xfrm>
              <a:off x="3395880" y="26028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Молекулярный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состав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7"/>
            <p:cNvSpPr/>
            <p:nvPr/>
          </p:nvSpPr>
          <p:spPr>
            <a:xfrm>
              <a:off x="2024640" y="137916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Органические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веществ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8"/>
            <p:cNvSpPr/>
            <p:nvPr/>
          </p:nvSpPr>
          <p:spPr>
            <a:xfrm>
              <a:off x="4767480" y="137916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Неорганические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веществ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9"/>
            <p:cNvSpPr/>
            <p:nvPr/>
          </p:nvSpPr>
          <p:spPr>
            <a:xfrm>
              <a:off x="457200" y="249840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Липид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40"/>
            <p:cNvSpPr/>
            <p:nvPr/>
          </p:nvSpPr>
          <p:spPr>
            <a:xfrm>
              <a:off x="457200" y="361764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Углевод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41"/>
            <p:cNvSpPr/>
            <p:nvPr/>
          </p:nvSpPr>
          <p:spPr>
            <a:xfrm>
              <a:off x="457200" y="4736880"/>
              <a:ext cx="2351160" cy="7434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Белки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42"/>
            <p:cNvSpPr/>
            <p:nvPr/>
          </p:nvSpPr>
          <p:spPr>
            <a:xfrm>
              <a:off x="457200" y="5853600"/>
              <a:ext cx="2351160" cy="7434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Нуклеиновые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кислот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43"/>
            <p:cNvSpPr/>
            <p:nvPr/>
          </p:nvSpPr>
          <p:spPr>
            <a:xfrm>
              <a:off x="6335280" y="249840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Вод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44"/>
            <p:cNvSpPr/>
            <p:nvPr/>
          </p:nvSpPr>
          <p:spPr>
            <a:xfrm>
              <a:off x="6335280" y="361764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ahoma"/>
                </a:rPr>
                <a:t>Минеральные соли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ы в клетках около 70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красный раствор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а для протекания химических реакций (гидролиз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остабилизатор и терморегуля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ает упругость и объем клетке (тург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портная функ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вода"/>
          <p:cNvPicPr/>
          <p:nvPr/>
        </p:nvPicPr>
        <p:blipFill>
          <a:blip r:embed="rId1"/>
          <a:stretch/>
        </p:blipFill>
        <p:spPr>
          <a:xfrm>
            <a:off x="5651640" y="1628640"/>
            <a:ext cx="327816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инеральные со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ы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ы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ы обеспечивают свойство раздраж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ы поддерживают постоянство внутренней среды кле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глеводы-биополиме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осахариды – простые сахара: глюкоза, фруктоза, рибоза, дезоксириб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ахариды: сахароза, мальт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исахариды: крахмал, гликоген, целлюлоза, хит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углеводы 1"/>
          <p:cNvPicPr/>
          <p:nvPr/>
        </p:nvPicPr>
        <p:blipFill>
          <a:blip r:embed="rId1"/>
          <a:stretch/>
        </p:blipFill>
        <p:spPr>
          <a:xfrm>
            <a:off x="5302080" y="1600200"/>
            <a:ext cx="2730600" cy="2171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полисахариды"/>
          <p:cNvPicPr/>
          <p:nvPr/>
        </p:nvPicPr>
        <p:blipFill>
          <a:blip r:embed="rId2"/>
          <a:stretch/>
        </p:blipFill>
        <p:spPr>
          <a:xfrm>
            <a:off x="4284720" y="4221000"/>
            <a:ext cx="446724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ункции углевод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нергетическая (1 г - 17,6 кДж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ктурная (есть во всех тканях и органах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асающая (у растений крахмал, у животных гликоге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тная (вязкие секреты и слизи, например стенки кишечни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цепторная(клетки одного вида узнают друг друг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пиды (жиры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меры: глицерин и высшие карбоновые кисл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нергетическая (1 г - 38,9 кД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сающая (жировая клетчат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щитная (от переохлажд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чник метаболической воды (жители пустын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яторная (липиды-гормоны, например половы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уктурная (фосфолипиды - основа клето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жиры"/>
          <p:cNvPicPr/>
          <p:nvPr/>
        </p:nvPicPr>
        <p:blipFill>
          <a:blip r:embed="rId1"/>
          <a:stretch/>
        </p:blipFill>
        <p:spPr>
          <a:xfrm>
            <a:off x="6012000" y="414972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жиры 1"/>
          <p:cNvPicPr/>
          <p:nvPr/>
        </p:nvPicPr>
        <p:blipFill>
          <a:blip r:embed="rId2"/>
          <a:stretch/>
        </p:blipFill>
        <p:spPr>
          <a:xfrm>
            <a:off x="179280" y="4149720"/>
            <a:ext cx="20098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морж"/>
          <p:cNvPicPr/>
          <p:nvPr/>
        </p:nvPicPr>
        <p:blipFill>
          <a:blip r:embed="rId3"/>
          <a:stretch/>
        </p:blipFill>
        <p:spPr>
          <a:xfrm>
            <a:off x="2627280" y="414972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39:03Z</dcterms:created>
  <dc:creator>Даша</dc:creator>
  <dc:description/>
  <dc:language>en-US</dc:language>
  <cp:lastModifiedBy>Пользователь</cp:lastModifiedBy>
  <dcterms:modified xsi:type="dcterms:W3CDTF">2021-09-17T06:48:33Z</dcterms:modified>
  <cp:revision>47</cp:revision>
  <dc:subject/>
  <dc:title>Клеточная теория.  Химическая организация клетки.</dc:title>
</cp:coreProperties>
</file>