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5883A-B7F8-4F46-8E00-B27C30AA3DE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74694-83A8-48F9-9921-02C39CDF36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446F-7847-4D32-BCB7-433C00604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CAAF-D9AE-4C92-A18D-56F83CCFB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D6A7-B9BA-421D-B21A-13E725997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EE60-4750-4163-AA8E-EAF7015E5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7780C-5C4F-47FD-AA45-467EBD491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F1B36-D457-4EFD-8084-3E9AF5C94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A46F9-DCC8-4820-B4ED-5EB25D9D5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27713-D775-4895-AA9B-DD0F2BC10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C88B4-E882-4DF5-884A-592FD42E7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C034E-0C22-4486-BB35-B1C766AB0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D271D-EA9C-404E-9851-1DE0FE89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BDFD-F9CA-479D-82FF-A8A53EF28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79E23-3247-4A71-99C5-D627B7B9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975B5-271A-405A-964F-2B61BEBB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70B47-ED46-4C26-A6CE-F801A2971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A2A40-7274-4063-990D-D5A2E9A28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1A006-899D-4849-B6ED-4B30D2328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A4136-EBAA-4319-B6AD-9F94CE627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E550A-63D5-4FC0-8E51-DE0B22298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63B3B-9D3E-4614-B978-553D273E3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E7499-55E2-4E5A-B41A-B6AD7875C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59D92-7B33-4722-A065-9DB8D5892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FE96-74B3-47C1-93F6-CDD2FC7C9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3DCE2-CAFD-4D29-81A9-8E3FC83E7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BA7F7-240D-4D4D-A70C-ABCF71CC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EB3F9-CCC3-4605-B677-84BC2638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DEF8D-8D26-486A-9A31-0426036A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25F1B-66B1-43BE-9621-076597380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DA2CB-7515-41A1-B2BA-0A4E15A01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EE1AE-DAD3-4766-8E85-C881DB593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F2737-2734-4766-98F6-E6376F9A6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E601A-7813-467F-A129-F1181DDD4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973A8-C18E-43AA-8A9F-EEF3949AA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EFE2-BD0E-432E-BABA-0EA1CB2BB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62B8A-FA28-497C-82BB-8EBC6B673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51B2A-5F98-4C98-8E0D-F837FF756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15D24-7E6E-43D0-A616-4E947E40F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9C211-91A1-460C-8A41-317FC481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0C980-7BE0-4482-890A-BD6F66B8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77871-6A46-45E0-BB77-B2F7837C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C63A3-BB23-4AC6-86EB-AD70EAD46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D305D-8851-4351-9B7B-15B663E6F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5BE6E-01C0-4BDC-8DF6-1656704D9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A8B3-A8F6-4560-A745-055EA9CD4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AE55-BD68-46F7-A22C-6DFEAC66A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1316-5A7A-4C96-9C58-423638A8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78F2-2275-4918-B68F-E07A3FAB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4985-4162-4C34-9BF1-20C08007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AF3F0-3E80-4A04-BC2E-0703869AD01A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69484-356B-4040-A2A2-82C86C6F7DA5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54F2D-4677-49EC-8A7D-ACB6809FF87B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8C1BA-2980-435E-9539-5C058BBF2BAF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708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rebuchet MS"/>
              </a:rPr>
              <a:t>Клавиши на клавиатуре</a:t>
            </a:r>
            <a:r>
              <a:rPr b="0" lang="ru-RU" sz="4800" spc="-1" strike="noStrike">
                <a:solidFill>
                  <a:srgbClr val="90c226"/>
                </a:solidFill>
                <a:latin typeface="Trebuchet MS"/>
              </a:rPr>
              <a:t>. </a:t>
            </a:r>
            <a:br>
              <a:rPr sz="5400"/>
            </a:b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0" name="Picture 7" descr="AG00154_"/>
          <p:cNvPicPr/>
          <p:nvPr/>
        </p:nvPicPr>
        <p:blipFill>
          <a:blip r:embed="rId1"/>
          <a:stretch/>
        </p:blipFill>
        <p:spPr>
          <a:xfrm>
            <a:off x="395280" y="333360"/>
            <a:ext cx="2160720" cy="19018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50920" y="163080"/>
            <a:ext cx="763416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лавиатур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устройство для ввода алфавитно-цифровой информации в компьютер.</a:t>
            </a:r>
            <a:br>
              <a:rPr sz="2800"/>
            </a:b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50920" y="1484280"/>
            <a:ext cx="7850160" cy="45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Структурная клавиатура имеет более100 клавиш. Для удобства использования клавиши объединены в несколько групп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1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руппа алфавитно-цифровых клавиш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 Группа функциональных клавиш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 Клавиши управления курсором (курсорные клавиши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4 Группа дополнительных цифровых клавиш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5 Клавиша с эмблемо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indow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6 Клавиша с изображением меню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strips dir="r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3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3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3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3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3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3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30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30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Группа алфавитно-цифровых клавиш.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971640" y="1893600"/>
            <a:ext cx="634824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лужит для ввода чисел, букв и знаков препинания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5" name="Picture 5" descr="P1010001"/>
          <p:cNvPicPr/>
          <p:nvPr/>
        </p:nvPicPr>
        <p:blipFill>
          <a:blip r:embed="rId1"/>
          <a:srcRect l="-1849" t="14995" r="0" b="29990"/>
          <a:stretch/>
        </p:blipFill>
        <p:spPr>
          <a:xfrm>
            <a:off x="952560" y="3429000"/>
            <a:ext cx="6840360" cy="276552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7"/>
          <p:cNvSpPr/>
          <p:nvPr/>
        </p:nvSpPr>
        <p:spPr>
          <a:xfrm rot="10800000">
            <a:off x="1294920" y="4292640"/>
            <a:ext cx="4356360" cy="151272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Группа функциональных клавиш.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71516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Группу функциональных клавиш составляют клавиши от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F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1 до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F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12. Действие этих клавиш зависит от того, какая программа загружена в компьютер. В большинстве программ клавиша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F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1 используется для получения подсказки. Клавиша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F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10 традиционно используется для перехода в строку меню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9" name="Picture 6" descr="P1010001"/>
          <p:cNvPicPr/>
          <p:nvPr/>
        </p:nvPicPr>
        <p:blipFill>
          <a:blip r:embed="rId1"/>
          <a:srcRect l="-1851" t="14994" r="0" b="29988"/>
          <a:stretch/>
        </p:blipFill>
        <p:spPr>
          <a:xfrm>
            <a:off x="1042920" y="4149720"/>
            <a:ext cx="6121440" cy="230508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7"/>
          <p:cNvSpPr/>
          <p:nvPr/>
        </p:nvSpPr>
        <p:spPr>
          <a:xfrm rot="10800000">
            <a:off x="1834920" y="4508280"/>
            <a:ext cx="3384360" cy="36036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" dur="5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Клавиши управления курсором (курсорные клавиши)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61320" cy="26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Это четыре клавиши со стрелками , указывающими влево, вверх, вправо и вниз. С их помощью происходит управление курсором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3" name="Picture 6" descr="P1010001"/>
          <p:cNvPicPr/>
          <p:nvPr/>
        </p:nvPicPr>
        <p:blipFill>
          <a:blip r:embed="rId1"/>
          <a:srcRect l="-1849" t="14995" r="0" b="29990"/>
          <a:stretch/>
        </p:blipFill>
        <p:spPr>
          <a:xfrm>
            <a:off x="900000" y="3440160"/>
            <a:ext cx="7056720" cy="276552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  <p:sp>
        <p:nvSpPr>
          <p:cNvPr id="234" name="Rectangle 7"/>
          <p:cNvSpPr/>
          <p:nvPr/>
        </p:nvSpPr>
        <p:spPr>
          <a:xfrm>
            <a:off x="5724360" y="5229360"/>
            <a:ext cx="863640" cy="64764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Группа дополнительных цифровых клавиш.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88240" cy="21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Используется в некоторых программах для ввода чисел. Нередко для того чтобы пользоваться этими клавишами, надо предварительно включить специальную клавишу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NUM LOCK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. В компьютерных играх клавиши этой панели могут использоваться вместо курсорных клавиш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7" name="Picture 9" descr="P1010001"/>
          <p:cNvPicPr/>
          <p:nvPr/>
        </p:nvPicPr>
        <p:blipFill>
          <a:blip r:embed="rId1"/>
          <a:srcRect l="-1853" t="14994" r="0" b="29988"/>
          <a:stretch/>
        </p:blipFill>
        <p:spPr>
          <a:xfrm>
            <a:off x="1116000" y="4005360"/>
            <a:ext cx="6192720" cy="244800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10"/>
          <p:cNvSpPr/>
          <p:nvPr/>
        </p:nvSpPr>
        <p:spPr>
          <a:xfrm>
            <a:off x="6084720" y="4869000"/>
            <a:ext cx="1079640" cy="136836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2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492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Клавиша с эмблемой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ndow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49000" y="1701360"/>
            <a:ext cx="7977240" cy="11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Позволяет открыть Главное меню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1" name="Picture 6" descr="P1010001"/>
          <p:cNvPicPr/>
          <p:nvPr/>
        </p:nvPicPr>
        <p:blipFill>
          <a:blip r:embed="rId1"/>
          <a:srcRect l="-1855" t="14994" r="0" b="29989"/>
          <a:stretch/>
        </p:blipFill>
        <p:spPr>
          <a:xfrm>
            <a:off x="609480" y="2424240"/>
            <a:ext cx="7925040" cy="3522600"/>
          </a:xfrm>
          <a:prstGeom prst="rect">
            <a:avLst/>
          </a:prstGeom>
          <a:ln w="0">
            <a:noFill/>
          </a:ln>
        </p:spPr>
      </p:pic>
      <p:sp>
        <p:nvSpPr>
          <p:cNvPr id="242" name="Oval 7"/>
          <p:cNvSpPr/>
          <p:nvPr/>
        </p:nvSpPr>
        <p:spPr>
          <a:xfrm>
            <a:off x="1332000" y="4869000"/>
            <a:ext cx="504720" cy="43164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8"/>
          <p:cNvSpPr/>
          <p:nvPr/>
        </p:nvSpPr>
        <p:spPr>
          <a:xfrm>
            <a:off x="4643280" y="4941720"/>
            <a:ext cx="505080" cy="43200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55280" y="3139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Клавиша с изображением меню.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84360" y="1617480"/>
            <a:ext cx="634680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Открывает контекстное меню того объекта, с которым в настоящее время выполняется работа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6" name="Picture 5" descr="P1010001"/>
          <p:cNvPicPr/>
          <p:nvPr/>
        </p:nvPicPr>
        <p:blipFill>
          <a:blip r:embed="rId1"/>
          <a:srcRect l="-1852" t="14997" r="0" b="29987"/>
          <a:stretch/>
        </p:blipFill>
        <p:spPr>
          <a:xfrm>
            <a:off x="468360" y="3213000"/>
            <a:ext cx="7991280" cy="3168720"/>
          </a:xfrm>
          <a:prstGeom prst="rect">
            <a:avLst/>
          </a:prstGeom>
          <a:ln w="0">
            <a:noFill/>
          </a:ln>
        </p:spPr>
      </p:pic>
      <p:sp>
        <p:nvSpPr>
          <p:cNvPr id="247" name="Oval 6"/>
          <p:cNvSpPr/>
          <p:nvPr/>
        </p:nvSpPr>
        <p:spPr>
          <a:xfrm>
            <a:off x="5003640" y="5516640"/>
            <a:ext cx="432000" cy="43164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8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Регистровые клавиши.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9" name="Рисунок 2" descr=""/>
          <p:cNvPicPr/>
          <p:nvPr/>
        </p:nvPicPr>
        <p:blipFill>
          <a:blip r:embed="rId1"/>
          <a:srcRect l="0" t="12209" r="0" b="13227"/>
          <a:stretch/>
        </p:blipFill>
        <p:spPr>
          <a:xfrm>
            <a:off x="23760" y="1052640"/>
            <a:ext cx="9120240" cy="51004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95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10:50:51Z</dcterms:created>
  <dc:creator>User</dc:creator>
  <dc:description/>
  <dc:language>en-US</dc:language>
  <cp:lastModifiedBy>Ирина</cp:lastModifiedBy>
  <dcterms:modified xsi:type="dcterms:W3CDTF">2021-10-19T12:28:23Z</dcterms:modified>
  <cp:revision>42</cp:revision>
  <dc:subject/>
  <dc:title>Клавиатура</dc:title>
</cp:coreProperties>
</file>