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15CF-47ED-446A-8E0F-A0DA13067D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398-16E8-48CD-8628-0E9427104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813-8E85-4812-A598-E7FCEFCD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313-87CA-4A97-9244-6F216F80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4E6-3BD0-4886-AC84-C8A435D5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5A5-4C0D-4D11-AA19-F7934390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E333-A527-42D2-8995-24AC9CFA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CB0E-6E91-4FB7-82BD-65A611B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57F8-7A79-458B-B285-AAF4323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A4F1-3101-4322-BB4D-870184F9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1E98-B841-44DC-8AC9-D26BCF23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10FB-DFC1-4AB3-88B7-6D09D1CB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1FC-034F-4FDF-B65E-2782924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A06-061A-4DBE-92C3-150EDAA4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AF26-9E95-4698-818B-06BF2EC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FC51-668E-4B97-8CD2-84C4F7D0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15E9-09A3-4A0B-BE65-FB15CFC1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1485-D9DF-431A-A498-B5A435A2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6E02-FD86-4578-9A5A-BCF0B203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D150-4A3B-4B19-8B81-6C84FF6D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22B6-6FA0-473F-A8DD-B750BD4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388E-5FEB-47A9-8406-C7020FB0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7B2C-522A-4D8D-9D98-B7CFCB33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71B2-2573-4393-8273-F68D1F26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EF1-221F-4F01-A0B4-8749BE48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94F7-4540-41E6-A494-DE78E88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3D81-AF73-4AEA-97DC-0AA6A702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D199-7261-452D-85EA-A53B7203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D3D6-1A32-431B-BE5E-0CBE565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9F44-DC87-4673-AEA5-D0A366F0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1A52-F718-4338-8CEE-BBE44A93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5740-8809-4F7E-AA32-D22B6EA3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EE39-EDFA-4EBE-85B3-40C80604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6A90-AB98-47D5-A1F7-9014DC69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7227-3199-4651-B22B-4631927B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C32-5BFC-41A2-8CA5-175E003A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D64F-1315-48A2-A8E0-9884D2CA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82C3-74A4-4BD5-B0CB-0F92B97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4152-CC20-4DF1-8B44-F52B2B5E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4412-BE19-4B0E-819F-57439C2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6389-18A8-4A40-944E-077D26F5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E833-6835-4367-9A95-A1AC79D4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BE2B-CACF-480B-9072-4C964C6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FFB7-707A-49F3-B3E0-9B90B8C6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04A1-CDE3-4566-8FCF-DB3208B4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F56-B7AD-4CC6-9193-26120C1E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BE6-FFD6-4538-9C6C-B7AD46D7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94A-C80C-4F66-B254-41D7CDC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E11-6605-4FAA-9865-B2827E79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02A-FBC3-4924-AF9E-6906240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5644-96D9-4BEE-B02E-B9455C4960D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A1D-D124-4D8E-85EC-73B48627C53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5C5-89E4-4275-B4C9-7BEEA6CC797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3137-CD46-4365-8F48-4C1199C6331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Клавиши на клавиатуре</a:t>
            </a: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. </a:t>
            </a:r>
            <a:br>
              <a:rPr sz="54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7" descr="AG00154_"/>
          <p:cNvPicPr/>
          <p:nvPr/>
        </p:nvPicPr>
        <p:blipFill>
          <a:blip r:embed="rId1"/>
          <a:stretch/>
        </p:blipFill>
        <p:spPr>
          <a:xfrm>
            <a:off x="395280" y="333360"/>
            <a:ext cx="2160720" cy="1901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163080"/>
            <a:ext cx="7634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виа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стройство для ввода алфавитно-цифровой информации в компьютер.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484280"/>
            <a:ext cx="785016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руктурная клавиатура имеет более100 клавиш. Для удобства использования клавиши объединены в несколько групп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уппа алфавитно-цифров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 Группа функциональн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 Клавиши управления курсором (курсорные клавиш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Группа дополнительных цифров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 Клавиша с эмблем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Клавиша с изображением меню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алфавитно-цифров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89360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ужит для ввода чисел, букв и знаков препин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5" descr="P1010001"/>
          <p:cNvPicPr/>
          <p:nvPr/>
        </p:nvPicPr>
        <p:blipFill>
          <a:blip r:embed="rId1"/>
          <a:srcRect l="-1849" t="14995" r="0" b="29990"/>
          <a:stretch/>
        </p:blipFill>
        <p:spPr>
          <a:xfrm>
            <a:off x="952560" y="3429000"/>
            <a:ext cx="6840360" cy="276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 rot="10800000">
            <a:off x="1294920" y="4292640"/>
            <a:ext cx="4356360" cy="15127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функциональн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Группу функциональных клавиш составляют клавиши от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до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2. Действие этих клавиш зависит от того, какая программа загружена в компьютер. В большинстве программ клавиша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используется для получения подсказки. Клавиша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0 традиционно используется для перехода в строку мен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6" descr="P1010001"/>
          <p:cNvPicPr/>
          <p:nvPr/>
        </p:nvPicPr>
        <p:blipFill>
          <a:blip r:embed="rId1"/>
          <a:srcRect l="-1851" t="14994" r="0" b="29988"/>
          <a:stretch/>
        </p:blipFill>
        <p:spPr>
          <a:xfrm>
            <a:off x="1042920" y="4149720"/>
            <a:ext cx="6121440" cy="2305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 rot="10800000">
            <a:off x="1834920" y="4508280"/>
            <a:ext cx="3384360" cy="3603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и управления курсором (курсорные клавиши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6132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Это четыре клавиши со стрелками , указывающими влево, вверх, вправо и вниз. С их помощью происходит управление курсоро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6" descr="P1010001"/>
          <p:cNvPicPr/>
          <p:nvPr/>
        </p:nvPicPr>
        <p:blipFill>
          <a:blip r:embed="rId1"/>
          <a:srcRect l="-1849" t="14995" r="0" b="29990"/>
          <a:stretch/>
        </p:blipFill>
        <p:spPr>
          <a:xfrm>
            <a:off x="900000" y="3440160"/>
            <a:ext cx="7056720" cy="27655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234" name="Rectangle 7"/>
          <p:cNvSpPr/>
          <p:nvPr/>
        </p:nvSpPr>
        <p:spPr>
          <a:xfrm>
            <a:off x="5724360" y="5229360"/>
            <a:ext cx="863640" cy="647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дополнительных цифров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82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пользуется в некоторых программах для ввода чисел. Нередко для того чтобы пользоваться этими клавишами, надо предварительно включить специальную клавишу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UM LOCK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В компьютерных играх клавиши этой панели могут использоваться вместо курсорных клавиш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9" descr="P1010001"/>
          <p:cNvPicPr/>
          <p:nvPr/>
        </p:nvPicPr>
        <p:blipFill>
          <a:blip r:embed="rId1"/>
          <a:srcRect l="-1853" t="14994" r="0" b="29988"/>
          <a:stretch/>
        </p:blipFill>
        <p:spPr>
          <a:xfrm>
            <a:off x="1116000" y="4005360"/>
            <a:ext cx="6192720" cy="244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>
            <a:off x="6084720" y="4869000"/>
            <a:ext cx="1079640" cy="13683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а с эмблемой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49000" y="1701360"/>
            <a:ext cx="797724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зволяет открыть Главное мен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6" descr="P1010001"/>
          <p:cNvPicPr/>
          <p:nvPr/>
        </p:nvPicPr>
        <p:blipFill>
          <a:blip r:embed="rId1"/>
          <a:srcRect l="-1855" t="14994" r="0" b="29989"/>
          <a:stretch/>
        </p:blipFill>
        <p:spPr>
          <a:xfrm>
            <a:off x="609480" y="2424240"/>
            <a:ext cx="7925040" cy="3522600"/>
          </a:xfrm>
          <a:prstGeom prst="rect">
            <a:avLst/>
          </a:prstGeom>
          <a:ln w="0">
            <a:noFill/>
          </a:ln>
        </p:spPr>
      </p:pic>
      <p:sp>
        <p:nvSpPr>
          <p:cNvPr id="242" name="Oval 7"/>
          <p:cNvSpPr/>
          <p:nvPr/>
        </p:nvSpPr>
        <p:spPr>
          <a:xfrm>
            <a:off x="1332000" y="4869000"/>
            <a:ext cx="504720" cy="431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643280" y="4941720"/>
            <a:ext cx="505080" cy="432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13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а с изображением меню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61748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крывает контекстное меню того объекта, с которым в настоящее время выполняется работ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5" descr="P1010001"/>
          <p:cNvPicPr/>
          <p:nvPr/>
        </p:nvPicPr>
        <p:blipFill>
          <a:blip r:embed="rId1"/>
          <a:srcRect l="-1852" t="14997" r="0" b="29987"/>
          <a:stretch/>
        </p:blipFill>
        <p:spPr>
          <a:xfrm>
            <a:off x="468360" y="3213000"/>
            <a:ext cx="7991280" cy="3168720"/>
          </a:xfrm>
          <a:prstGeom prst="rect">
            <a:avLst/>
          </a:prstGeom>
          <a:ln w="0">
            <a:noFill/>
          </a:ln>
        </p:spPr>
      </p:pic>
      <p:sp>
        <p:nvSpPr>
          <p:cNvPr id="247" name="Oval 6"/>
          <p:cNvSpPr/>
          <p:nvPr/>
        </p:nvSpPr>
        <p:spPr>
          <a:xfrm>
            <a:off x="5003640" y="5516640"/>
            <a:ext cx="432000" cy="431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гистровые клавиш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Рисунок 2" descr=""/>
          <p:cNvPicPr/>
          <p:nvPr/>
        </p:nvPicPr>
        <p:blipFill>
          <a:blip r:embed="rId1"/>
          <a:srcRect l="0" t="12209" r="0" b="13227"/>
          <a:stretch/>
        </p:blipFill>
        <p:spPr>
          <a:xfrm>
            <a:off x="23760" y="1052640"/>
            <a:ext cx="9120240" cy="510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0:50:51Z</dcterms:created>
  <dc:creator>User</dc:creator>
  <dc:description/>
  <dc:language>en-US</dc:language>
  <cp:lastModifiedBy>Ирина</cp:lastModifiedBy>
  <dcterms:modified xsi:type="dcterms:W3CDTF">2021-10-19T12:28:23Z</dcterms:modified>
  <cp:revision>42</cp:revision>
  <dc:subject/>
  <dc:title>Клавиатура</dc:title>
</cp:coreProperties>
</file>