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B462-6EA3-4264-AA1D-7ABC94CDC8D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2A632-51B4-4B10-AAFE-FD9A14A199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942-B09C-4923-992C-C3B52F02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A17-F347-450C-A838-368DBBE2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B082-77FB-400B-B971-FDA8B93D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F73F-D54B-49FB-8058-F845FC200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6828-A785-4916-84FB-BD9AD702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5970-8181-4204-BD8E-E03406B2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DA7D-E720-450F-8E7C-BDC3DBD5F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BB47-5C42-4851-941A-12A5B5EA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46656-6D6A-46ED-987D-AF7566AE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64911-054D-4C6C-A4DF-52A90440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949-53AA-4138-AB13-3356BD5D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229B-F6CC-40CE-85D7-1044804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9581E-D42D-40D8-8D44-81087B1E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AC34-D230-41B3-BEB4-5A3E0208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2350-B5BE-4FFD-8010-DBD50D572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12FB-BD2D-44CD-A140-F60CB944A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120E-97F2-427A-A057-6D5DEFCEE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F57BC-9AD0-471F-87B3-C12102E47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DF1C-D17B-4376-B75E-CB8B1F4E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8FA3E-2875-4E8B-9477-7F2407C49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B4661-4808-4A18-A342-74FDB5CE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3C4C-3863-43F1-A73C-88CC1374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648B-1E0E-4DE8-B70B-07A19FF3E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A00DD-82B6-4979-9541-A9C990E7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4D9F0F-EF1D-4020-B1F9-6A436EC4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DE602-948D-49D2-89B7-A84D61BC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EF6EA-80DF-4BE9-A5D1-2EB18DFC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590B1-7E01-4E04-A3A1-B159333B6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926FC-9F58-4BAE-921C-44D6B180E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E6DCF-3B0A-42DD-91EC-4FBBB91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6DF93C-78D5-4670-B585-F8CB1B0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09BD0-C3C3-4C4A-97C9-12D6199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83151-411D-4CE7-9754-18CBA31F5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9FD-C32A-4A5A-844F-98F8CCFB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22AC-2B32-4E4F-9EBA-62FDDE1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2304F-6543-451D-B67A-841B42BE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78912-39B3-4F39-B6DD-53FF18761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B3187-D050-40CC-BCB0-D55451C7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9D580-1DB2-4F5F-8854-337470D0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E7B03-1E1A-4730-9293-F3569F60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93707-D65B-4539-B107-47E0FC18F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1814F-64DB-447D-BCA9-84E12459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36F05-B819-4C70-83FE-46889C1D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5512-81F5-4F5A-8381-E55BDF31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5C4-0CE4-4DE9-BE14-F8E422F8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1264-7A4F-4F95-B66C-1E9E4AF1F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C346-A1E6-48FA-A610-F8A7D304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117A-3BFF-4E0D-8C62-D21A597A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5452-579A-4149-A86E-DE4447522C6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CB80-F926-4AB0-832C-E47B97AD545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3B4C-52E5-4A11-AC87-F7DFFE0D7C2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475E-BEF2-4BAF-AE2B-63145687B5DC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70828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rebuchet MS"/>
              </a:rPr>
              <a:t>Клавиши на клавиатуре</a:t>
            </a: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. </a:t>
            </a:r>
            <a:br>
              <a:rPr sz="5400"/>
            </a:b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20" name="Picture 7" descr="AG00154_"/>
          <p:cNvPicPr/>
          <p:nvPr/>
        </p:nvPicPr>
        <p:blipFill>
          <a:blip r:embed="rId1"/>
          <a:stretch/>
        </p:blipFill>
        <p:spPr>
          <a:xfrm>
            <a:off x="395280" y="333360"/>
            <a:ext cx="2160720" cy="19018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63080"/>
            <a:ext cx="7634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лавиатур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-устройство для ввода алфавитно-цифровой информации в компьютер.</a:t>
            </a:r>
            <a:br>
              <a:rPr sz="2800"/>
            </a:b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250920" y="1484280"/>
            <a:ext cx="785016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руктурная клавиатура имеет более100 клавиш. Для удобства использования клавиши объединены в несколько групп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2 Группа функциональн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 Клавиши управления курсором (курсорные клавиши)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 Группа дополнительных цифровых клавиш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5 Клавиша с эмблемой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6 Клавиша с изображением меню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3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алфавитно-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893600"/>
            <a:ext cx="634824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Служит для ввода чисел, букв и знаков препинания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5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52560" y="3429000"/>
            <a:ext cx="6840360" cy="27655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7"/>
          <p:cNvSpPr/>
          <p:nvPr/>
        </p:nvSpPr>
        <p:spPr>
          <a:xfrm rot="10800000">
            <a:off x="1294920" y="4292640"/>
            <a:ext cx="4356360" cy="151272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функциональн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71516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Группу функциональных клавиш составляют клавиши от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 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до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2. Действие этих клавиш зависит от того, какая программа загружена в компьютер. В большинстве программ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 используется для получения подсказки. Клавиша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F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10 традиционно используется для перехода в строку мен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6" descr="P1010001"/>
          <p:cNvPicPr/>
          <p:nvPr/>
        </p:nvPicPr>
        <p:blipFill>
          <a:blip r:embed="rId1"/>
          <a:srcRect l="-1851" t="14994" r="0" b="29988"/>
          <a:stretch/>
        </p:blipFill>
        <p:spPr>
          <a:xfrm>
            <a:off x="1042920" y="4149720"/>
            <a:ext cx="6121440" cy="2305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7"/>
          <p:cNvSpPr/>
          <p:nvPr/>
        </p:nvSpPr>
        <p:spPr>
          <a:xfrm rot="10800000">
            <a:off x="1834920" y="4508280"/>
            <a:ext cx="3384360" cy="360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3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1" dur="5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и управления курсором (курсорные клавиши)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861320" cy="262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Это четыре клавиши со стрелками , указывающими влево, вверх, вправо и вниз. С их помощью происходит управление курсором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6" descr="P1010001"/>
          <p:cNvPicPr/>
          <p:nvPr/>
        </p:nvPicPr>
        <p:blipFill>
          <a:blip r:embed="rId1"/>
          <a:srcRect l="-1849" t="14995" r="0" b="29990"/>
          <a:stretch/>
        </p:blipFill>
        <p:spPr>
          <a:xfrm>
            <a:off x="900000" y="3440160"/>
            <a:ext cx="7056720" cy="27655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234" name="Rectangle 7"/>
          <p:cNvSpPr/>
          <p:nvPr/>
        </p:nvSpPr>
        <p:spPr>
          <a:xfrm>
            <a:off x="5724360" y="5229360"/>
            <a:ext cx="863640" cy="64764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Группа дополнительных цифровых клавиш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7882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Используется в некоторых программах для ввода чисел. Нередко для того чтобы пользоваться этими клавишами, надо предварительно включить специальную клавишу </a:t>
            </a: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UM LOCK</a:t>
            </a: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. В компьютерных играх клавиши этой панели могут использоваться вместо курсорных клавиш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Picture 9" descr="P1010001"/>
          <p:cNvPicPr/>
          <p:nvPr/>
        </p:nvPicPr>
        <p:blipFill>
          <a:blip r:embed="rId1"/>
          <a:srcRect l="-1853" t="14994" r="0" b="29988"/>
          <a:stretch/>
        </p:blipFill>
        <p:spPr>
          <a:xfrm>
            <a:off x="1116000" y="4005360"/>
            <a:ext cx="6192720" cy="2448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10"/>
          <p:cNvSpPr/>
          <p:nvPr/>
        </p:nvSpPr>
        <p:spPr>
          <a:xfrm>
            <a:off x="6084720" y="4869000"/>
            <a:ext cx="1079640" cy="1368360"/>
          </a:xfrm>
          <a:prstGeom prst="rect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492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эмблемой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49000" y="1701360"/>
            <a:ext cx="7977240" cy="11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озволяет открыть Главное мен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1" name="Picture 6" descr="P1010001"/>
          <p:cNvPicPr/>
          <p:nvPr/>
        </p:nvPicPr>
        <p:blipFill>
          <a:blip r:embed="rId1"/>
          <a:srcRect l="-1855" t="14994" r="0" b="29989"/>
          <a:stretch/>
        </p:blipFill>
        <p:spPr>
          <a:xfrm>
            <a:off x="609480" y="2424240"/>
            <a:ext cx="7925040" cy="3522600"/>
          </a:xfrm>
          <a:prstGeom prst="rect">
            <a:avLst/>
          </a:prstGeom>
          <a:ln w="0">
            <a:noFill/>
          </a:ln>
        </p:spPr>
      </p:pic>
      <p:sp>
        <p:nvSpPr>
          <p:cNvPr id="242" name="Oval 7"/>
          <p:cNvSpPr/>
          <p:nvPr/>
        </p:nvSpPr>
        <p:spPr>
          <a:xfrm>
            <a:off x="1332000" y="4869000"/>
            <a:ext cx="50472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8"/>
          <p:cNvSpPr/>
          <p:nvPr/>
        </p:nvSpPr>
        <p:spPr>
          <a:xfrm>
            <a:off x="4643280" y="4941720"/>
            <a:ext cx="505080" cy="43200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139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Клавиша с изображением меню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4360" y="1617480"/>
            <a:ext cx="63468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Arial"/>
                <a:ea typeface="Arial"/>
              </a:rPr>
              <a:t>Открывает контекстное меню того объекта, с которым в настоящее время выполняется работа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Picture 5" descr="P1010001"/>
          <p:cNvPicPr/>
          <p:nvPr/>
        </p:nvPicPr>
        <p:blipFill>
          <a:blip r:embed="rId1"/>
          <a:srcRect l="-1852" t="14997" r="0" b="29987"/>
          <a:stretch/>
        </p:blipFill>
        <p:spPr>
          <a:xfrm>
            <a:off x="468360" y="3213000"/>
            <a:ext cx="7991280" cy="3168720"/>
          </a:xfrm>
          <a:prstGeom prst="rect">
            <a:avLst/>
          </a:prstGeom>
          <a:ln w="0">
            <a:noFill/>
          </a:ln>
        </p:spPr>
      </p:pic>
      <p:sp>
        <p:nvSpPr>
          <p:cNvPr id="247" name="Oval 6"/>
          <p:cNvSpPr/>
          <p:nvPr/>
        </p:nvSpPr>
        <p:spPr>
          <a:xfrm>
            <a:off x="5003640" y="5516640"/>
            <a:ext cx="432000" cy="431640"/>
          </a:xfrm>
          <a:prstGeom prst="ellipse">
            <a:avLst/>
          </a:prstGeom>
          <a:noFill/>
          <a:ln w="572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8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Регистровые клавиши.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49" name="Рисунок 2" descr=""/>
          <p:cNvPicPr/>
          <p:nvPr/>
        </p:nvPicPr>
        <p:blipFill>
          <a:blip r:embed="rId1"/>
          <a:srcRect l="0" t="12209" r="0" b="13227"/>
          <a:stretch/>
        </p:blipFill>
        <p:spPr>
          <a:xfrm>
            <a:off x="23760" y="1052640"/>
            <a:ext cx="9120240" cy="5100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9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0:50:51Z</dcterms:created>
  <dc:creator>User</dc:creator>
  <dc:description/>
  <dc:language>en-US</dc:language>
  <cp:lastModifiedBy>Ирина</cp:lastModifiedBy>
  <dcterms:modified xsi:type="dcterms:W3CDTF">2021-10-19T12:28:23Z</dcterms:modified>
  <cp:revision>42</cp:revision>
  <dc:subject/>
  <dc:title>Клавиатура</dc:title>
</cp:coreProperties>
</file>