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F3A54-08CA-4C6B-AF8B-14B2DDE31056}" type="slidenum"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482CF-2462-4303-A5E7-C69D44A9FD0B}" type="slidenum"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66A-6AEA-459D-B639-91FD121C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DD7-0350-488D-8E0B-77384999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2CF-FA08-4276-84D5-7208ECCC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D00-AFAA-4A58-B054-C8CFC4F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139-6875-45A1-B492-C19EA67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FB7-8E7F-4DC3-9EB1-B4FF1A70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537-9BC2-4BAD-BC11-951CAED9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80C-AAAB-434E-9721-398CF44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EED-FF74-4674-9D6F-07FC0B2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400-F87C-4F7B-84F7-EAB5978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144-2739-4D6E-962A-132DAAD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949-5203-4A0D-A59E-D876439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29EFEE-144E-48A9-B901-2F28F90B2EF1}" type="slidenum"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хема к зада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565280"/>
            <a:ext cx="44528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4720" y="2397240"/>
            <a:ext cx="4453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1640" y="142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и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21360" y="2397240"/>
            <a:ext cx="4456080" cy="4356000"/>
          </a:xfrm>
          <a:prstGeom prst="rect">
            <a:avLst/>
          </a:prstGeom>
          <a:ln w="0">
            <a:noFill/>
          </a:ln>
        </p:spPr>
      </p:pic>
      <p:sp>
        <p:nvSpPr>
          <p:cNvPr id="86" name="Штриховая стрелка вправо 3"/>
          <p:cNvSpPr/>
          <p:nvPr/>
        </p:nvSpPr>
        <p:spPr>
          <a:xfrm>
            <a:off x="7969320" y="422280"/>
            <a:ext cx="1500120" cy="928800"/>
          </a:xfrm>
          <a:prstGeom prst="pie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http://olga-sukhova.ru/images/mk-images/bidon/14.jpg"/>
          <p:cNvPicPr/>
          <p:nvPr/>
        </p:nvPicPr>
        <p:blipFill>
          <a:blip r:embed="rId2"/>
          <a:stretch/>
        </p:blipFill>
        <p:spPr>
          <a:xfrm>
            <a:off x="5611680" y="24940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рисунок молока"/>
          <p:cNvPicPr/>
          <p:nvPr/>
        </p:nvPicPr>
        <p:blipFill>
          <a:blip r:embed="rId3"/>
          <a:stretch/>
        </p:blipFill>
        <p:spPr>
          <a:xfrm>
            <a:off x="1111320" y="3708360"/>
            <a:ext cx="3714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767960"/>
            <a:ext cx="902808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+ 4 = 7 (л) – в бид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+ 7 = 10 (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: всего 10 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9360"/>
            <a:ext cx="90644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1207800"/>
            <a:ext cx="935856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л + 5л=…л                 4см – 1см=…              8кг – 8кг=…..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кг + 4кг=…кг               9л – 2л=…                 ⁯ 3л + 7л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тве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ой величиной можно измерить высоту кастрюли ?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ой величиной можно измерить массу кастрюли ?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ой величиной можно измерить вместимость кастрюли? __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1767960"/>
            <a:ext cx="902808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то такое «объем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ем можно измерить объем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кая единица измер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ев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1320" y="1767960"/>
            <a:ext cx="845640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ы – умные! Мы – смелые!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ы – старательные!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ы – внимательные!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ы в первом классе учимся!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сё у нас получитс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767960"/>
            <a:ext cx="902808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то такое «объем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ем можно измерить объем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кая единица измер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81088064"/>
          <p:cNvPicPr/>
          <p:nvPr/>
        </p:nvPicPr>
        <p:blipFill>
          <a:blip r:embed="rId1"/>
          <a:stretch/>
        </p:blipFill>
        <p:spPr>
          <a:xfrm>
            <a:off x="254160" y="0"/>
            <a:ext cx="9408960" cy="7415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44240" y="2771640"/>
            <a:ext cx="8232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Правила работы в групп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Говори в полголо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Один говорит, другие – слуша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Не перебивай выступающ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С уважением относись к мнению товарищ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Разговор должен идти только о предмете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дставление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1767960"/>
            <a:ext cx="902808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Справилась ли группа с задан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Все ли члены группы выполняли правила работы в групп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Кто был самым актив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Какие будут пожел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767960"/>
            <a:ext cx="902808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то такое «объем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ем можно измерить объем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кая единица измер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3040" y="2664000"/>
            <a:ext cx="3975120" cy="397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367160" y="4046400"/>
            <a:ext cx="2478240" cy="2589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7534440" y="5335560"/>
            <a:ext cx="1565280" cy="1163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644480" y="6637320"/>
            <a:ext cx="17733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чка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040360" y="6613560"/>
            <a:ext cx="2052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ро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738920" y="6613560"/>
            <a:ext cx="20415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жка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4178160" y="3144960"/>
            <a:ext cx="4051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– 12 </a:t>
            </a:r>
            <a:r>
              <a:rPr b="1" i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жек</a:t>
            </a:r>
            <a:endParaRPr b="1" i="1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217520" y="1874880"/>
            <a:ext cx="26272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 вёдер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784600" y="428760"/>
            <a:ext cx="503532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ы объёма</a:t>
            </a:r>
            <a:endParaRPr b="1" i="1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3214800" y="531720"/>
            <a:ext cx="1576440" cy="248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rcRect l="31181" t="0" r="33531" b="0"/>
          <a:stretch/>
        </p:blipFill>
        <p:spPr>
          <a:xfrm>
            <a:off x="7616880" y="558720"/>
            <a:ext cx="1278000" cy="2413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411880" y="512640"/>
            <a:ext cx="1481040" cy="25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673200" y="1160640"/>
            <a:ext cx="1725480" cy="149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682560" y="3851280"/>
            <a:ext cx="3171960" cy="227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6"/>
          <a:srcRect l="20389" t="10121" r="13171" b="6199"/>
          <a:stretch/>
        </p:blipFill>
        <p:spPr>
          <a:xfrm>
            <a:off x="5661000" y="3508200"/>
            <a:ext cx="1244520" cy="265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7"/>
          <a:srcRect l="0" t="5736" r="7537" b="4954"/>
          <a:stretch/>
        </p:blipFill>
        <p:spPr>
          <a:xfrm>
            <a:off x="7402680" y="4254480"/>
            <a:ext cx="2187360" cy="244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8"/>
          <a:srcRect l="28971" t="0" r="31242" b="0"/>
          <a:stretch/>
        </p:blipFill>
        <p:spPr>
          <a:xfrm>
            <a:off x="4424400" y="4835520"/>
            <a:ext cx="785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767960"/>
            <a:ext cx="902808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то такое «объем»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Чем можно измерить объем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кая единица измер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1:58:37Z</dcterms:created>
  <dc:creator/>
  <dc:description/>
  <dc:language>en-US</dc:language>
  <cp:lastModifiedBy>Мир</cp:lastModifiedBy>
  <dcterms:modified xsi:type="dcterms:W3CDTF">2014-02-12T17:35:57Z</dcterms:modified>
  <cp:revision>19</cp:revision>
  <dc:subject/>
  <dc:title>Слайд 1</dc:title>
</cp:coreProperties>
</file>