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gif" ContentType="image/gif"/>
  <Override PartName="/ppt/media/image12.jpeg" ContentType="image/jpeg"/>
  <Override PartName="/ppt/media/image11.png" ContentType="image/png"/>
  <Override PartName="/ppt/media/image6.png" ContentType="image/png"/>
  <Override PartName="/ppt/media/image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png" ContentType="image/png"/>
  <Override PartName="/ppt/media/image8.gif" ContentType="image/gif"/>
  <Override PartName="/ppt/media/image13.gif" ContentType="image/gif"/>
  <Override PartName="/ppt/media/image16.gif" ContentType="image/gif"/>
  <Override PartName="/ppt/media/image1.wmf" ContentType="image/x-wmf"/>
  <Override PartName="/ppt/media/image4.jpeg" ContentType="image/jpeg"/>
  <Override PartName="/ppt/media/image2.png" ContentType="image/png"/>
  <Override PartName="/ppt/media/image15.gif" ContentType="image/gi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1C01-8C7E-46F2-88BE-468A2357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B681-1833-4E7B-A3DA-DCB91CD2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8872-114C-4CD2-BB5B-21F70478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D0FE-3439-434B-A40A-99F45BB4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3395-73C5-40AA-B789-16CA171A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4CB8-2B13-403E-8EFB-ADA6E939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9145-0AD7-4273-B26D-CDD80F4B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E64F-1913-406C-9158-2B6E9309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B87D-2892-4867-A2B3-FAEEB02A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C685-CAEC-4931-9F25-F18ED842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FC83-5DFA-4DD2-A3EF-70709B30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AAAC4-8EC8-4A2B-9246-8D05248D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8D7B-E3B2-4D7B-ABA1-479C479A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8DC8-9A1A-4AEC-ABB8-0DDF7A12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44F8-CB64-496A-8E08-340F266B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8EA7-2D66-44B2-B02B-81BFBE70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F25D-F19C-438F-A9D3-89B43896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5C71-2690-4766-B29D-D1BDAB5E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9CAA-2326-4DC0-BD1F-5466621C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A3B3F-9D8F-4F8A-97B4-74290122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C8D3B-DD12-4009-AA0A-6C49DEAC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DD616-3C28-4D23-A0DC-848F280D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271F-0988-4C3A-AA25-2162644C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2234-1A96-4790-B233-9EEDCCDD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E5BF-1DC9-4671-BC02-CE3FA6B9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43AC5-48CB-4FB5-BDF4-BC8AC7B5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9365A-535E-45F6-B9DA-515EA721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06B85-4BA3-4704-B983-64BA155B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EAAD0-4FD9-4641-B3EE-BD132782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38058-7C75-4EA0-AEB3-CE5311C0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D21D3-C6D1-4FD5-BE97-DE561E17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87DA6-8A50-42E8-84AF-A6991C24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91575-A8C5-4FC9-A5EF-DE47B955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51202-1A8C-4B56-A432-54C5B405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43244-5C4E-4927-8510-DB58BD8D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C1871-C753-4DA5-B004-0A69EA80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C1B9B-208B-4879-827C-B84898BC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BC571-3884-4535-A6C9-CD1D82B1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58256-A0BE-4987-BF6F-CC6715AF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AD4D4-173A-4AFE-A8B9-E2FF79A4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4AFD8-E092-46A7-91C1-FBA856CB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F8802-DD2F-4041-8068-124DC73B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75833-50EE-4842-8729-C362D88D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E084-1F7D-461D-BFE8-03FED5B9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B348-D6EE-4E7D-BC5C-6777CBA1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AE46B-C572-4A7D-B352-E49F1FA7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084E-B38C-4A3E-A996-F348916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22B3-A96B-4B3B-86A3-156267D5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16CB-64BF-4DF4-A297-3C4A8A96E1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6023-14DE-483C-B716-66972F59F5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6AE2-7FF9-4038-B3AB-CB47CD1D2B2F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E9D4-E749-456C-B841-D82800F64C0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0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1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38858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3399"/>
                </a:solidFill>
                <a:latin typeface="Arial"/>
              </a:rPr>
              <a:t>Урок - зачет по математике «Натуральные числа»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94360" y="1828800"/>
            <a:ext cx="281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5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Выпишите все лучи, изображенные на чертеже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2133720"/>
            <a:ext cx="0" cy="419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373392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038480" y="3657600"/>
            <a:ext cx="152640" cy="1522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 rot="5400000">
            <a:off x="2133000" y="3886200"/>
            <a:ext cx="3715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8" name=""/>
          <p:cNvSpPr txBox="1"/>
          <p:nvPr/>
        </p:nvSpPr>
        <p:spPr>
          <a:xfrm rot="5400000">
            <a:off x="4285800" y="20383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9" name=""/>
          <p:cNvSpPr txBox="1"/>
          <p:nvPr/>
        </p:nvSpPr>
        <p:spPr>
          <a:xfrm rot="5400000">
            <a:off x="6038280" y="3105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0" name=""/>
          <p:cNvSpPr txBox="1"/>
          <p:nvPr/>
        </p:nvSpPr>
        <p:spPr>
          <a:xfrm rot="5400000">
            <a:off x="3614400" y="38527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1" name=""/>
          <p:cNvSpPr txBox="1"/>
          <p:nvPr/>
        </p:nvSpPr>
        <p:spPr>
          <a:xfrm rot="5400000">
            <a:off x="4376520" y="57574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213372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Это лучи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C,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N,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A,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M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151680" y="4419720"/>
            <a:ext cx="17398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295280" y="1600200"/>
            <a:ext cx="5562720" cy="2048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819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I гей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14400" y="3143160"/>
            <a:ext cx="73915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морочки из бочк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Comic Sans MS"/>
                <a:hlinkClick r:id="rId1" action="ppaction://hlinksldjump"/>
              </a:rPr>
              <a:t>Задача 1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Comic Sans MS"/>
                <a:hlinkClick r:id="rId2" action="ppaction://hlinksldjump"/>
              </a:rPr>
              <a:t>Задача 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Задача 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Comic Sans MS"/>
                <a:hlinkClick r:id="rId3" action="ppaction://hlinksldjump"/>
              </a:rPr>
              <a:t>Задача 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Comic Sans MS"/>
                <a:hlinkClick r:id="rId4" action="ppaction://hlinksldjump"/>
              </a:rPr>
              <a:t>Задача 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4114800" y="2666880"/>
            <a:ext cx="38098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3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Задача 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Тройка лошадей пробежала 30км. Сколько пробежала каждая лошадь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095880" y="5697360"/>
            <a:ext cx="2076480" cy="6271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Задача 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етух, стоя на одной ноге имеет массу 3кг. Сколько будет масса петуха, если он стоит на двух ногах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715000" y="5583240"/>
            <a:ext cx="2457360" cy="7412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2666880" y="3505320"/>
            <a:ext cx="2791080" cy="31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Задача 3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 корзине было 100 яиц, а дно упало. Сколько осталось яиц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410080" y="5486400"/>
            <a:ext cx="2762280" cy="8334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2438280" y="3733920"/>
            <a:ext cx="2073240" cy="195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Задача 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 одной семье 2 отца и 2 сына. Сколько человек в семье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324480" y="5791320"/>
            <a:ext cx="2362320" cy="7128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380988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Задача 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Одно яйцо варят 4 минуты. Сколько нужно минут, чтобы сварить 5 яиц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1905120" cy="8384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990720" y="228600"/>
            <a:ext cx="6324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2514600"/>
            <a:ext cx="244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19051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) Дополни правильно предлож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914400" y="28195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Для счета предметов применяются  ………… числ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именьшее натуральное число ……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0880" y="0"/>
            <a:ext cx="7391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туральные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исл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724280" y="3387600"/>
            <a:ext cx="4267440" cy="347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76212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В равенстве 25+13=38 числа 25 и 13 являются че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) Что такое периметр и как его най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)Что такое уменьшаемое? Вычитаемое? Разнос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)Какие свойства сложения вы знае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)Какие свойства вычитания вы знае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371600" y="1447920"/>
            <a:ext cx="5562720" cy="2047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819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II Гей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3124080"/>
            <a:ext cx="73915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ешите видет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Самостоятельная работа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124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68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=1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28-y=3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-34=7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419360" y="1828800"/>
            <a:ext cx="3276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86+x=131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95+x=864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Z+213=584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-307=30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200400" y="411480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олодцы 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Вы настоящие математики !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86200" y="4343400"/>
            <a:ext cx="3733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219320" y="2209680"/>
            <a:ext cx="5867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0 к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172200" y="48196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219320" y="2209680"/>
            <a:ext cx="5867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кг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6477120" y="44956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219320" y="2209680"/>
            <a:ext cx="5867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 яиц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6172200" y="4952880"/>
            <a:ext cx="188604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219320" y="2209680"/>
            <a:ext cx="5867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челове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6019920" y="4800600"/>
            <a:ext cx="21333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219320" y="2209680"/>
            <a:ext cx="5867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мину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6019920" y="4724280"/>
            <a:ext cx="21333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295280" y="1600200"/>
            <a:ext cx="5562720" cy="2048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819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 гей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14400" y="3143160"/>
            <a:ext cx="73915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льше, дальше, дальше..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2590920" y="55627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2428E-007 L 0.66667 0.09988 E">
                                      <p:cBhvr>
                                        <p:cTn id="28" dur="3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248520" cy="54086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2640" y="41907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0080"/>
                </a:solidFill>
                <a:latin typeface="Comic Sans MS"/>
              </a:rPr>
              <a:t>Разминка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Запишите цифрами числ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осемьсот девят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ять тысяч двести одиннадцат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вадцать два миллиона три тысячи восем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ятьсот семь миллионов восемьдесят тысяч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дин миллиард десять миллионов девять тысяч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175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Назовите отрезки среди фигур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838080" y="2209320"/>
            <a:ext cx="144792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 rot="5400000">
            <a:off x="337680" y="24051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52680" y="297180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2895480"/>
            <a:ext cx="152280" cy="1526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2895480"/>
            <a:ext cx="152280" cy="1526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715000" y="3276720"/>
            <a:ext cx="160020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114800"/>
            <a:ext cx="152280" cy="1522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 rot="5400000">
            <a:off x="1633320" y="18712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 rot="5400000">
            <a:off x="3034800" y="2374560"/>
            <a:ext cx="363600" cy="490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6" name=""/>
          <p:cNvSpPr txBox="1"/>
          <p:nvPr/>
        </p:nvSpPr>
        <p:spPr>
          <a:xfrm rot="5400000">
            <a:off x="5061960" y="2328840"/>
            <a:ext cx="381240" cy="600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7" name=""/>
          <p:cNvSpPr txBox="1"/>
          <p:nvPr/>
        </p:nvSpPr>
        <p:spPr>
          <a:xfrm rot="5400000">
            <a:off x="5291280" y="3624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"/>
          <p:cNvSpPr txBox="1"/>
          <p:nvPr/>
        </p:nvSpPr>
        <p:spPr>
          <a:xfrm rot="5400000">
            <a:off x="6600600" y="3076560"/>
            <a:ext cx="2761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81080" y="57913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5029200"/>
            <a:ext cx="167616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43400" y="4952880"/>
            <a:ext cx="152280" cy="1526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5880" y="6019920"/>
            <a:ext cx="152640" cy="1522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 rot="5400000">
            <a:off x="4476240" y="436248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 rot="5400000">
            <a:off x="6076440" y="54291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S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6019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4025880"/>
            <a:ext cx="2133720" cy="1079640"/>
          </a:xfrm>
          <a:custGeom>
            <a:avLst/>
            <a:gdLst/>
            <a:ahLst/>
            <a:rect l="l" t="t" r="r" b="b"/>
            <a:pathLst>
              <a:path w="1344" h="680">
                <a:moveTo>
                  <a:pt x="0" y="632"/>
                </a:moveTo>
                <a:cubicBezTo>
                  <a:pt x="200" y="316"/>
                  <a:pt x="400" y="0"/>
                  <a:pt x="624" y="8"/>
                </a:cubicBezTo>
                <a:cubicBezTo>
                  <a:pt x="848" y="16"/>
                  <a:pt x="1096" y="348"/>
                  <a:pt x="1344" y="6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5029200"/>
            <a:ext cx="152280" cy="1522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5105520"/>
            <a:ext cx="152280" cy="1522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 rot="5400000">
            <a:off x="771120" y="4486320"/>
            <a:ext cx="428760" cy="447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"/>
          <p:cNvSpPr txBox="1"/>
          <p:nvPr/>
        </p:nvSpPr>
        <p:spPr>
          <a:xfrm rot="5400000">
            <a:off x="3538080" y="44625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77320" y="4038480"/>
            <a:ext cx="152280" cy="1526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86600" y="5562720"/>
            <a:ext cx="152280" cy="1522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 rot="5400000">
            <a:off x="8262720" y="34714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E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4" name=""/>
          <p:cNvSpPr txBox="1"/>
          <p:nvPr/>
        </p:nvSpPr>
        <p:spPr>
          <a:xfrm rot="5400000">
            <a:off x="7029000" y="50101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H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149960" y="4013280"/>
            <a:ext cx="1003320" cy="1714320"/>
          </a:xfrm>
          <a:custGeom>
            <a:avLst/>
            <a:gdLst/>
            <a:ahLst/>
            <a:rect l="l" t="t" r="r" b="b"/>
            <a:pathLst>
              <a:path w="632" h="1080">
                <a:moveTo>
                  <a:pt x="584" y="64"/>
                </a:moveTo>
                <a:cubicBezTo>
                  <a:pt x="424" y="32"/>
                  <a:pt x="264" y="0"/>
                  <a:pt x="200" y="64"/>
                </a:cubicBezTo>
                <a:cubicBezTo>
                  <a:pt x="136" y="128"/>
                  <a:pt x="144" y="360"/>
                  <a:pt x="200" y="448"/>
                </a:cubicBezTo>
                <a:cubicBezTo>
                  <a:pt x="256" y="536"/>
                  <a:pt x="464" y="528"/>
                  <a:pt x="536" y="592"/>
                </a:cubicBezTo>
                <a:cubicBezTo>
                  <a:pt x="608" y="656"/>
                  <a:pt x="632" y="768"/>
                  <a:pt x="632" y="832"/>
                </a:cubicBezTo>
                <a:cubicBezTo>
                  <a:pt x="632" y="896"/>
                  <a:pt x="624" y="936"/>
                  <a:pt x="536" y="976"/>
                </a:cubicBezTo>
                <a:cubicBezTo>
                  <a:pt x="448" y="1016"/>
                  <a:pt x="192" y="1064"/>
                  <a:pt x="104" y="1072"/>
                </a:cubicBezTo>
                <a:cubicBezTo>
                  <a:pt x="16" y="1080"/>
                  <a:pt x="16" y="1024"/>
                  <a:pt x="8" y="1024"/>
                </a:cubicBezTo>
                <a:cubicBezTo>
                  <a:pt x="0" y="1024"/>
                  <a:pt x="28" y="1048"/>
                  <a:pt x="56" y="107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Сколько треугольников на рисунке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3809880" y="3733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2133720"/>
            <a:ext cx="4953240" cy="3581280"/>
          </a:xfrm>
          <a:prstGeom prst="triangle">
            <a:avLst>
              <a:gd name="adj" fmla="val 50000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3475200">
            <a:off x="5867280" y="1904760"/>
            <a:ext cx="1676520" cy="1828800"/>
          </a:xfrm>
          <a:prstGeom prst="rtTriangl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2794400">
            <a:off x="2819520" y="1981080"/>
            <a:ext cx="1699920" cy="1611360"/>
          </a:xfrm>
          <a:prstGeom prst="rtTriangl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52680" y="1600200"/>
            <a:ext cx="106704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867280" y="1752480"/>
            <a:ext cx="106704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67080" y="3886200"/>
            <a:ext cx="457200" cy="4572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3886200"/>
            <a:ext cx="457200" cy="4572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91120" y="37339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365760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571640" y="37339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3657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81480" y="373392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714640" y="37339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0600" y="4343400"/>
            <a:ext cx="533520" cy="533520"/>
          </a:xfrm>
          <a:prstGeom prst="triangle">
            <a:avLst>
              <a:gd name="adj" fmla="val 50000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51814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95680" y="5181480"/>
            <a:ext cx="1067040" cy="355680"/>
          </a:xfrm>
          <a:custGeom>
            <a:avLst/>
            <a:gdLst/>
            <a:ahLst/>
            <a:rect l="l" t="t" r="r" b="b"/>
            <a:pathLst>
              <a:path w="672" h="224">
                <a:moveTo>
                  <a:pt x="0" y="0"/>
                </a:moveTo>
                <a:cubicBezTo>
                  <a:pt x="28" y="56"/>
                  <a:pt x="56" y="112"/>
                  <a:pt x="96" y="144"/>
                </a:cubicBezTo>
                <a:cubicBezTo>
                  <a:pt x="136" y="176"/>
                  <a:pt x="168" y="184"/>
                  <a:pt x="240" y="192"/>
                </a:cubicBezTo>
                <a:cubicBezTo>
                  <a:pt x="312" y="200"/>
                  <a:pt x="456" y="224"/>
                  <a:pt x="528" y="192"/>
                </a:cubicBezTo>
                <a:cubicBezTo>
                  <a:pt x="600" y="160"/>
                  <a:pt x="656" y="32"/>
                  <a:pt x="67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 кг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т 5ц 2кг =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 см 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дм 1см =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 м 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км 20м =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990720" y="25146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1143000"/>
            <a:ext cx="32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36576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28600"/>
            <a:ext cx="449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Вырази 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21524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 кг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т 5ц 2кг = 3502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 см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дм 1см = 51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 м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км 20м = 5020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791320" y="4290840"/>
            <a:ext cx="24382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0-13T16:26:3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