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7173-0411-4F88-A9D5-F9D5AE849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1467-8309-4180-A802-A0276895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1315-95F7-4D3A-AD87-2F5E769AC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FE99-D45B-4E91-998D-F27F179A2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7040E-5C39-499B-A37B-C4D716CD4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4F7E3-91A9-41FE-A701-70B3BC31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D728-9133-4895-91D8-79942E63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993E-9816-4E37-9E6B-0A160B3E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7F32-4DCF-4898-92B5-DDB764E3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CD26-5490-4252-90AF-A07521B5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506D5-EA84-4C29-80DD-AF31FD93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7DF7-A42A-47AF-8F89-585AD670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E38B-17DF-4292-925D-25CE4370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9830-9EAB-4943-9D1A-447866DE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9603-C971-4B18-AA7F-DA9F391D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DBF4-4DDC-443C-B781-173296606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BA39-F3ED-4DFA-9357-2616FA346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78A2-DC59-4C3A-ABF3-D4730FBA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1994-B280-464B-A31F-5D4B649D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746B-CDC8-4AC4-96F1-207F5049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1543-97A8-47ED-A557-352CC339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1C59-8B79-4FF0-97E7-B0283A49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0DE1-2521-49CF-8AE6-1B75A87C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8F69-649C-4730-A168-89F06991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A19A-6E3F-440F-85CA-7E4F5B2E9F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7361-6653-4FD1-BFB4-BDA71869D72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280" y="2204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ahoma"/>
              </a:rPr>
              <a:t>Нервная система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ahoma"/>
              </a:rPr>
              <a:t>Вегетативная нервная систе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268360" y="1773360"/>
            <a:ext cx="1943280" cy="1079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9640" y="2997360"/>
            <a:ext cx="3095640" cy="8632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Симпат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35640" y="1773360"/>
            <a:ext cx="1800360" cy="1150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435640" y="2997360"/>
            <a:ext cx="3384360" cy="9363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Парасимпат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1280" y="3933720"/>
            <a:ext cx="2952720" cy="2519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ключается 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ремя интенсив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боты, требующ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атрат энер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08720" y="4005360"/>
            <a:ext cx="3311280" cy="2519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пособству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осстановле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апасов энергии 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ремя сна и отды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ahoma"/>
              </a:rPr>
              <a:t>В основе работы нервной системы лежит рефлек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f01"/>
                </a:solidFill>
                <a:latin typeface="Tahoma"/>
              </a:rPr>
              <a:t>Рефлекс – ответ организма на раздражение, который осуществляется и контролируется ЦН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f01"/>
                </a:solidFill>
                <a:latin typeface="Tahoma"/>
              </a:rPr>
              <a:t>Виды рефлексов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95280" y="981000"/>
          <a:ext cx="8559720" cy="5729400"/>
        </p:xfrm>
        <a:graphic>
          <a:graphicData uri="http://schemas.openxmlformats.org/drawingml/2006/table">
            <a:tbl>
              <a:tblPr/>
              <a:tblGrid>
                <a:gridCol w="4280040"/>
                <a:gridCol w="4279680"/>
              </a:tblGrid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езуслов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слов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рождённые, наследственно передающиеся реа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Рефлекторные центры находятся на уровне спинного мозга и в стволе головн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Приобретённые в процессе жизнедеятельности, не наследуемые реакции организ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Возникают на основе жизненного опыта организ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Рефлекторные центры находятся в коре головного мозг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ищевой, половой, оборонительный и п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люноотделение на запах пищ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начение: помогают выживанию, это применение «опыта предков» на практи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начение: помогают приспосабливаться к меняющимся условиям внешней сре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Рефлекторная дуга -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7280" y="105228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f01"/>
                </a:solidFill>
                <a:latin typeface="Tahoma"/>
              </a:rPr>
              <a:t>Путь, по которому проводятся нервные импульсы при осуществлении рефлек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rcRect l="0" t="24769" r="3297" b="0"/>
          <a:stretch/>
        </p:blipFill>
        <p:spPr>
          <a:xfrm>
            <a:off x="324000" y="3213000"/>
            <a:ext cx="6335640" cy="28450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68360" y="2637000"/>
            <a:ext cx="4248000" cy="504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Чувствительный ней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43280" y="3141720"/>
            <a:ext cx="358560" cy="11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68360" y="6237360"/>
            <a:ext cx="3816360" cy="431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сполнительный ней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3851280" y="4652640"/>
            <a:ext cx="64944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508720" y="2565360"/>
            <a:ext cx="338436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ставочный ней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5508360" y="3141720"/>
            <a:ext cx="1368360" cy="57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98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98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0920" y="27079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e4a8"/>
                </a:solidFill>
                <a:latin typeface="Tahoma"/>
              </a:rPr>
              <a:t>Центральная нервная систе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9292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e4a8"/>
                </a:solidFill>
                <a:latin typeface="Tahoma"/>
              </a:rPr>
              <a:t>Строение спинного мозг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603520" y="1341360"/>
            <a:ext cx="4060800" cy="5327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98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e4a8"/>
                </a:solidFill>
                <a:latin typeface="Tahoma"/>
              </a:rPr>
              <a:t>Спинной мозг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60168" b="0"/>
          <a:stretch/>
        </p:blipFill>
        <p:spPr>
          <a:xfrm>
            <a:off x="539640" y="981000"/>
            <a:ext cx="3343320" cy="5472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rcRect l="24587" t="0" r="24417" b="0"/>
          <a:stretch/>
        </p:blipFill>
        <p:spPr>
          <a:xfrm>
            <a:off x="5076720" y="1052640"/>
            <a:ext cx="30942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793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ahoma"/>
              </a:rPr>
              <a:t>Функции спинного мозг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ефлекторная – здесь находятся центры безусловных рефлекс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водниковая функция – белое вещество спинного мозга обеспечивает связь всех отделов ЦН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Головной мозг регулирует работу спинного!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Головной мозг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63640" y="198900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Строение головного мозг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13457" t="1860" r="10460" b="2794"/>
          <a:stretch/>
        </p:blipFill>
        <p:spPr>
          <a:xfrm>
            <a:off x="2340000" y="1773360"/>
            <a:ext cx="5040360" cy="4910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Нервная ткан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f01"/>
                </a:solidFill>
                <a:latin typeface="Tahoma"/>
              </a:rPr>
              <a:t>Основу нервной ткани составляют нервные клетки –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cf01"/>
                </a:solidFill>
                <a:uFillTx/>
                <a:latin typeface="Tahoma"/>
              </a:rPr>
              <a:t>НЕЙРОН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rcRect l="0" t="3514" r="2539" b="3740"/>
          <a:stretch/>
        </p:blipFill>
        <p:spPr>
          <a:xfrm>
            <a:off x="2050920" y="836640"/>
            <a:ext cx="4967280" cy="4786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987640" y="5877000"/>
            <a:ext cx="3529080" cy="64764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родолговатый моз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5013360"/>
            <a:ext cx="1584360" cy="5032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М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164360" y="4508640"/>
            <a:ext cx="1871640" cy="57600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Мозжеч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77080" y="2997360"/>
            <a:ext cx="2266920" cy="502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Средний моз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189000"/>
            <a:ext cx="2735280" cy="9363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ромежуточ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моз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43640" y="189000"/>
            <a:ext cx="2521080" cy="9363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Больш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олуша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356000" y="4653000"/>
            <a:ext cx="503280" cy="1224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1979640" y="3716280"/>
            <a:ext cx="2448000" cy="144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4571640" y="2997000"/>
            <a:ext cx="2305080" cy="21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195640" y="1125360"/>
            <a:ext cx="2016000" cy="172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48360" y="907920"/>
            <a:ext cx="1295280" cy="505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5795640" y="3715920"/>
            <a:ext cx="1368360" cy="1081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76720" y="115920"/>
            <a:ext cx="2879640" cy="6490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Мозолистое те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140360" y="765000"/>
            <a:ext cx="287280" cy="1224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rcRect l="0" t="0" r="35727" b="0"/>
          <a:stretch/>
        </p:blipFill>
        <p:spPr>
          <a:xfrm>
            <a:off x="324000" y="260280"/>
            <a:ext cx="4692600" cy="58420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427640" y="476280"/>
            <a:ext cx="3024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Белое ве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32360" y="2276640"/>
            <a:ext cx="2952720" cy="6476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Серое ве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3347640" y="981000"/>
            <a:ext cx="1079640" cy="93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140360" y="2708280"/>
            <a:ext cx="79200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058920" y="2708280"/>
            <a:ext cx="187308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4284360" y="2133720"/>
            <a:ext cx="647640" cy="57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219640" y="2997360"/>
            <a:ext cx="3600360" cy="172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Белое вещество составля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роводящие пу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вязывающие головной моз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о спинным, а также ч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головного моз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19640" y="4869000"/>
            <a:ext cx="3600360" cy="1800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ерое вещество в вид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отдельных скоплений (ядер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располагается внутри белог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а также образу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кору головного моз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932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385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Tahoma"/>
              </a:rPr>
              <a:t>Продолговатый мозг и мост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46087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Регуляция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Дых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Пищеварения (слюноотделение, жевание, глотание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Сердечно-сосудистой сист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Защитные рефлексы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Чихание, моргание, кашель, рво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19976" t="22411" r="1925" b="4478"/>
          <a:stretch/>
        </p:blipFill>
        <p:spPr>
          <a:xfrm>
            <a:off x="4716360" y="1484280"/>
            <a:ext cx="4108680" cy="468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37450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ahoma"/>
              </a:rPr>
              <a:t>Мозжечок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4032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ординация произвольных движен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охранение положения тела в пространств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егуляция мышечного тонуса и равновес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24686" t="21880" r="3216" b="4685"/>
          <a:stretch/>
        </p:blipFill>
        <p:spPr>
          <a:xfrm>
            <a:off x="6372360" y="189000"/>
            <a:ext cx="2074680" cy="25192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rcRect l="12084" t="2104" r="10342" b="4672"/>
          <a:stretch/>
        </p:blipFill>
        <p:spPr>
          <a:xfrm>
            <a:off x="4859280" y="2852640"/>
            <a:ext cx="3889440" cy="380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42130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ahoma"/>
              </a:rPr>
              <a:t>Средний мозг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4176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риентировочные рефлексы на зрительные и слуховые раздражители (поворот головы и тела в сторону световых или звуковых раздражителей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егуляция мышечного тонуса и позы тел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rcRect l="1956" t="3376" r="3543" b="5147"/>
          <a:stretch/>
        </p:blipFill>
        <p:spPr>
          <a:xfrm>
            <a:off x="4572000" y="1268280"/>
            <a:ext cx="4464000" cy="43754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5724360" y="5805360"/>
            <a:ext cx="2951280" cy="7192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Средний моз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877080" y="3284640"/>
            <a:ext cx="0" cy="252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0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586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ahoma"/>
              </a:rPr>
              <a:t>Промежуточный мозг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4741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ддержание обмена веществ и энергии на оптимальном уровн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бор и оценка поступающей информации от органов чувст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егуляция сложных движений: бег, ходьба, плава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rcRect l="0" t="1896" r="0" b="6124"/>
          <a:stretch/>
        </p:blipFill>
        <p:spPr>
          <a:xfrm>
            <a:off x="4859280" y="1125360"/>
            <a:ext cx="4097520" cy="38163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364000" y="5084640"/>
            <a:ext cx="3600720" cy="8654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ромежуточный моз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6732360" y="2637000"/>
            <a:ext cx="144360" cy="252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66610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Большие полушар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403280" y="1125360"/>
            <a:ext cx="5977080" cy="50547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877080" y="2060640"/>
            <a:ext cx="2087640" cy="647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Лобная д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364000" y="1052640"/>
            <a:ext cx="2448000" cy="792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Центр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бороз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0920" y="981000"/>
            <a:ext cx="2808360" cy="647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Боковая бороз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79280" y="1700280"/>
            <a:ext cx="1727280" cy="718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Темен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д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940360" y="5157720"/>
            <a:ext cx="1871640" cy="863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Височ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д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4508640"/>
            <a:ext cx="1979640" cy="792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Затыло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д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280" y="-419400"/>
            <a:ext cx="8404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79280" y="549000"/>
            <a:ext cx="8640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Tahoma"/>
              </a:rPr>
              <a:t>Затылочные дол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зрительная чувствитель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Tahoma"/>
              </a:rPr>
              <a:t>Височные дол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слуховая, вкусовая, обонятельная чувствитель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Tahoma"/>
              </a:rPr>
              <a:t>Лобные дол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произвольные внимание, произвольные движ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Tahoma"/>
              </a:rPr>
              <a:t>Теменные дол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кожно-мышечная чувствитель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ahoma"/>
              </a:rPr>
              <a:t>С большими полушариями мозга связан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амя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еч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ышл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ворческие процесс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ичностные качеств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0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10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ahoma"/>
              </a:rPr>
              <a:t>Строение нейрон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4934" t="8061" r="4713" b="11458"/>
          <a:stretch/>
        </p:blipFill>
        <p:spPr>
          <a:xfrm>
            <a:off x="2050920" y="1773360"/>
            <a:ext cx="5904000" cy="3311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08000" y="3213000"/>
            <a:ext cx="187164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ендри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979640" y="2565000"/>
            <a:ext cx="122400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79640" y="3500280"/>
            <a:ext cx="93672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43280" y="5300640"/>
            <a:ext cx="1512720" cy="865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е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ейр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492360" y="3789360"/>
            <a:ext cx="71640" cy="1511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03640" y="5516640"/>
            <a:ext cx="1800360" cy="504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акс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796000" y="4076640"/>
            <a:ext cx="0" cy="1440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Синапс -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f01"/>
                </a:solidFill>
                <a:latin typeface="Tahoma"/>
              </a:rPr>
              <a:t>Место контакта нейронов друг с другом и с другими клетка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089240" y="907920"/>
            <a:ext cx="4759560" cy="5834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08000" y="4941720"/>
            <a:ext cx="3959280" cy="719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узырьки с медиат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924360" y="3860280"/>
            <a:ext cx="1152360" cy="1081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924360" y="3284280"/>
            <a:ext cx="1152360" cy="1657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8000" y="5877000"/>
            <a:ext cx="3816360" cy="647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инаптическая щ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067280" y="4437000"/>
            <a:ext cx="1728720" cy="1728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ahoma"/>
              </a:rPr>
              <a:t>Типы нейронов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692360" y="1773360"/>
            <a:ext cx="1800000" cy="792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9280" y="2708280"/>
            <a:ext cx="3168720" cy="792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ahoma"/>
              </a:rPr>
              <a:t>Чувстви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1773360"/>
            <a:ext cx="0" cy="2016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3860640"/>
            <a:ext cx="2950920" cy="792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ahoma"/>
              </a:rPr>
              <a:t>Вставо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84720" y="1844640"/>
            <a:ext cx="1366920" cy="72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84720" y="2708280"/>
            <a:ext cx="2916360" cy="792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ahoma"/>
              </a:rPr>
              <a:t>Исполни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3500280"/>
            <a:ext cx="3024360" cy="216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оводя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нформацию о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оверхности 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 внутрен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рганов в моз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48000" y="4724280"/>
            <a:ext cx="287964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Анализиру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нформацию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ырабатыв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ре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00720" y="3573360"/>
            <a:ext cx="2664000" cy="273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оводя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мпуль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команд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 головного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пинного  моз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рган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9328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ahoma"/>
              </a:rPr>
              <a:t>Строение нервной систем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411280" y="907920"/>
            <a:ext cx="436896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15640" y="115560"/>
            <a:ext cx="779292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f01"/>
                </a:solidFill>
                <a:latin typeface="Tahoma"/>
              </a:rPr>
              <a:t>Строение нервной систем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2124000" y="1052640"/>
            <a:ext cx="4753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Нервн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339640" y="1628640"/>
            <a:ext cx="1152360" cy="43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87280" y="2133720"/>
            <a:ext cx="2521080" cy="122400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Центр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система (ЦН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92720" y="1628640"/>
            <a:ext cx="1150920" cy="43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32360" y="2205000"/>
            <a:ext cx="3024360" cy="107964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ерифер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нервн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1258560" y="3357720"/>
            <a:ext cx="649080" cy="79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9280" y="4292640"/>
            <a:ext cx="1800360" cy="865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Голов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моз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627280" y="3357720"/>
            <a:ext cx="576360" cy="79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95640" y="4292640"/>
            <a:ext cx="1584360" cy="865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Спи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моз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5076360" y="3284640"/>
            <a:ext cx="358920" cy="93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95640" y="4292640"/>
            <a:ext cx="1440000" cy="865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нер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43640" y="3284640"/>
            <a:ext cx="0" cy="93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80000" y="4292640"/>
            <a:ext cx="1584360" cy="865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Нер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уз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93080" y="3284640"/>
            <a:ext cx="1224000" cy="865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236000" y="4292640"/>
            <a:ext cx="1800000" cy="865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Нер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оконч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-4194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920" y="2205000"/>
            <a:ext cx="87040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Нервы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скопления отростков нейронов вне ЦНС, заключённые в общую оболочку и проводящие нервные импульс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Нервные узлы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скопления тел нейронов вне ЦН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ahoma"/>
              </a:rPr>
              <a:t>Функциональное деление нервной систем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2411280" y="2060640"/>
            <a:ext cx="5329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Нервная сист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058920" y="2852640"/>
            <a:ext cx="93636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32000" y="3573360"/>
            <a:ext cx="2952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мат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64000" y="2852640"/>
            <a:ext cx="115272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76720" y="3573360"/>
            <a:ext cx="295128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егетатив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03280" y="4221000"/>
            <a:ext cx="2808360" cy="86364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дчинена в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03280" y="5157720"/>
            <a:ext cx="2808360" cy="936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егулирует раб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келетных мыш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48360" y="4221000"/>
            <a:ext cx="2808360" cy="86364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е подчине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оле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148360" y="5157720"/>
            <a:ext cx="2879640" cy="1150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егулирует раб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нутрен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18:09:49Z</dcterms:created>
  <dc:creator>белый лукич</dc:creator>
  <dc:description/>
  <dc:language>en-US</dc:language>
  <cp:lastModifiedBy>белый лукич</cp:lastModifiedBy>
  <dcterms:modified xsi:type="dcterms:W3CDTF">2007-04-05T16:40:26Z</dcterms:modified>
  <cp:revision>7</cp:revision>
  <dc:subject/>
  <dc:title>Нервная система</dc:title>
</cp:coreProperties>
</file>