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299-778B-4C6C-BC6B-52091FEC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69D-BBD3-4215-9461-BC3B25C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C43-D23A-4336-92DE-4F17461A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DA8-7182-4189-A96A-76D7F25E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CDA4-6EFA-4FAE-B0D9-558F6EF7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DB04-7888-4A5A-8205-2EAFE02A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A08-BEEE-4F1C-83C1-BA54A1CC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1545-6A37-48AA-BE91-482BF2C4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D300-2549-4D87-B0B4-096A6AA9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F556-2407-475A-A5F2-7379598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C623-E60B-468F-96F5-5DC08ED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8D9-97BA-4064-AB94-8B1FC8F0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C891-F88E-49EB-ABBD-706E3A1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1BF3-BF39-463E-88B4-A5D9204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0A2E-297D-4E42-BAD3-294988F7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2E4A-64D4-4D18-8BEF-519B4AC1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293-0B06-4A8F-A548-A060F25D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0462-D8A7-42FF-8C3F-13774592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6A5E-B00A-4776-89B5-538B4565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2777-EDF1-41D4-9E1C-F3DF28AA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7EAB-2BCA-4B02-ABCE-D2CEE92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22C1-5789-4864-854D-1429AA26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0CC-7F9B-4B61-84AF-BBF53C87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B1EB-D5B6-462C-9BE6-CD1F4B15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ADA2-3EE6-4540-AFF4-0140A75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58F4-2BE0-4E32-85F3-4C104999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2D84-0C1B-4443-AF49-69B82A7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6B80-D8CE-43A0-871E-863B949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1D86-C028-4CBD-BB46-B3684FFB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5D62-6617-48BC-8DCB-5A44D5FD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472-F99B-4BD7-A441-7DB6B5E8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0BF-2CA0-4ADC-B6C9-29FAF624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C4C-E447-46EE-B776-BEB2410A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83C-5D16-4D45-80A4-24F5FA9F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D4D-26C3-4D4A-BD15-64FEC19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D54-21A7-4559-82AD-A0954CD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E1C1-ABA6-4728-9500-D739CEEABC5F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E6A-D09B-4D49-BECA-3241C2AE0A7B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704A-BA98-4E59-BDFB-E904154D098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3128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Методическая разработк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«Нетрадиционные формы урока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62320" y="458100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митриева И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№15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ст, учитель математики высшей квалификационной катег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212840"/>
            <a:ext cx="65818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состоит из трех ч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часть – начало. У учащихся формируется психологическая готовность к восприятию – приветствие учителя, представление жюри, объяснение правил игры, приветствие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часть – основная. Задания подобраны с учетом пройденного материала. Есть задания и легкие, и повышенной сложности. Это позволит командам получить хотя бы минимальное количество баллов. После каждого этапа объявляется предварительн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часть – заключение. Объявление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тивный дух соревнования активизирует возможности детей, что позволит всему мероприятию уложиться в 45 мин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BD00146_"/>
          <p:cNvPicPr/>
          <p:nvPr/>
        </p:nvPicPr>
        <p:blipFill>
          <a:blip r:embed="rId1"/>
          <a:stretch/>
        </p:blipFill>
        <p:spPr>
          <a:xfrm>
            <a:off x="6300720" y="0"/>
            <a:ext cx="2592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619280" y="546480"/>
            <a:ext cx="66024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 соревнований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м быть очень вниматель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ть на вопросы заданий письм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ы на задания приносит капитан команды на стол жю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 команда, которая первая принесет правильный ответ, зарабатывает дополнительный бал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ведем примеры некоторых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ние № 3 – Эстаф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 числовой ряд ( допишите два чис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8, 9, 21, 15, ?,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28, 16, 32, 24, ?,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шить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На педсовет собрались 40 строгих учительниц, и все стали по очереди ругать одного печального третьеклассника. Каждая учительница ругала по 12 минут. Сколько часов ругали печального третьеклассн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888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Урок-аукцион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1141920"/>
            <a:ext cx="68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рока: “Массив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це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закрепить навыки работы с массивами – ввод и вывод элементов одномерного массива, обработка элементов массива, найти новые способы применения предметов – их использование в новых, необычны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делится на 4–5 команд. С помощью проектора на экран, или доску, проецируется лот № 1 – пять задач. Первая команда выбирает задачу и назначает ей цену от 1 до 5 баллов. Если назначенная цена выше предложенной другими командами, то она получает задание и решает его. Остальные задачи выбирают другие команды. В случае, если задание выполнено верно, команде начисляются баллы (цена задания), в противном случае эти баллы (или их часть) снимаются. Следует обратить внимание на достоинства этой игры, коим является сравнение учащимися всех пяти задач и мысленного “прокручивания” ход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висимости от временных рамок возможно варьирование количества лотов и уровня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апример, следу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от № 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дитель автобуса установил следующую закономерность: ежедневно он возит в автобусе 100 человек. Первый входящий покупает билет (10 руб.), второй – пенсионер, третий имеет льготы 50% оплаты, четвертый и пятый – “зайцы” (которых, если поймают, штрафуют на 100 руб.). Определить выручку шофера, если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го человека начинают работать контролле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заводе работают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бочих. Ввести заработную плату каждого рабочего и определить число рабочих, имеющих доход ниже прожиточного минимум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а также вычислить среднюю заработную плату на зав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утешественник совершает переход: начав свое движение в 6 часов, он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ов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 6) двигается со скоростью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м/ч, после чего делает привал на 2 часа. Далее он продолжает движение со скоростью у км/ч. Сколько километров им было пройдено, если в 20.00 он остановился на ночл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а 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Стоимость буханки хлеба на данный момент составляет – 2 руб., пакет молока – 1,3 руб. Каждый месяц цена на хлеб повышается на 10%, а на молоко – на 15%. Через сколько месяцев буханка хлеба будет стоить дешевле бутылки моло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а 5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Школьник набрал на компьютере реферат. Когда он отлучился, его друзья решили над ним подшутить: один предложил удалить все гласные, другой заменить буквы “г” и “р” их кодовыми значениями, третий – записать текст в обратном порядке. Какой текст увидит школьник после того, как каждый из друзей в отдельности внесет свои исправления в текст? Какой текст будет получен после применения всех трех вариант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беждает команда, набравшая наибольшее количество бал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я, которые вызвали затруднения, учитель решает с учениками по окончанию иг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888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Коллективная форма не отказывается от традиционных методов , но способы общения ,взаимосвяз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и взаимозависимости изменяются, возрастает их эффективность. 4 оргформы дают возможность роста творчества учителей, методика становится разнообразне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Коллективная форма 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-  обеспечивает высокую интенсивность обуч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-  формирует навыки социального и делового общ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-  дает возможность каждому учащемуся продвигаться в процессе обучения со скоростью,</a:t>
            </a: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определяемой его личными способностя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-  повышает интеллектуальный уровень и культур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-  создает условия для развития творче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-  благотворно влияет на здоровье школьников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Мы провели первичное анкетирование учащихся 5-8 классов и 9-11 классов. Интерес к содержанию урока как мотив обучения выявлен в 23% ответов учащихся среднего звена и у 14% ответов старшеклассников. Использование нестандартных форм проведения занятий помнят 85% учащихся, в их ответах содержались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КВН (математика,  8,9,10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путешествие (география, 7 класс; история ,5 класс, ин. Язык 5-11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экскурсия (география, биология, химия, 6-9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игра (математика, русский язык, 5-9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конференция (физика, 10-11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семинар (история, химия, обществознание, 9-11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урок – диспут (литература, обществознание, 8-11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нтервью (уроки нем., англ. языков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укцион (математика ,7-8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выставка (демонстрация творческих работ – технология, география, ИЗО, биология, 5-11 класс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Все 100% учащихся отметили, что уроки в нестандартной форме наиболее интересны для них,</a:t>
            </a: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запоминающиеся и развивающ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вторное анкетирование показало возросший интерес к предмету после проведения занятий в нетрадиционной форме: </a:t>
            </a:r>
            <a:r>
              <a:rPr b="0" lang="ru-RU" sz="1800" spc="-1" strike="noStrike">
                <a:solidFill>
                  <a:srgbClr val="954f72"/>
                </a:solidFill>
                <a:latin typeface="Calibri Light"/>
              </a:rPr>
              <a:t>60%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учащихся среднего и </a:t>
            </a:r>
            <a:r>
              <a:rPr b="0" lang="ru-RU" sz="1800" spc="-1" strike="noStrike">
                <a:solidFill>
                  <a:srgbClr val="954f72"/>
                </a:solidFill>
                <a:latin typeface="Calibri Light"/>
              </a:rPr>
              <a:t>38,4%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учащихся старшего звена заявили об интересе к предмет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Результаты диагностик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793880" y="196704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196704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332000" y="836640"/>
            <a:ext cx="684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546a"/>
                </a:solidFill>
                <a:latin typeface="Arial"/>
              </a:rPr>
              <a:t>Мы провели опрос 23 учителей , применяющих нетрадиционные формы. Они отметили не только повышение интереса учащихся к процессу познания, но и возросшие активность, инициативность и самоорганизацию школьников. Учашиеся полнее раскрыли собственную индивидуальность, ярче выявились проблемы в усвоении знаний.     Положительно заряженная эмоциональная среда помогла проявиться даже слабым ученикам, лучше пошел процесс запоминания, начала работать фантазия. В нетрадиционных занятиях раскрываются способности ребенка, он обретает свой взгляд на факты и явления, самостоятельно ищет ответы на вопросы</a:t>
            </a: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book"/>
          <p:cNvPicPr/>
          <p:nvPr/>
        </p:nvPicPr>
        <p:blipFill>
          <a:blip r:embed="rId1"/>
          <a:stretch/>
        </p:blipFill>
        <p:spPr>
          <a:xfrm>
            <a:off x="3851280" y="5661000"/>
            <a:ext cx="1657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ПЛАН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ктуализация те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Цели и задачи данной рабо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идактические основы нетрадиционных форм урока. Классификация форм уро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меры конспектов некоторых нетрадиционных форм урок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иагностирование  в ходе внедрения разработк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жидаемые результаты внедрения работы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й и творческой активности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ышение положительной мотивации обучения у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т профессионального мастерства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стойчивого интереса к предмету и расширение коммуникативных возможностей учащихся, самореализация и саморазвитие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 Light"/>
              </a:rPr>
              <a:t>Цель работы:</a:t>
            </a:r>
            <a:r>
              <a:rPr b="0" lang="ru-RU" sz="2500" spc="-1" strike="noStrike">
                <a:solidFill>
                  <a:srgbClr val="f9feb8"/>
                </a:solidFill>
                <a:latin typeface="Calibri Light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Повышение качества образования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alibri Light"/>
              </a:rPr>
              <a:t>Задачи работы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Совершенствование профессионального уровня педагогов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Внедрение в практику прогрессивных методик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Совершенствование структуры современного урока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Препятствие выработке стереотипов ведения урока;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Diagram 6"/>
          <p:cNvGrpSpPr/>
          <p:nvPr/>
        </p:nvGrpSpPr>
        <p:grpSpPr>
          <a:xfrm>
            <a:off x="241920" y="163800"/>
            <a:ext cx="8362440" cy="6207480"/>
            <a:chOff x="241920" y="163800"/>
            <a:chExt cx="8362440" cy="6207480"/>
          </a:xfrm>
        </p:grpSpPr>
        <p:sp>
          <p:nvSpPr>
            <p:cNvPr id="131" name="_s1028"/>
            <p:cNvSpPr/>
            <p:nvPr/>
          </p:nvSpPr>
          <p:spPr>
            <a:xfrm flipH="1" flipV="1">
              <a:off x="3106800" y="1140120"/>
              <a:ext cx="1056240" cy="180072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9"/>
            <p:cNvSpPr/>
            <p:nvPr/>
          </p:nvSpPr>
          <p:spPr>
            <a:xfrm>
              <a:off x="2194560" y="260640"/>
              <a:ext cx="1512360" cy="918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Виртуальны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урок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0"/>
            <p:cNvSpPr/>
            <p:nvPr/>
          </p:nvSpPr>
          <p:spPr>
            <a:xfrm flipH="1" flipV="1">
              <a:off x="2053440" y="1717200"/>
              <a:ext cx="1937880" cy="132012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1"/>
            <p:cNvSpPr/>
            <p:nvPr/>
          </p:nvSpPr>
          <p:spPr>
            <a:xfrm>
              <a:off x="1154160" y="1071000"/>
              <a:ext cx="1472040" cy="702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оревнова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 flipH="1" flipV="1">
              <a:off x="1405080" y="2566080"/>
              <a:ext cx="2482200" cy="61164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398160" y="2061360"/>
              <a:ext cx="1027800" cy="775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«круглы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тол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 flipH="1">
              <a:off x="1270440" y="3337560"/>
              <a:ext cx="2595240" cy="20304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241920" y="3196800"/>
              <a:ext cx="1520640" cy="736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утешеств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6"/>
            <p:cNvSpPr/>
            <p:nvPr/>
          </p:nvSpPr>
          <p:spPr>
            <a:xfrm flipH="1">
              <a:off x="1671120" y="3489840"/>
              <a:ext cx="2261880" cy="98352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7"/>
            <p:cNvSpPr/>
            <p:nvPr/>
          </p:nvSpPr>
          <p:spPr>
            <a:xfrm>
              <a:off x="710640" y="4281840"/>
              <a:ext cx="1027800" cy="775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аукцио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 flipH="1">
              <a:off x="2540880" y="3610440"/>
              <a:ext cx="1536120" cy="159012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9"/>
            <p:cNvSpPr/>
            <p:nvPr/>
          </p:nvSpPr>
          <p:spPr>
            <a:xfrm>
              <a:off x="1723320" y="5131440"/>
              <a:ext cx="1028520" cy="775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рактику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0"/>
            <p:cNvSpPr/>
            <p:nvPr/>
          </p:nvSpPr>
          <p:spPr>
            <a:xfrm flipH="1">
              <a:off x="3728520" y="3674880"/>
              <a:ext cx="543960" cy="192528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41"/>
            <p:cNvSpPr/>
            <p:nvPr/>
          </p:nvSpPr>
          <p:spPr>
            <a:xfrm>
              <a:off x="3106800" y="5595480"/>
              <a:ext cx="1028520" cy="775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нтервью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42"/>
            <p:cNvSpPr/>
            <p:nvPr/>
          </p:nvSpPr>
          <p:spPr>
            <a:xfrm>
              <a:off x="4487400" y="3672720"/>
              <a:ext cx="538560" cy="192744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43"/>
            <p:cNvSpPr/>
            <p:nvPr/>
          </p:nvSpPr>
          <p:spPr>
            <a:xfrm>
              <a:off x="4622040" y="5595480"/>
              <a:ext cx="1028520" cy="7758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емина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44"/>
            <p:cNvSpPr/>
            <p:nvPr/>
          </p:nvSpPr>
          <p:spPr>
            <a:xfrm>
              <a:off x="4680360" y="3605760"/>
              <a:ext cx="1533240" cy="15948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45"/>
            <p:cNvSpPr/>
            <p:nvPr/>
          </p:nvSpPr>
          <p:spPr>
            <a:xfrm>
              <a:off x="6005520" y="5128920"/>
              <a:ext cx="1028520" cy="77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искусс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46"/>
            <p:cNvSpPr/>
            <p:nvPr/>
          </p:nvSpPr>
          <p:spPr>
            <a:xfrm>
              <a:off x="4821480" y="3485880"/>
              <a:ext cx="2261880" cy="98496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47"/>
            <p:cNvSpPr/>
            <p:nvPr/>
          </p:nvSpPr>
          <p:spPr>
            <a:xfrm>
              <a:off x="7018920" y="4279320"/>
              <a:ext cx="1585440" cy="7344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48"/>
            <p:cNvSpPr/>
            <p:nvPr/>
          </p:nvSpPr>
          <p:spPr>
            <a:xfrm>
              <a:off x="4885200" y="3332880"/>
              <a:ext cx="2598840" cy="20556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49"/>
            <p:cNvSpPr/>
            <p:nvPr/>
          </p:nvSpPr>
          <p:spPr>
            <a:xfrm>
              <a:off x="6300000" y="3192480"/>
              <a:ext cx="2212920" cy="8834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нтегрированны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урок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50"/>
            <p:cNvSpPr/>
            <p:nvPr/>
          </p:nvSpPr>
          <p:spPr>
            <a:xfrm flipV="1">
              <a:off x="4861080" y="2564280"/>
              <a:ext cx="2485440" cy="60912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51"/>
            <p:cNvSpPr/>
            <p:nvPr/>
          </p:nvSpPr>
          <p:spPr>
            <a:xfrm>
              <a:off x="7325280" y="2056680"/>
              <a:ext cx="1028520" cy="7758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зач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52"/>
            <p:cNvSpPr/>
            <p:nvPr/>
          </p:nvSpPr>
          <p:spPr>
            <a:xfrm flipV="1">
              <a:off x="4754160" y="1717200"/>
              <a:ext cx="1943280" cy="131796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53"/>
            <p:cNvSpPr/>
            <p:nvPr/>
          </p:nvSpPr>
          <p:spPr>
            <a:xfrm>
              <a:off x="6565680" y="1068840"/>
              <a:ext cx="1028520" cy="77508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пектакл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54"/>
            <p:cNvSpPr/>
            <p:nvPr/>
          </p:nvSpPr>
          <p:spPr>
            <a:xfrm flipV="1">
              <a:off x="4582440" y="1142640"/>
              <a:ext cx="1062000" cy="180000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55"/>
            <p:cNvSpPr/>
            <p:nvPr/>
          </p:nvSpPr>
          <p:spPr>
            <a:xfrm>
              <a:off x="5341320" y="399240"/>
              <a:ext cx="1028520" cy="77508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ВН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турни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56"/>
            <p:cNvSpPr/>
            <p:nvPr/>
          </p:nvSpPr>
          <p:spPr>
            <a:xfrm flipV="1">
              <a:off x="4374360" y="939600"/>
              <a:ext cx="0" cy="1971360"/>
            </a:xfrm>
            <a:prstGeom prst="line">
              <a:avLst/>
            </a:prstGeom>
            <a:ln w="2844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57"/>
            <p:cNvSpPr/>
            <p:nvPr/>
          </p:nvSpPr>
          <p:spPr>
            <a:xfrm>
              <a:off x="3859920" y="163800"/>
              <a:ext cx="1028520" cy="77580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ed7d3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г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58"/>
            <p:cNvSpPr/>
            <p:nvPr/>
          </p:nvSpPr>
          <p:spPr>
            <a:xfrm>
              <a:off x="3204720" y="2564280"/>
              <a:ext cx="2231640" cy="11217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54f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Нетради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форм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ы предлагаем некоторые фрагменты уроков, проводимых в нетрадиционной фор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Сначала немного о дидактических играх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71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создать ситуацию игры дает любой предм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 на уроках русского языка школьники охотно выполняют задания, предлагаемые группам учащихся : представьте себе , что вы работаете в редакции и отвечаете за выпуск очередного номера газеты , а в текст вкрались ошибки; найдите их и исправьте. Устранение различных просчетов, неточностей и противоречий требует активной умственной работы, воспитывает внимание , приучает контролировать других и себя; работа, основанная на активном поиске, значительно более эффекти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громное положительное влияние оказывает игра на учебную деятельность интеллектуально пассивных детей. Исследования психолога Л.С.Славиной показали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в процессе игры интеллектуально пассивный ребенок способен выполнить такое количество умственной работы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он совершенно не может одолеть в обычной учебной ситу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5" descr="j0299125"/>
          <p:cNvPicPr/>
          <p:nvPr/>
        </p:nvPicPr>
        <p:blipFill>
          <a:blip r:embed="rId1"/>
          <a:stretch/>
        </p:blipFill>
        <p:spPr>
          <a:xfrm>
            <a:off x="804384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7" name="Picture 15" descr="j0217698"/>
          <p:cNvPicPr/>
          <p:nvPr/>
        </p:nvPicPr>
        <p:blipFill>
          <a:blip r:embed="rId1"/>
          <a:stretch/>
        </p:blipFill>
        <p:spPr>
          <a:xfrm>
            <a:off x="3967200" y="2065320"/>
            <a:ext cx="1749240" cy="1698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81612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кольник не получает слова для запоминания в готовом виде , а должен теми или иными путями  «добыть» их сам. Например, построить ряд слов с определенной орфограммой. Не припомнить несколько слов, а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именно построить ряд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ких форм работы со словами изобретательный учитель может придумать мног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дописать по памяти начатое предложение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ле драки кулаками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овья  баснями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заменить два слова одн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мплект посуды – сервиз ; комплект одежды – костюм ; комплект мебели - … и т. 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гра «Третий лишний» широко распространена : сравнивая  три-четыре внешне похожих слова или предложения  , надо найти и исключить  «лишнее» , то есть не соответствующе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тальным по какому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о грамматическому призна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Рассмотрим урок математики «Игра *Математическое многоборье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985680" y="4009320"/>
            <a:ext cx="7623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интереса к математи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изация деятельности учителя и учащих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ние коллективизма, стремления к творческ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навыков коллективной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интереса к решению нестандартных задач и зад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формление: плакаты с высказываниями великих людей о математ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8:34:36Z</dcterms:created>
  <dc:creator>Злата</dc:creator>
  <dc:description/>
  <dc:language>en-US</dc:language>
  <cp:lastModifiedBy>user</cp:lastModifiedBy>
  <dcterms:modified xsi:type="dcterms:W3CDTF">2021-10-19T13:05:17Z</dcterms:modified>
  <cp:revision>18</cp:revision>
  <dc:subject/>
  <dc:title>Методическая разработка «Нетрадиционные формы урока»</dc:title>
</cp:coreProperties>
</file>