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39B5-B682-4D89-AF38-F6905D81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9D9D-27DB-41AE-8EC3-8A52B8D0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96AD-2450-4B1F-94B4-033016CC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A020-74B6-41A0-B707-2E7E22C2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0D4-FEDC-49F9-8233-B472100B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914D-262A-49F7-8AD5-37E6304D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0A89-49EA-4272-9BC7-1571ED3B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8EE7-BC2E-4737-BBA6-149EF6F1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C900-CC81-4EFE-B08D-C59479FA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8F72-E418-4407-8CBC-8D75DBEE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274E-95B7-4669-B327-6059CC4F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8DB8-91B5-43D1-BCD2-0EDE5E7B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2E4B-D464-4D0C-911F-5C4F5F70AB0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73"/>
          <p:cNvSpPr/>
          <p:nvPr/>
        </p:nvSpPr>
        <p:spPr>
          <a:xfrm>
            <a:off x="468360" y="404640"/>
            <a:ext cx="5365800" cy="64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ДЕ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«ТЕАТР И ДЕ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КАЗКА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«ВАРЕЖК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1,3 клас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7"/>
          <p:cNvSpPr/>
          <p:nvPr/>
        </p:nvSpPr>
        <p:spPr>
          <a:xfrm>
            <a:off x="468360" y="5373720"/>
            <a:ext cx="536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в гостях у сказки.mp3" descr=""/>
          <p:cNvPicPr/>
          <p:nvPr/>
        </p:nvPicPr>
        <p:blipFill>
          <a:blip r:embed="rId2"/>
          <a:stretch/>
        </p:blipFill>
        <p:spPr>
          <a:xfrm>
            <a:off x="324000" y="5683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Стоит в поле теремок, теремок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1835280" y="1600200"/>
            <a:ext cx="4465440" cy="3844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ТО, КТО В ТЕРЕМОЧКЕ ЖИВЕТ?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Я-МЫШКА-НОРУШК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Объект 6" descr=""/>
          <p:cNvPicPr/>
          <p:nvPr/>
        </p:nvPicPr>
        <p:blipFill>
          <a:blip r:embed="rId1"/>
          <a:stretch/>
        </p:blipFill>
        <p:spPr>
          <a:xfrm rot="20606400">
            <a:off x="1191960" y="2533680"/>
            <a:ext cx="3249360" cy="3029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А Я –СЕРЫЙ ВОЛК, ВОЗЬМИТЕ МЕНЯ В ТЕРЕМОК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Объект 7" descr=""/>
          <p:cNvPicPr/>
          <p:nvPr/>
        </p:nvPicPr>
        <p:blipFill>
          <a:blip r:embed="rId2"/>
          <a:stretch/>
        </p:blipFill>
        <p:spPr>
          <a:xfrm rot="517200">
            <a:off x="4870080" y="2547720"/>
            <a:ext cx="3870360" cy="3317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Я-СОБАЧКА, ВСЕХ КУСАЧКА, ВОЗЬМИТЕ И МЕН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Будем вместе дружно жи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Объект 9" descr=""/>
          <p:cNvPicPr/>
          <p:nvPr/>
        </p:nvPicPr>
        <p:blipFill>
          <a:blip r:embed="rId1"/>
          <a:stretch/>
        </p:blipFill>
        <p:spPr>
          <a:xfrm rot="357000">
            <a:off x="4791240" y="2766960"/>
            <a:ext cx="4041720" cy="3030480"/>
          </a:xfrm>
          <a:prstGeom prst="rect">
            <a:avLst/>
          </a:prstGeom>
          <a:ln w="0">
            <a:noFill/>
          </a:ln>
        </p:spPr>
      </p:pic>
      <p:pic>
        <p:nvPicPr>
          <p:cNvPr id="55" name="Объект 8" descr=""/>
          <p:cNvPicPr/>
          <p:nvPr/>
        </p:nvPicPr>
        <p:blipFill>
          <a:blip r:embed="rId2"/>
          <a:stretch/>
        </p:blipFill>
        <p:spPr>
          <a:xfrm rot="20887200">
            <a:off x="457200" y="2634840"/>
            <a:ext cx="4040280" cy="30304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Спасибо за аплодисмент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Объект 6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5267520" cy="3532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ssolve/>
    <p:sndAc>
      <p:stSnd>
        <p:snd r:embed="rId2" name="applause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Людмила Евгеньевна</cp:lastModifiedBy>
  <dcterms:modified xsi:type="dcterms:W3CDTF">2015-01-23T04:58:07Z</dcterms:modified>
  <cp:revision>791</cp:revision>
  <dc:subject/>
  <dc:title>Diapositiva 1</dc:title>
</cp:coreProperties>
</file>