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F44-89B9-49FD-96AB-34B5646E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CC4-63C8-487E-A4CC-E9E726AC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D90-A081-4CDD-8585-B8A4A78C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FF7-AA93-4592-AF50-BC7FDBD5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643DE-A4BF-4B14-9548-F1C6132F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D02DE-4BBD-4D58-ACAC-0BBAB77E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CD261-E1F5-4000-8B9D-B9FAF612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DC9F4-6839-4558-BF80-2DEEC9F6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BA6B2-318C-493A-9815-6B056B0E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36BA5-2EFD-49D8-A74C-334161D8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13941-68C2-4BAD-BE2E-4EA971B6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6CB-2072-4ABE-B59F-180D0E11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A89CA-DB9C-4242-A5B2-B1E0937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F1283-D0BD-48E9-84BE-3182D6EB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60581-7BE2-4507-8D1F-38707B76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8F607-E2FB-49E5-AB8F-1289FCDC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37BBE-BD40-4663-A53D-43A95129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5BFED-C498-4AAC-B30E-5867753D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A54A7-5065-49FE-8D85-CB0DA0DA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F175-9F8B-4B89-A422-939B37BF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6F493-745B-4B0D-86B1-CAC74FFF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6496-1E4A-4EE3-8D97-883DBBD4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4C5-920E-40F3-8DEA-A2049F06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9764-283F-4D8C-AD3A-E8942FCD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92EF0-A833-430E-AFBD-D1B33A08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1C78B-8F94-4BDA-876C-CCDFF5BC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BEE63-9C6A-41DB-BDAF-19C7F5CE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A036E-F93F-46D3-95D1-1A9D6A36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AE74F-AE9E-45A1-88FB-8395F261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8FC97-E53A-49E6-8D42-2901A019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43A309-82C4-4952-8A1C-B5CEC05A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B6B577-76F6-4C27-B13D-D2E3F9A4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E77BC-275A-4FE8-B0C8-992F7247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B36-1EBA-4D2B-8930-3C99756C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2BD6B2-C1C8-48FE-8EE3-4A5F2518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B43D83-7EB4-4038-932B-17F9F9FA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C13BEB-DFFF-43D7-8F7B-B5FBB24A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61CE66-660B-4523-95C4-7DCDF3FA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05D47E-DEA4-459C-AA54-0CB03F8F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82E91E-D228-4547-9A16-28297370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0BB960-5A0F-4A8D-B016-0355EAE5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46BF1-9064-4DC6-BDFB-76BA2EBF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187E0-825A-43CB-A10E-C37DBA3B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1FBED8-B7B3-40E2-BA52-ECA21FB0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D45-FEE1-4B06-9DE1-5B83BC28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F6DDD2-A536-4B3A-B290-2A54AC56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9C762-D66A-425E-8B2C-0E0B79F1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EEED0-1606-4351-8B8D-B10FD223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65170-A94E-491F-9E3C-A2F6F85B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D7284-5B4E-4C8A-918D-468ED5BF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D8F3E-2ED8-483C-9BBF-1EAB90F4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6AB7B-E782-4102-8E9E-9E834768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2D1C5-0562-40E9-BD2A-92CEC420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1FB03-D195-423D-9F6E-47E33B05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0EE61-2BE4-4F2A-B6C0-846360F3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761-E9C8-48EF-83FE-FC9215D9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A5F53-B7B9-4148-B8C7-EB8CDA60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3F6CE-BAC1-4394-B95A-2CF6193D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07EC65-3802-4717-8044-A8B94591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8A12CB-5305-4A52-8016-E67574F9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03F34-8620-407E-B95E-701A2E6F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B2DD3-42B5-4D97-88A8-59BFA430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AE8C9-3BF6-45B6-832A-A49F4ADF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86E6BF-E991-493E-946D-69FF6305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25B4E-17CD-4992-8ACE-BCAC1FB2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B4152-4D7C-427C-9316-1B00C8A0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F50-B7D8-4524-A5D6-5595AA0A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A7A395-05BA-4610-844C-98CA0D64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563523-DB8D-4B4C-A953-CC7EEB46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24717-3455-4E25-B030-1DF2E679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CF2-53D7-4D45-B676-956F044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A0E-C224-44F7-92E6-BDD0A331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F3E7-1B94-4BC9-8FEA-283CE9E07F1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C065-8341-493F-A6D7-47A952FC89A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5074-1FD2-4507-85F3-D4F143312FF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3C2D-0AFE-4ADE-A286-43922ABD4C8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6E78-4B8A-4A77-B141-BD2D2C0FFE6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9EF3-E288-42D6-B5E5-58F3845B0AD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463680" y="36360"/>
            <a:ext cx="7785000" cy="170028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3" descr=""/>
          <p:cNvPicPr/>
          <p:nvPr/>
        </p:nvPicPr>
        <p:blipFill>
          <a:blip r:embed="rId3"/>
          <a:stretch/>
        </p:blipFill>
        <p:spPr>
          <a:xfrm>
            <a:off x="2843280" y="1700280"/>
            <a:ext cx="33782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103320" y="469800"/>
            <a:ext cx="7785000" cy="123660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3" descr=""/>
          <p:cNvPicPr/>
          <p:nvPr/>
        </p:nvPicPr>
        <p:blipFill>
          <a:blip r:embed="rId3"/>
          <a:stretch/>
        </p:blipFill>
        <p:spPr>
          <a:xfrm>
            <a:off x="5940360" y="0"/>
            <a:ext cx="3187800" cy="40053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"/>
          <p:cNvPicPr/>
          <p:nvPr/>
        </p:nvPicPr>
        <p:blipFill>
          <a:blip r:embed="rId4"/>
          <a:stretch/>
        </p:blipFill>
        <p:spPr>
          <a:xfrm>
            <a:off x="-38160" y="1650960"/>
            <a:ext cx="4351320" cy="32799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5" descr=""/>
          <p:cNvPicPr/>
          <p:nvPr/>
        </p:nvPicPr>
        <p:blipFill>
          <a:blip r:embed="rId5"/>
          <a:srcRect l="0" t="0" r="0" b="10094"/>
          <a:stretch/>
        </p:blipFill>
        <p:spPr>
          <a:xfrm>
            <a:off x="3564000" y="3425760"/>
            <a:ext cx="5041800" cy="3008520"/>
          </a:xfrm>
          <a:prstGeom prst="rect">
            <a:avLst/>
          </a:prstGeom>
          <a:ln w="0">
            <a:noFill/>
          </a:ln>
        </p:spPr>
      </p:pic>
      <p:pic>
        <p:nvPicPr>
          <p:cNvPr id="258" name="Nikolay-Rimskiy-Korsakov-Car_-Saltan-syuita-quotTri-Chudaquot-Рntrodukciya-k-3-aktu(muzofon.com).mp3" descr=""/>
          <p:cNvPicPr/>
          <p:nvPr/>
        </p:nvPicPr>
        <p:blipFill>
          <a:blip r:embed="rId6"/>
          <a:stretch/>
        </p:blipFill>
        <p:spPr>
          <a:xfrm>
            <a:off x="777960" y="524520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2312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3" descr=""/>
          <p:cNvPicPr/>
          <p:nvPr/>
        </p:nvPicPr>
        <p:blipFill>
          <a:blip r:embed="rId3"/>
          <a:stretch/>
        </p:blipFill>
        <p:spPr>
          <a:xfrm>
            <a:off x="1403280" y="1268280"/>
            <a:ext cx="6734160" cy="5195880"/>
          </a:xfrm>
          <a:prstGeom prst="rect">
            <a:avLst/>
          </a:prstGeom>
          <a:ln w="0">
            <a:noFill/>
          </a:ln>
        </p:spPr>
      </p:pic>
      <p:pic>
        <p:nvPicPr>
          <p:cNvPr id="261" name="Rimskiy-Korsakov-Nikolay-Andreevich-Shaherezada---More-i-korabl_-Sinbada(muzofon.com).mp3" descr=""/>
          <p:cNvPicPr/>
          <p:nvPr/>
        </p:nvPicPr>
        <p:blipFill>
          <a:blip r:embed="rId4"/>
          <a:stretch/>
        </p:blipFill>
        <p:spPr>
          <a:xfrm>
            <a:off x="611280" y="522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70560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68360" y="549360"/>
            <a:ext cx="40384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й, как было у царя, у Горох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поймешь, где хорошо, а где плохо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ж как доченька была Несмеяна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лёзы горькие лила, что из крана!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сё ревела целый день, как белуг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Галки дохли на лету с перепуг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Бедный старый царь Горох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лушал, слушал да огло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личет: "Дайте мне Емелю!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Жду которую неделю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Жду которую неделю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 Несмеяною БЕДА!"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42920" y="620280"/>
            <a:ext cx="40388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От царевны, что беды, что урона!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Протекай потолок возле трон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У трапезной тоже вид затрапезны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Хоть черпай, хоть не черпай бесполезно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День и ночь глядит Горох на дорогу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Мужика Емелю ждёт на подмог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А на русской на печ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Жаром пышут кирпичи!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Во Горохову столицу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На печи Емеля мчится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На печи Емеля мчитс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Балалаечка звенит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Яков Дубравин Про Емелю (минус).mp3" descr=""/>
          <p:cNvPicPr/>
          <p:nvPr/>
        </p:nvPicPr>
        <p:blipFill>
          <a:blip r:embed="rId2"/>
          <a:stretch/>
        </p:blipFill>
        <p:spPr>
          <a:xfrm>
            <a:off x="3657600" y="5732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1397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371600" y="475920"/>
            <a:ext cx="6400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6:00:03Z</dcterms:created>
  <dc:creator>Садовская Елена Юрьевна</dc:creator>
  <dc:description/>
  <dc:language>en-US</dc:language>
  <cp:lastModifiedBy>рик</cp:lastModifiedBy>
  <dcterms:modified xsi:type="dcterms:W3CDTF">2021-10-19T05:22:19Z</dcterms:modified>
  <cp:revision>8</cp:revision>
  <dc:subject/>
  <dc:title>Презентация PowerPoint</dc:title>
</cp:coreProperties>
</file>