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4.gif" ContentType="image/gif"/>
  <Override PartName="/ppt/media/image12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4EA5-ADFE-44A7-9012-B084E3D841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21E4-A1D8-41E8-B278-49914361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3C0F-6FFE-4DAD-8943-085A7357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D335-7DBD-4867-AB69-A88B6A12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8758-3197-4AB1-90C5-3192F2F6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71D1-D1EF-4A82-9F1C-760AF28A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6708-C5AC-4540-8E45-E34FE090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62A0-A677-444F-B820-5474291C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9EE9-B760-4C7E-B50F-EDD0A61D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DB94-28F9-4DD7-A4C5-E8159013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DEE3-FAED-40C8-B780-AF37C821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2D6B-3CD6-43F9-887D-873AFA1F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5DB-EDB5-486E-973E-33B3B3DE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DB7E-A734-48BA-B2AD-42009AC1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2782-A108-425D-B5C7-3BD720B6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3DE5-E06F-4EFA-8FD9-EF393095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A39C-ABF6-446B-B516-7DD841EB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E439-2DCD-492C-85CE-9188313C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3113-7B26-4C58-BF60-C7E63107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27E-555A-44E0-92D3-074308AD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6EF-EEC2-449D-A14A-C6823B80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F0B-682A-4B49-A777-31ED97D1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70EF-050E-4D7E-B4ED-E11F0B05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1912-5715-49C5-A9EA-191297CA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F695-0C13-4AA8-ABCD-AC5E8580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2A60-CA00-4F85-9CC9-27E44210684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D7ED-90A9-4302-8B7C-B4692B97F24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Garamond"/>
              </a:rPr>
              <a:t>Урок №5</a:t>
            </a:r>
            <a:br>
              <a:rPr sz="5000"/>
            </a:br>
            <a:r>
              <a:rPr b="0" lang="en-US" sz="5000" spc="-1" strike="noStrike">
                <a:solidFill>
                  <a:srgbClr val="ff0000"/>
                </a:solidFill>
                <a:latin typeface="Garamond"/>
              </a:rPr>
              <a:t>Строение клетки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формировать понятие о строении кле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родолжить формирование умения работать с микроскоп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87840" y="208080"/>
            <a:ext cx="23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ния жизни 6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721640" y="13644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/З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05636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Строение клетки гриб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612800" y="1600200"/>
            <a:ext cx="5918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Строение животной клет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050920" y="1960560"/>
            <a:ext cx="5042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Строение растительной клет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551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24360" y="1484280"/>
            <a:ext cx="4284720" cy="46688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Garamond"/>
              </a:rPr>
              <a:t>Оболочка  клетк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530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95120" y="198288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л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67120" y="3495600"/>
            <a:ext cx="12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2349360"/>
            <a:ext cx="23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3789360"/>
            <a:ext cx="3097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3860640"/>
            <a:ext cx="23036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Цитоплазма клет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700280"/>
            <a:ext cx="822960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4784760" y="2295360"/>
            <a:ext cx="3350880" cy="3500280"/>
            <a:chOff x="4784760" y="2295360"/>
            <a:chExt cx="3350880" cy="350028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4918680" y="2295360"/>
              <a:ext cx="3216960" cy="34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784760" y="2553480"/>
              <a:ext cx="3252960" cy="3242160"/>
            </a:xfrm>
            <a:prstGeom prst="donut">
              <a:avLst>
                <a:gd name="adj" fmla="val 484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Пласти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2952720" cy="2365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11600" y="2060640"/>
            <a:ext cx="19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692360" y="4149720"/>
            <a:ext cx="6299280" cy="23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Виды пластид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08000" y="4221000"/>
            <a:ext cx="2952720" cy="2016360"/>
            <a:chOff x="1908000" y="4221000"/>
            <a:chExt cx="2952720" cy="20163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2965320" y="4221000"/>
              <a:ext cx="1895400" cy="20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flipV="1">
              <a:off x="1908000" y="5141520"/>
              <a:ext cx="1062720" cy="165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124000" y="2708280"/>
            <a:ext cx="4105080" cy="1800360"/>
            <a:chOff x="2124000" y="2708280"/>
            <a:chExt cx="4105080" cy="180036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4365360" y="2708280"/>
              <a:ext cx="186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 flipV="1">
              <a:off x="2124000" y="3538800"/>
              <a:ext cx="2241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763640" y="1052640"/>
            <a:ext cx="6227640" cy="1920600"/>
            <a:chOff x="1763640" y="1052640"/>
            <a:chExt cx="6227640" cy="1920600"/>
          </a:xfrm>
        </p:grpSpPr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6050880" y="1052640"/>
              <a:ext cx="194040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 flipV="1">
              <a:off x="1763640" y="1847520"/>
              <a:ext cx="425088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116000" y="1628640"/>
            <a:ext cx="1281240" cy="4534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770360" y="553716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йк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95800" y="4097160"/>
            <a:ext cx="19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62520" y="292428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ом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Пример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4640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888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Вакуол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1000" y="2484360"/>
            <a:ext cx="2328840" cy="2362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030480" y="1960560"/>
            <a:ext cx="2722680" cy="3411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103800" y="1305000"/>
            <a:ext cx="2689200" cy="472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21:51:22Z</dcterms:created>
  <dc:creator>Admin</dc:creator>
  <dc:description/>
  <dc:language>en-US</dc:language>
  <cp:lastModifiedBy>Admin</cp:lastModifiedBy>
  <dcterms:modified xsi:type="dcterms:W3CDTF">2012-05-15T19:04:20Z</dcterms:modified>
  <cp:revision>8</cp:revision>
  <dc:subject/>
  <dc:title>Строение клетки</dc:title>
</cp:coreProperties>
</file>