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9.png" ContentType="image/pn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47.png" ContentType="image/png"/>
  <Override PartName="/ppt/media/image35.jpeg" ContentType="image/jpeg"/>
  <Override PartName="/ppt/media/image17.png" ContentType="image/png"/>
  <Override PartName="/ppt/media/image5.png" ContentType="image/png"/>
  <Override PartName="/ppt/media/image14.jpeg" ContentType="image/jpeg"/>
  <Override PartName="/ppt/media/image15.jpeg" ContentType="image/jpeg"/>
  <Override PartName="/ppt/media/image27.jpeg" ContentType="image/jpeg"/>
  <Override PartName="/ppt/media/image52.png" ContentType="image/png"/>
  <Override PartName="/ppt/media/image24.png" ContentType="image/png"/>
  <Override PartName="/ppt/media/image60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2.png" ContentType="image/png"/>
  <Override PartName="/ppt/media/image16.jpeg" ContentType="image/jpeg"/>
  <Override PartName="/ppt/media/image2.png" ContentType="image/png"/>
  <Override PartName="/ppt/media/image32.png" ContentType="image/png"/>
  <Override PartName="/ppt/media/image10.wmf" ContentType="image/x-wmf"/>
  <Override PartName="/ppt/media/image7.wmf" ContentType="image/x-wmf"/>
  <Override PartName="/ppt/media/image9.jpeg" ContentType="image/jpeg"/>
  <Override PartName="/ppt/media/image48.png" ContentType="image/png"/>
  <Override PartName="/ppt/media/image8.wmf" ContentType="image/x-wmf"/>
  <Override PartName="/ppt/media/image30.png" ContentType="image/png"/>
  <Override PartName="/ppt/media/image31.png" ContentType="image/png"/>
  <Override PartName="/ppt/media/image34.jpeg" ContentType="image/jpeg"/>
  <Override PartName="/ppt/media/image37.png" ContentType="image/png"/>
  <Override PartName="/ppt/media/image38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5.png" ContentType="image/png"/>
  <Override PartName="/ppt/media/image56.png" ContentType="image/png"/>
  <Override PartName="/ppt/media/image59.jpeg" ContentType="image/jpeg"/>
  <Override PartName="/ppt/media/image18.png" ContentType="image/png"/>
  <Override PartName="/ppt/media/image40.wmf" ContentType="image/x-wmf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515-E36C-45EF-BA05-BA1ABF85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472-0D75-4532-A81F-820B61EE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706-E5EC-4337-ADE9-C04A11B6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71D-249A-4105-BD1D-8A8E0399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02FF-FDB1-4A10-9EB3-51FC3C33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E5D-79EB-483A-BC8B-9A2A696D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ACE-D177-4058-8B50-7BC4FBE6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B52B-E267-480D-8ED3-D731C5A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7FCF-06D5-4832-B403-14B7D1A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571-4B58-4185-A433-B4F714D1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514C-E09B-4CCF-A1B9-5057597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1A3-6208-4709-855B-7E5450C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0DB7-4CF4-482E-9686-56936F7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92B0-7BDE-46DA-A458-AF5F8311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AA3D-B5DB-4392-983C-1FC50CEB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611-F1ED-4D32-BC5F-9C2A739D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284F-7DF9-47DC-AA0C-424BD96A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EC65-7787-40B6-9EE7-A9CFE043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CECC-2EB1-418F-B3EF-FAF7878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324E-FA5F-422C-831B-2B6C63D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3FBA-AEC0-48E4-9B3B-7984F12F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B474-5E92-4BCC-A552-62031734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A02-0278-4FFA-B98F-1091744E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418C-6291-4F3F-A21D-259CE4DE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51FA-D953-4025-A8A9-BAD6A13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20B5-24D0-4D06-B5AE-1A506E7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138B-121A-4472-B231-B1CF406A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EC11-BA78-4F7A-8A55-D5564B3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8EB5-2DE0-4C81-B955-42281D5B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2DDB-6B79-44D7-A225-B1D8A387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0755-BB58-4553-B4D8-C3C92E55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5FBC-D72A-4000-BA93-54AD4EB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78DC-925B-41CB-8FC0-1CC5395E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85C-3738-4994-96A4-F91BDC7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07BC-48B3-4B1F-BFD0-092187C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B500-F2C8-4696-899A-D2A63219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6F4A-6059-4B61-9966-C7ABDE17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9EFD-1CD0-4B92-8694-EAECDB6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D4A3-7A0E-4556-97AD-7D77EF1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DC0D-C765-4E64-85E9-6B12183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5522-EFB1-40E0-A462-054AD982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2304-FACC-4B7E-A6DE-703A8EBB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7813-AD08-491B-AC2B-80C0FA0A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8010-C504-494F-863C-2C31BEC0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60A-1028-45DF-92E7-088A7F7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CEE7E-E60D-484E-B38C-D7956DE7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25B0-BCBE-4404-BD12-1E3DB8C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95AA6-3E66-4797-9D2B-CD3132D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FAEA-D4F7-40EB-AD50-F38B518A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AA58-4EE4-4F20-80BD-C6928B1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5CF9-B337-436A-A5CD-F106617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CDB9-E677-4F35-80A5-452C3C2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EF91-5310-4B19-8CBD-78ECA13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B34C-C990-4E76-80E7-88268A8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9F81-EFDF-489D-BD8E-F96DA05C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D1A-57B2-40C9-BEA0-7C5B513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BEEF-E743-42C1-9B51-AB3C758C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9C84-D1B2-4733-8717-51CDF60E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801D-41E2-45FD-8EB6-928A9F7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AC0F-6937-40FA-BF30-599BCC6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D35E6-9A6D-454C-B0D0-2D9236B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3727-9D3F-4591-94B4-6D1AD16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5084-0493-4365-8122-741CAD4A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E751-64A9-4930-8EE4-98BAA45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EBE3-A14F-49B0-B406-0F96575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BEB6-724C-40AE-B26D-064D650B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513-C6E2-42E1-9EAD-BB1D68D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5A35-4815-4312-A8FC-3A9561FE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FD94-9D1F-4FA6-B8A6-D773E3EE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6B6E-D6E0-44B7-B33D-B37DE895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C5B7-5836-4BCA-A629-01421E86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C22BE-7D97-49FD-87F9-BBDECF7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70B5-A027-40E8-BC70-94537FD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E723-1D47-400C-8B55-D1DAA7E3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3705-F3DB-4613-B940-2ACEAB3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6B7B-F915-4B22-B20F-42597624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54AC-BB76-4770-AC85-680C31F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E0C-1773-4E2E-B0E5-F1FE6E6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A52B-17DA-46A7-8719-5668BE8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01A2-B7CA-4BFD-B6DA-E71FEC0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F3812-D02A-418B-8B48-A378333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464C-E9F7-4D0D-860F-FE6C2177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37B00-7F87-433E-B480-52D29344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32B-1FF8-4996-8183-CC0E1E9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2057-4304-4884-9076-AE47992EAB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E54-F515-4A91-AF52-F32E4946B3E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3A68-F433-4068-B9EE-66E6A4CC50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D5DF-2F6D-47B0-AB61-8FF1EA9D36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7730-C4E5-4327-B1E9-2E6B01EF48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3A1-C1F7-4B3E-ABB8-992A65FBEA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908E-F04C-49AE-8D52-46E6C6ED4A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39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ок №3.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вод информации в память компьютер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2" descr="074"/>
          <p:cNvPicPr/>
          <p:nvPr/>
        </p:nvPicPr>
        <p:blipFill>
          <a:blip r:embed="rId1"/>
          <a:stretch/>
        </p:blipFill>
        <p:spPr>
          <a:xfrm>
            <a:off x="3143160" y="2928960"/>
            <a:ext cx="3738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пьютеры и информ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Содержимое 3" descr="1957-1~1.JPG"/>
          <p:cNvPicPr/>
          <p:nvPr/>
        </p:nvPicPr>
        <p:blipFill>
          <a:blip r:embed="rId1"/>
          <a:stretch/>
        </p:blipFill>
        <p:spPr>
          <a:xfrm>
            <a:off x="1714680" y="1071720"/>
            <a:ext cx="3051000" cy="1714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4"/>
          <p:cNvSpPr/>
          <p:nvPr/>
        </p:nvSpPr>
        <p:spPr>
          <a:xfrm>
            <a:off x="5286240" y="128592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ов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5" descr="1977TR~2.JPG"/>
          <p:cNvPicPr/>
          <p:nvPr/>
        </p:nvPicPr>
        <p:blipFill>
          <a:blip r:embed="rId2"/>
          <a:stretch/>
        </p:blipFill>
        <p:spPr>
          <a:xfrm>
            <a:off x="2214720" y="4643280"/>
            <a:ext cx="1928520" cy="18986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1966IB~1.JPG"/>
          <p:cNvPicPr/>
          <p:nvPr/>
        </p:nvPicPr>
        <p:blipFill>
          <a:blip r:embed="rId3"/>
          <a:stretch/>
        </p:blipFill>
        <p:spPr>
          <a:xfrm>
            <a:off x="1857240" y="2928960"/>
            <a:ext cx="2830680" cy="17143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0"/>
          <p:cNvSpPr/>
          <p:nvPr/>
        </p:nvSpPr>
        <p:spPr>
          <a:xfrm>
            <a:off x="5429160" y="314316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екстов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5500800" y="500076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рафическ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пьютеры и информ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5072040" y="185724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вуков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0"/>
          <p:cNvSpPr/>
          <p:nvPr/>
        </p:nvSpPr>
        <p:spPr>
          <a:xfrm>
            <a:off x="4500720" y="4857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идео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9" descr="111"/>
          <p:cNvPicPr/>
          <p:nvPr/>
        </p:nvPicPr>
        <p:blipFill>
          <a:blip r:embed="rId1"/>
          <a:stretch/>
        </p:blipFill>
        <p:spPr>
          <a:xfrm>
            <a:off x="2000160" y="4214880"/>
            <a:ext cx="2000520" cy="173520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4" descr="220305.jpg"/>
          <p:cNvPicPr/>
          <p:nvPr/>
        </p:nvPicPr>
        <p:blipFill>
          <a:blip r:embed="rId2"/>
          <a:stretch/>
        </p:blipFill>
        <p:spPr>
          <a:xfrm>
            <a:off x="1857240" y="1143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D:\ИНФО\Рисуем на ПК в начальной школе\Безымянный1.png"/>
          <p:cNvPicPr/>
          <p:nvPr/>
        </p:nvPicPr>
        <p:blipFill>
          <a:blip r:embed="rId1"/>
          <a:stretch/>
        </p:blipFill>
        <p:spPr>
          <a:xfrm>
            <a:off x="2428920" y="357120"/>
            <a:ext cx="221436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96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97" name="Picture 2" descr="D:\Мои рисунки\Картинки для Office\COMPUT~1\G0303519.WMF"/>
            <p:cNvPicPr/>
            <p:nvPr/>
          </p:nvPicPr>
          <p:blipFill>
            <a:blip r:embed="rId2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" descr="D:\ИНФО\Рисуем на ПК в начальной школе\Безымянный3.png"/>
            <p:cNvPicPr/>
            <p:nvPr/>
          </p:nvPicPr>
          <p:blipFill>
            <a:blip r:embed="rId3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" name="Picture 3" descr="D:\ИНФО\Рисуем на ПК в начальной школе\Безымянный1.png"/>
          <p:cNvPicPr/>
          <p:nvPr/>
        </p:nvPicPr>
        <p:blipFill>
          <a:blip r:embed="rId4"/>
          <a:stretch/>
        </p:blipFill>
        <p:spPr>
          <a:xfrm>
            <a:off x="2428920" y="3071880"/>
            <a:ext cx="221436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0" name="Прямоугольник 9" descr=""/>
          <p:cNvPicPr/>
          <p:nvPr/>
        </p:nvPicPr>
        <p:blipFill>
          <a:blip r:embed="rId5"/>
          <a:stretch/>
        </p:blipFill>
        <p:spPr>
          <a:xfrm>
            <a:off x="1925640" y="2048040"/>
            <a:ext cx="2987640" cy="90792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11" descr=""/>
          <p:cNvPicPr/>
          <p:nvPr/>
        </p:nvPicPr>
        <p:blipFill>
          <a:blip r:embed="rId6"/>
          <a:stretch/>
        </p:blipFill>
        <p:spPr>
          <a:xfrm>
            <a:off x="5645160" y="2048040"/>
            <a:ext cx="2981160" cy="907920"/>
          </a:xfrm>
          <a:prstGeom prst="rect">
            <a:avLst/>
          </a:prstGeom>
          <a:ln w="0">
            <a:noFill/>
          </a:ln>
        </p:spPr>
      </p:pic>
      <p:grpSp>
        <p:nvGrpSpPr>
          <p:cNvPr id="402" name="Группа 14"/>
          <p:cNvGrpSpPr/>
          <p:nvPr/>
        </p:nvGrpSpPr>
        <p:grpSpPr>
          <a:xfrm>
            <a:off x="4890960" y="214200"/>
            <a:ext cx="3652920" cy="4748400"/>
            <a:chOff x="4890960" y="214200"/>
            <a:chExt cx="3652920" cy="4748400"/>
          </a:xfrm>
        </p:grpSpPr>
        <p:pic>
          <p:nvPicPr>
            <p:cNvPr id="403" name="Picture 5" descr="D:\ИНФО\Рисуем на ПК в начальной школе\Безымянный4.png"/>
            <p:cNvPicPr/>
            <p:nvPr/>
          </p:nvPicPr>
          <p:blipFill>
            <a:blip r:embed="rId7"/>
            <a:stretch/>
          </p:blipFill>
          <p:spPr>
            <a:xfrm>
              <a:off x="5714280" y="214200"/>
              <a:ext cx="28296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Полилиния 13"/>
            <p:cNvSpPr/>
            <p:nvPr/>
          </p:nvSpPr>
          <p:spPr>
            <a:xfrm>
              <a:off x="4890960" y="1704960"/>
              <a:ext cx="1420920" cy="3257640"/>
            </a:xfrm>
            <a:custGeom>
              <a:avLst/>
              <a:gdLst/>
              <a:ahLst/>
              <a:rect l="l" t="t" r="r" b="b"/>
              <a:pathLst>
                <a:path w="1420427" h="3258104">
                  <a:moveTo>
                    <a:pt x="1420427" y="0"/>
                  </a:moveTo>
                  <a:cubicBezTo>
                    <a:pt x="1296879" y="17755"/>
                    <a:pt x="1173332" y="35510"/>
                    <a:pt x="1047565" y="230819"/>
                  </a:cubicBezTo>
                  <a:cubicBezTo>
                    <a:pt x="921798" y="426128"/>
                    <a:pt x="760520" y="757561"/>
                    <a:pt x="665825" y="1171852"/>
                  </a:cubicBezTo>
                  <a:cubicBezTo>
                    <a:pt x="571130" y="1586143"/>
                    <a:pt x="590365" y="2368858"/>
                    <a:pt x="479394" y="2716567"/>
                  </a:cubicBezTo>
                  <a:cubicBezTo>
                    <a:pt x="368423" y="3064276"/>
                    <a:pt x="184211" y="3161190"/>
                    <a:pt x="0" y="3258104"/>
                  </a:cubicBezTo>
                </a:path>
              </a:pathLst>
            </a:custGeom>
            <a:noFill/>
            <a:ln w="2232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406" name="Picture 2" descr="D:\Мои рисунки\Картинки для Office\COMPUT~1\G0303519.WMF"/>
            <p:cNvPicPr/>
            <p:nvPr/>
          </p:nvPicPr>
          <p:blipFill>
            <a:blip r:embed="rId1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" descr="D:\ИНФО\Рисуем на ПК в начальной школе\Безымянный3.png"/>
            <p:cNvPicPr/>
            <p:nvPr/>
          </p:nvPicPr>
          <p:blipFill>
            <a:blip r:embed="rId2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8" name="Прямоугольник 9" descr=""/>
          <p:cNvPicPr/>
          <p:nvPr/>
        </p:nvPicPr>
        <p:blipFill>
          <a:blip r:embed="rId3"/>
          <a:stretch/>
        </p:blipFill>
        <p:spPr>
          <a:xfrm>
            <a:off x="1925640" y="2048040"/>
            <a:ext cx="2987640" cy="90792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оугольник 11" descr=""/>
          <p:cNvPicPr/>
          <p:nvPr/>
        </p:nvPicPr>
        <p:blipFill>
          <a:blip r:embed="rId4"/>
          <a:stretch/>
        </p:blipFill>
        <p:spPr>
          <a:xfrm>
            <a:off x="5857920" y="4687920"/>
            <a:ext cx="2981160" cy="907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2" descr="206"/>
          <p:cNvPicPr/>
          <p:nvPr/>
        </p:nvPicPr>
        <p:blipFill>
          <a:blip r:embed="rId5"/>
          <a:stretch/>
        </p:blipFill>
        <p:spPr>
          <a:xfrm>
            <a:off x="2500200" y="142920"/>
            <a:ext cx="1928880" cy="2071800"/>
          </a:xfrm>
          <a:prstGeom prst="rect">
            <a:avLst/>
          </a:prstGeom>
          <a:ln w="9360">
            <a:solidFill>
              <a:srgbClr val="26697a"/>
            </a:solidFill>
            <a:miter/>
          </a:ln>
        </p:spPr>
      </p:pic>
      <p:pic>
        <p:nvPicPr>
          <p:cNvPr id="411" name="Picture 32" descr="206"/>
          <p:cNvPicPr/>
          <p:nvPr/>
        </p:nvPicPr>
        <p:blipFill>
          <a:blip r:embed="rId6"/>
          <a:stretch/>
        </p:blipFill>
        <p:spPr>
          <a:xfrm>
            <a:off x="2714760" y="3143160"/>
            <a:ext cx="15001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19"/>
          <p:cNvGrpSpPr/>
          <p:nvPr/>
        </p:nvGrpSpPr>
        <p:grpSpPr>
          <a:xfrm>
            <a:off x="5000760" y="1785960"/>
            <a:ext cx="3422520" cy="3214800"/>
            <a:chOff x="5000760" y="1785960"/>
            <a:chExt cx="3422520" cy="3214800"/>
          </a:xfrm>
        </p:grpSpPr>
        <p:pic>
          <p:nvPicPr>
            <p:cNvPr id="413" name="Рисунок 17" descr="iCABUK8AT.jpg"/>
            <p:cNvPicPr/>
            <p:nvPr/>
          </p:nvPicPr>
          <p:blipFill>
            <a:blip r:embed="rId7"/>
            <a:stretch/>
          </p:blipFill>
          <p:spPr>
            <a:xfrm>
              <a:off x="6572520" y="1785960"/>
              <a:ext cx="1357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Полилиния 18"/>
            <p:cNvSpPr/>
            <p:nvPr/>
          </p:nvSpPr>
          <p:spPr>
            <a:xfrm>
              <a:off x="5000760" y="2987640"/>
              <a:ext cx="342252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4" descr="237"/>
          <p:cNvPicPr/>
          <p:nvPr/>
        </p:nvPicPr>
        <p:blipFill>
          <a:blip r:embed="rId1"/>
          <a:stretch/>
        </p:blipFill>
        <p:spPr>
          <a:xfrm>
            <a:off x="1500120" y="22860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9" descr=""/>
          <p:cNvPicPr/>
          <p:nvPr/>
        </p:nvPicPr>
        <p:blipFill>
          <a:blip r:embed="rId2"/>
          <a:stretch/>
        </p:blipFill>
        <p:spPr>
          <a:xfrm>
            <a:off x="2073240" y="1474920"/>
            <a:ext cx="2979720" cy="90792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1" descr=""/>
          <p:cNvPicPr/>
          <p:nvPr/>
        </p:nvPicPr>
        <p:blipFill>
          <a:blip r:embed="rId3"/>
          <a:stretch/>
        </p:blipFill>
        <p:spPr>
          <a:xfrm>
            <a:off x="5857920" y="3975120"/>
            <a:ext cx="2981160" cy="907920"/>
          </a:xfrm>
          <a:prstGeom prst="rect">
            <a:avLst/>
          </a:prstGeom>
          <a:ln w="0">
            <a:noFill/>
          </a:ln>
        </p:spPr>
      </p:pic>
      <p:grpSp>
        <p:nvGrpSpPr>
          <p:cNvPr id="418" name="Группа 15"/>
          <p:cNvGrpSpPr/>
          <p:nvPr/>
        </p:nvGrpSpPr>
        <p:grpSpPr>
          <a:xfrm>
            <a:off x="4857840" y="1857240"/>
            <a:ext cx="3857400" cy="2643480"/>
            <a:chOff x="4857840" y="1857240"/>
            <a:chExt cx="3857400" cy="2643480"/>
          </a:xfrm>
        </p:grpSpPr>
        <p:pic>
          <p:nvPicPr>
            <p:cNvPr id="419" name="Рисунок 13" descr="iCAMTOHLW.jpg"/>
            <p:cNvPicPr/>
            <p:nvPr/>
          </p:nvPicPr>
          <p:blipFill>
            <a:blip r:embed="rId4"/>
            <a:stretch/>
          </p:blipFill>
          <p:spPr>
            <a:xfrm>
              <a:off x="5286240" y="1857240"/>
              <a:ext cx="2882520" cy="14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Полилиния 18"/>
            <p:cNvSpPr/>
            <p:nvPr/>
          </p:nvSpPr>
          <p:spPr>
            <a:xfrm>
              <a:off x="4857840" y="2487600"/>
              <a:ext cx="385740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Прямоугольник 22"/>
          <p:cNvSpPr/>
          <p:nvPr/>
        </p:nvSpPr>
        <p:spPr>
          <a:xfrm>
            <a:off x="1857240" y="357120"/>
            <a:ext cx="3500640" cy="106740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3"/>
          <p:cNvSpPr/>
          <p:nvPr/>
        </p:nvSpPr>
        <p:spPr>
          <a:xfrm>
            <a:off x="1928880" y="28576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643280" y="46299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пьютерное устройство, которое располагается перед экраном дисплея и служит для набора текстов и управления компьютером с помощью клавиш, находящихся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руппы клавиш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5" name="Picture 2" descr="E:\Плакаты\Знакомство с клавиатурой.jpg"/>
          <p:cNvPicPr/>
          <p:nvPr/>
        </p:nvPicPr>
        <p:blipFill>
          <a:blip r:embed="rId1"/>
          <a:stretch/>
        </p:blipFill>
        <p:spPr>
          <a:xfrm>
            <a:off x="1928880" y="2500200"/>
            <a:ext cx="5929200" cy="22068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5"/>
          <p:cNvSpPr/>
          <p:nvPr/>
        </p:nvSpPr>
        <p:spPr>
          <a:xfrm>
            <a:off x="732960" y="1285920"/>
            <a:ext cx="30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унк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6"/>
          <p:cNvSpPr/>
          <p:nvPr/>
        </p:nvSpPr>
        <p:spPr>
          <a:xfrm>
            <a:off x="3224160" y="5286240"/>
            <a:ext cx="23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Симво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7"/>
          <p:cNvSpPr/>
          <p:nvPr/>
        </p:nvSpPr>
        <p:spPr>
          <a:xfrm>
            <a:off x="5857920" y="500076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урс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8"/>
          <p:cNvSpPr/>
          <p:nvPr/>
        </p:nvSpPr>
        <p:spPr>
          <a:xfrm>
            <a:off x="5724000" y="1214280"/>
            <a:ext cx="30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Дополн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301680" y="528624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Прямая со стрелкой 11"/>
          <p:cNvCxnSpPr/>
          <p:nvPr/>
        </p:nvCxnSpPr>
        <p:spPr>
          <a:xfrm flipH="1">
            <a:off x="3142440" y="1785960"/>
            <a:ext cx="72360" cy="10008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32" name="Прямая со стрелкой 12"/>
          <p:cNvCxnSpPr/>
          <p:nvPr/>
        </p:nvCxnSpPr>
        <p:spPr>
          <a:xfrm>
            <a:off x="3214800" y="1785600"/>
            <a:ext cx="100080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33" name="Прямая со стрелкой 18"/>
          <p:cNvCxnSpPr/>
          <p:nvPr/>
        </p:nvCxnSpPr>
        <p:spPr>
          <a:xfrm>
            <a:off x="3214800" y="1785600"/>
            <a:ext cx="200088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34" name="Прямая со стрелкой 20"/>
          <p:cNvCxnSpPr/>
          <p:nvPr/>
        </p:nvCxnSpPr>
        <p:spPr>
          <a:xfrm flipH="1">
            <a:off x="7214760" y="2071440"/>
            <a:ext cx="215280" cy="11437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435" name="Прямая со стрелкой 22"/>
          <p:cNvCxnSpPr/>
          <p:nvPr/>
        </p:nvCxnSpPr>
        <p:spPr>
          <a:xfrm flipV="1">
            <a:off x="1856160" y="4428720"/>
            <a:ext cx="35820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6" name="Прямая со стрелкой 25"/>
          <p:cNvCxnSpPr/>
          <p:nvPr/>
        </p:nvCxnSpPr>
        <p:spPr>
          <a:xfrm flipV="1">
            <a:off x="1857240" y="4357440"/>
            <a:ext cx="3501360" cy="1072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7" name="Прямая со стрелкой 28"/>
          <p:cNvCxnSpPr/>
          <p:nvPr/>
        </p:nvCxnSpPr>
        <p:spPr>
          <a:xfrm flipH="1" flipV="1">
            <a:off x="3928320" y="4285440"/>
            <a:ext cx="143640" cy="11437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38" name="Прямая со стрелкой 30"/>
          <p:cNvCxnSpPr/>
          <p:nvPr/>
        </p:nvCxnSpPr>
        <p:spPr>
          <a:xfrm flipH="1" flipV="1">
            <a:off x="6357240" y="4571640"/>
            <a:ext cx="214920" cy="929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39" name="Прямая со стрелкой 34"/>
          <p:cNvCxnSpPr/>
          <p:nvPr/>
        </p:nvCxnSpPr>
        <p:spPr>
          <a:xfrm flipH="1" flipV="1">
            <a:off x="6500520" y="3785400"/>
            <a:ext cx="72000" cy="17154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357200" y="121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в различных программах могут выполнять разные функ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2" name="Picture 6" descr="C:\Documents and Settings\Andrey\Мои документы\Мои рисунки\fkeyoverview.gif"/>
          <p:cNvPicPr/>
          <p:nvPr/>
        </p:nvPicPr>
        <p:blipFill>
          <a:blip r:embed="rId1"/>
          <a:srcRect l="4308" t="17856" r="5170" b="15812"/>
          <a:stretch/>
        </p:blipFill>
        <p:spPr>
          <a:xfrm>
            <a:off x="2714760" y="2428920"/>
            <a:ext cx="4673520" cy="192888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pic>
        <p:nvPicPr>
          <p:cNvPr id="443" name="Picture 7" descr="C:\Documents and Settings\Andrey\Мои документы\Мои рисунки\fkeyoverview_ctrl2.gif"/>
          <p:cNvPicPr/>
          <p:nvPr/>
        </p:nvPicPr>
        <p:blipFill>
          <a:blip r:embed="rId2"/>
          <a:srcRect l="6633" t="45073" r="11737" b="10526"/>
          <a:stretch/>
        </p:blipFill>
        <p:spPr>
          <a:xfrm>
            <a:off x="2714760" y="4684680"/>
            <a:ext cx="4643280" cy="19591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Прямоугольник 5"/>
          <p:cNvSpPr/>
          <p:nvPr/>
        </p:nvSpPr>
        <p:spPr>
          <a:xfrm>
            <a:off x="1428840" y="1214280"/>
            <a:ext cx="7215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on Comm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помощ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зывает меню пользов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просмотр содержим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редактирование текстов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копирование файла, директории или группы файлов и (или) дирек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- переименование или (и) пересылка файлов, директорий или групп файлов и ( 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создание под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удаление фалов, директорий или групп файлов и (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в верхней части экрана управляющее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on Comma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7358040" y="3143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1714680" y="300024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071720" y="41432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ние скриншот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ображения экр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500720" y="107172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214280" y="2071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исполнения команды, выход из программы, из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4500720" y="4286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307188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ит для переключения режима работы в некоторых 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6081840" y="414324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ка выполняем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440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285920" y="121428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357280" y="121428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лавиши TAB осуществляется перемещение по всем командам в группе на вкладке перед переходом к следующе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285920" y="500076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286000" y="450072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строчных и заглав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ps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орит, значит включен режим заглавных бук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не горит, значит включен режим строчных букв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C:\Documents and Settings\Andrey\Мои документы\Мои рисунки\ZA101678281049.gif"/>
          <p:cNvPicPr/>
          <p:nvPr/>
        </p:nvPicPr>
        <p:blipFill>
          <a:blip r:embed="rId1"/>
          <a:srcRect l="0" t="0" r="0" b="29867"/>
          <a:stretch/>
        </p:blipFill>
        <p:spPr>
          <a:xfrm>
            <a:off x="2500200" y="2286000"/>
            <a:ext cx="5667480" cy="199080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ка домашнего зад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5953320" cy="46004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5"/>
          <p:cNvSpPr/>
          <p:nvPr/>
        </p:nvSpPr>
        <p:spPr>
          <a:xfrm>
            <a:off x="2928960" y="18572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428920" y="2500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2357280" y="3143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2357280" y="4572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6572160" y="2928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D-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6572160" y="3643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ск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6572160" y="45007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нч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2"/>
          <p:cNvSpPr/>
          <p:nvPr/>
        </p:nvSpPr>
        <p:spPr>
          <a:xfrm>
            <a:off x="6572160" y="50720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икро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4929120" y="5786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2357280" y="5857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571760" y="150012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1571760" y="364320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643120" y="3714840"/>
            <a:ext cx="628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даляет символ справа от курсора или над курсором.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остается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1143000" y="5286240"/>
            <a:ext cx="2743200" cy="368280"/>
            <a:chOff x="1143000" y="5286240"/>
            <a:chExt cx="2743200" cy="368280"/>
          </a:xfrm>
        </p:grpSpPr>
        <p:sp>
          <p:nvSpPr>
            <p:cNvPr id="466" name="Text Box 3"/>
            <p:cNvSpPr/>
            <p:nvPr/>
          </p:nvSpPr>
          <p:spPr>
            <a:xfrm>
              <a:off x="1143000" y="5286240"/>
              <a:ext cx="2743200" cy="368280"/>
            </a:xfrm>
            <a:prstGeom prst="rect">
              <a:avLst/>
            </a:prstGeom>
            <a:solidFill>
              <a:srgbClr val="ff99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space (B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"/>
            <p:cNvSpPr/>
            <p:nvPr/>
          </p:nvSpPr>
          <p:spPr>
            <a:xfrm flipH="1">
              <a:off x="1219320" y="5514840"/>
              <a:ext cx="5335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"/>
          <p:cNvSpPr/>
          <p:nvPr/>
        </p:nvSpPr>
        <p:spPr>
          <a:xfrm>
            <a:off x="4071960" y="5214960"/>
            <a:ext cx="4714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яет символ, стоящий перед курсором (слева от курсора)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смещается в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786040" y="1214280"/>
            <a:ext cx="60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вставки/за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вставки новые символы вставляются между написа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замены новые символы печатаются поверх напис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35728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643200" y="1000080"/>
            <a:ext cx="5500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ша в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 для ввода коман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бора пунктов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ражения согласия на выполнение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 нажатии на клавиш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урсор перемещается на строчку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285920" y="1071720"/>
          <a:ext cx="2171520" cy="1931760"/>
        </p:xfrm>
        <a:graphic>
          <a:graphicData uri="http://schemas.openxmlformats.org/drawingml/2006/table">
            <a:tbl>
              <a:tblPr/>
              <a:tblGrid>
                <a:gridCol w="685800"/>
                <a:gridCol w="14857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9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74" name="Group 78"/>
          <p:cNvGrpSpPr/>
          <p:nvPr/>
        </p:nvGrpSpPr>
        <p:grpSpPr>
          <a:xfrm>
            <a:off x="1438200" y="2290680"/>
            <a:ext cx="1752480" cy="380880"/>
            <a:chOff x="1438200" y="2290680"/>
            <a:chExt cx="1752480" cy="380880"/>
          </a:xfrm>
        </p:grpSpPr>
        <p:sp>
          <p:nvSpPr>
            <p:cNvPr id="475" name="Text Box 74"/>
            <p:cNvSpPr/>
            <p:nvPr/>
          </p:nvSpPr>
          <p:spPr>
            <a:xfrm>
              <a:off x="2124000" y="2290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77"/>
            <p:cNvGrpSpPr/>
            <p:nvPr/>
          </p:nvGrpSpPr>
          <p:grpSpPr>
            <a:xfrm>
              <a:off x="1438200" y="2366640"/>
              <a:ext cx="533520" cy="304920"/>
              <a:chOff x="1438200" y="2366640"/>
              <a:chExt cx="533520" cy="304920"/>
            </a:xfrm>
          </p:grpSpPr>
          <p:sp>
            <p:nvSpPr>
              <p:cNvPr id="477" name="Line 75"/>
              <p:cNvSpPr/>
              <p:nvPr/>
            </p:nvSpPr>
            <p:spPr>
              <a:xfrm>
                <a:off x="1971720" y="236664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76"/>
              <p:cNvSpPr/>
              <p:nvPr/>
            </p:nvSpPr>
            <p:spPr>
              <a:xfrm flipH="1">
                <a:off x="1438200" y="267156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Rectangle 3"/>
          <p:cNvSpPr/>
          <p:nvPr/>
        </p:nvSpPr>
        <p:spPr>
          <a:xfrm>
            <a:off x="4786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7072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1"/>
          <p:cNvSpPr/>
          <p:nvPr/>
        </p:nvSpPr>
        <p:spPr>
          <a:xfrm>
            <a:off x="1285920" y="5500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клавиши работают всегда в прижатом состоянии, в комбинации с другими клавиш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имер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1447920"/>
            <a:ext cx="78627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ша с букв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печатается буква, противоположная установленному режи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Sh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t+Shi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ереключение я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Pa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рывание выполняемого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иф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 русском режиме печатает верхний правый симв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№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английском – верхний лев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50"/>
                </a:solidFill>
                <a:latin typeface="Corbel"/>
              </a:rPr>
              <a:t>Клавиши управления курсоро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85" name="Group 12"/>
          <p:cNvGrpSpPr/>
          <p:nvPr/>
        </p:nvGrpSpPr>
        <p:grpSpPr>
          <a:xfrm>
            <a:off x="3214800" y="4786200"/>
            <a:ext cx="2779200" cy="1604880"/>
            <a:chOff x="3214800" y="4786200"/>
            <a:chExt cx="2779200" cy="1604880"/>
          </a:xfrm>
        </p:grpSpPr>
        <p:sp>
          <p:nvSpPr>
            <p:cNvPr id="486" name="Rectangle 3"/>
            <p:cNvSpPr/>
            <p:nvPr/>
          </p:nvSpPr>
          <p:spPr>
            <a:xfrm>
              <a:off x="4290480" y="47862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321480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"/>
            <p:cNvSpPr/>
            <p:nvPr/>
          </p:nvSpPr>
          <p:spPr>
            <a:xfrm>
              <a:off x="518724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4290480" y="56358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7"/>
            <p:cNvSpPr/>
            <p:nvPr/>
          </p:nvSpPr>
          <p:spPr>
            <a:xfrm>
              <a:off x="4649400" y="573012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9"/>
            <p:cNvSpPr/>
            <p:nvPr/>
          </p:nvSpPr>
          <p:spPr>
            <a:xfrm flipV="1">
              <a:off x="4649400" y="487980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0"/>
            <p:cNvSpPr/>
            <p:nvPr/>
          </p:nvSpPr>
          <p:spPr>
            <a:xfrm>
              <a:off x="5366520" y="6013440"/>
              <a:ext cx="4485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1"/>
            <p:cNvSpPr/>
            <p:nvPr/>
          </p:nvSpPr>
          <p:spPr>
            <a:xfrm flipH="1">
              <a:off x="3394080" y="6013440"/>
              <a:ext cx="4478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Rectangle 16"/>
          <p:cNvSpPr/>
          <p:nvPr/>
        </p:nvSpPr>
        <p:spPr>
          <a:xfrm>
            <a:off x="2286000" y="107172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2286000" y="278604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1285920" y="19288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в начало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214280" y="37148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ремещает курсор в конец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"/>
          <p:cNvSpPr/>
          <p:nvPr/>
        </p:nvSpPr>
        <p:spPr>
          <a:xfrm>
            <a:off x="6429240" y="1000080"/>
            <a:ext cx="83844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6500880" y="271476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4572000" y="1857240"/>
            <a:ext cx="45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предыду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4714920" y="3714840"/>
            <a:ext cx="442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следую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1"/>
          <p:cNvSpPr/>
          <p:nvPr/>
        </p:nvSpPr>
        <p:spPr>
          <a:xfrm>
            <a:off x="4218120" y="435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2"/>
          <p:cNvSpPr/>
          <p:nvPr/>
        </p:nvSpPr>
        <p:spPr>
          <a:xfrm>
            <a:off x="4218480" y="6488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3"/>
          <p:cNvSpPr/>
          <p:nvPr/>
        </p:nvSpPr>
        <p:spPr>
          <a:xfrm>
            <a:off x="6149160" y="5786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4"/>
          <p:cNvSpPr/>
          <p:nvPr/>
        </p:nvSpPr>
        <p:spPr>
          <a:xfrm>
            <a:off x="2215800" y="5857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650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f7f7f"/>
                </a:solidFill>
                <a:latin typeface="Corbel"/>
              </a:rPr>
              <a:t>Симво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07" name="Picture 4" descr="D:\БИНОМ\Урок информатики в 5-7 классах\5 класс\1 раздел Компьютер для начинающих\3 урок\Безымянный.png"/>
          <p:cNvPicPr/>
          <p:nvPr/>
        </p:nvPicPr>
        <p:blipFill>
          <a:blip r:embed="rId1"/>
          <a:stretch/>
        </p:blipFill>
        <p:spPr>
          <a:xfrm>
            <a:off x="1214280" y="1214280"/>
            <a:ext cx="7737480" cy="300060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4"/>
          <p:cNvSpPr/>
          <p:nvPr/>
        </p:nvSpPr>
        <p:spPr>
          <a:xfrm>
            <a:off x="2201760" y="5143680"/>
            <a:ext cx="63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л служит для разделения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Скругленный прямоугольник 5"/>
          <p:cNvSpPr/>
          <p:nvPr/>
        </p:nvSpPr>
        <p:spPr>
          <a:xfrm>
            <a:off x="4071960" y="3786120"/>
            <a:ext cx="250020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c8300"/>
                </a:solidFill>
                <a:latin typeface="Corbel"/>
              </a:rPr>
              <a:t>Дополнительная клави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1000080" y="5357880"/>
            <a:ext cx="814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Num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включен цифровой режим малой клави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не 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цифровой режим малой клавиатуры выключен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321480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407196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492912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578628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321480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407196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321480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407196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4929120" y="271476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5786280" y="185724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4929120" y="185724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321480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07196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4929120" y="357192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D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5786280" y="357192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3214800" y="4429080"/>
            <a:ext cx="15714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4929120" y="4429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24"/>
          <p:cNvSpPr/>
          <p:nvPr/>
        </p:nvSpPr>
        <p:spPr>
          <a:xfrm>
            <a:off x="142920" y="192888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цифровой режим малой клави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Прямая со стрелкой 26"/>
          <p:cNvCxnSpPr/>
          <p:nvPr/>
        </p:nvCxnSpPr>
        <p:spPr>
          <a:xfrm flipV="1">
            <a:off x="2571480" y="1499400"/>
            <a:ext cx="572040" cy="4294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31" name="Прямая со стрелкой 28"/>
          <p:cNvCxnSpPr/>
          <p:nvPr/>
        </p:nvCxnSpPr>
        <p:spPr>
          <a:xfrm flipH="1" flipV="1">
            <a:off x="3285360" y="3285360"/>
            <a:ext cx="2149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Прямая со стрелкой 29"/>
          <p:cNvCxnSpPr/>
          <p:nvPr/>
        </p:nvCxnSpPr>
        <p:spPr>
          <a:xfrm flipV="1">
            <a:off x="5000400" y="3285360"/>
            <a:ext cx="214920" cy="11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Прямая со стрелкой 32"/>
          <p:cNvCxnSpPr/>
          <p:nvPr/>
        </p:nvCxnSpPr>
        <p:spPr>
          <a:xfrm flipV="1">
            <a:off x="4285800" y="228528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Прямая со стрелкой 33"/>
          <p:cNvCxnSpPr/>
          <p:nvPr/>
        </p:nvCxnSpPr>
        <p:spPr>
          <a:xfrm>
            <a:off x="4285800" y="399960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Компьютерный практику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357200" y="171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7240" indent="-183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1. Знакомимся с клавиатуро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7240" indent="-183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7240" indent="-183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ик: страница № 138-14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7240" indent="-18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7" name="Рисунок 4" descr="g9.jpg"/>
          <p:cNvPicPr/>
          <p:nvPr/>
        </p:nvPicPr>
        <p:blipFill>
          <a:blip r:embed="rId1"/>
          <a:stretch/>
        </p:blipFill>
        <p:spPr>
          <a:xfrm>
            <a:off x="1571760" y="3857760"/>
            <a:ext cx="6984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13920" y="1285920"/>
            <a:ext cx="77295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п. 2.3; 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рабочая тетрадь: №6 на стр.57, №10 на стр.61, №11 на стр.62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143160" y="3214800"/>
            <a:ext cx="3786120" cy="3168360"/>
          </a:xfrm>
          <a:prstGeom prst="rect">
            <a:avLst/>
          </a:prstGeom>
          <a:ln w="0">
            <a:noFill/>
          </a:ln>
        </p:spPr>
      </p:pic>
      <p:sp>
        <p:nvSpPr>
          <p:cNvPr id="540" name="Заголовок 1"/>
          <p:cNvSpPr/>
          <p:nvPr/>
        </p:nvSpPr>
        <p:spPr>
          <a:xfrm>
            <a:off x="642960" y="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ая тетрадь: №3, стр. 56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4" descr="D:\Мои рисунки\Картинки для Office\HOUSEH~1\G0304638.WMF"/>
          <p:cNvPicPr/>
          <p:nvPr/>
        </p:nvPicPr>
        <p:blipFill>
          <a:blip r:embed="rId1"/>
          <a:stretch/>
        </p:blipFill>
        <p:spPr>
          <a:xfrm>
            <a:off x="1285920" y="1643040"/>
            <a:ext cx="1681200" cy="1650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D:\Мои рисунки\Рисунки0\HH00443_.WMF"/>
          <p:cNvPicPr/>
          <p:nvPr/>
        </p:nvPicPr>
        <p:blipFill>
          <a:blip r:embed="rId2"/>
          <a:stretch/>
        </p:blipFill>
        <p:spPr>
          <a:xfrm>
            <a:off x="6215040" y="3500280"/>
            <a:ext cx="1285920" cy="1108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D:\Мои рисунки\IMAGES1\tv.jpg"/>
          <p:cNvPicPr/>
          <p:nvPr/>
        </p:nvPicPr>
        <p:blipFill>
          <a:blip r:embed="rId3"/>
          <a:stretch/>
        </p:blipFill>
        <p:spPr>
          <a:xfrm>
            <a:off x="6929280" y="1714680"/>
            <a:ext cx="2000520" cy="1333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D:\Мои рисунки\Рисунки0\HH01080_.WMF"/>
          <p:cNvPicPr/>
          <p:nvPr/>
        </p:nvPicPr>
        <p:blipFill>
          <a:blip r:embed="rId4"/>
          <a:stretch/>
        </p:blipFill>
        <p:spPr>
          <a:xfrm>
            <a:off x="2786040" y="3286080"/>
            <a:ext cx="785880" cy="12589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7" descr="urlpreviewCAGVYD43.jpg"/>
          <p:cNvPicPr/>
          <p:nvPr/>
        </p:nvPicPr>
        <p:blipFill>
          <a:blip r:embed="rId5"/>
          <a:stretch/>
        </p:blipFill>
        <p:spPr>
          <a:xfrm>
            <a:off x="4429080" y="5143680"/>
            <a:ext cx="11905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8" descr="preview.jpg"/>
          <p:cNvPicPr/>
          <p:nvPr/>
        </p:nvPicPr>
        <p:blipFill>
          <a:blip r:embed="rId6"/>
          <a:stretch/>
        </p:blipFill>
        <p:spPr>
          <a:xfrm>
            <a:off x="1571760" y="5000760"/>
            <a:ext cx="1773000" cy="13334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9" descr="urlpreviewCA4FJBPD.jpg"/>
          <p:cNvPicPr/>
          <p:nvPr/>
        </p:nvPicPr>
        <p:blipFill>
          <a:blip r:embed="rId7"/>
          <a:stretch/>
        </p:blipFill>
        <p:spPr>
          <a:xfrm>
            <a:off x="6929280" y="5214960"/>
            <a:ext cx="1352880" cy="12384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0" descr="urlpreview.jpg"/>
          <p:cNvPicPr/>
          <p:nvPr/>
        </p:nvPicPr>
        <p:blipFill>
          <a:blip r:embed="rId8"/>
          <a:stretch/>
        </p:blipFill>
        <p:spPr>
          <a:xfrm>
            <a:off x="4286160" y="342900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1" descr="previewCAN5ADKD.jpg"/>
          <p:cNvPicPr/>
          <p:nvPr/>
        </p:nvPicPr>
        <p:blipFill>
          <a:blip r:embed="rId9"/>
          <a:stretch/>
        </p:blipFill>
        <p:spPr>
          <a:xfrm>
            <a:off x="4929120" y="1643040"/>
            <a:ext cx="1571760" cy="15573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2" descr="previewCARIU10L.jpg"/>
          <p:cNvPicPr/>
          <p:nvPr/>
        </p:nvPicPr>
        <p:blipFill>
          <a:blip r:embed="rId10"/>
          <a:stretch/>
        </p:blipFill>
        <p:spPr>
          <a:xfrm>
            <a:off x="3143160" y="1857240"/>
            <a:ext cx="13762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опрос: Что входит в базовую конфигурацию  ПК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28480" y="2214720"/>
            <a:ext cx="749916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Системный блок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Монитор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Клавиатур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Мышь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2" descr="074"/>
          <p:cNvPicPr/>
          <p:nvPr/>
        </p:nvPicPr>
        <p:blipFill>
          <a:blip r:embed="rId1"/>
          <a:stretch/>
        </p:blipFill>
        <p:spPr>
          <a:xfrm>
            <a:off x="5500800" y="3071880"/>
            <a:ext cx="2928960" cy="257472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4"/>
          <p:cNvSpPr/>
          <p:nvPr/>
        </p:nvSpPr>
        <p:spPr>
          <a:xfrm>
            <a:off x="1357200" y="2214720"/>
            <a:ext cx="7286760" cy="36432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3e21"/>
                </a:solidFill>
                <a:latin typeface="Corbel"/>
              </a:rPr>
              <a:t>Аппаратное обеспечение компьютер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85560" y="1071360"/>
            <a:ext cx="34290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5214960" y="1143000"/>
            <a:ext cx="3779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ы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одержимое 2"/>
          <p:cNvSpPr/>
          <p:nvPr/>
        </p:nvSpPr>
        <p:spPr>
          <a:xfrm>
            <a:off x="107172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обработк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одержимое 2"/>
          <p:cNvSpPr/>
          <p:nvPr/>
        </p:nvSpPr>
        <p:spPr>
          <a:xfrm>
            <a:off x="521496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хран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7" descr="3D_26"/>
          <p:cNvPicPr/>
          <p:nvPr/>
        </p:nvPicPr>
        <p:blipFill>
          <a:blip r:embed="rId1"/>
          <a:stretch/>
        </p:blipFill>
        <p:spPr>
          <a:xfrm>
            <a:off x="5572080" y="2071800"/>
            <a:ext cx="1071720" cy="79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C:\Documents and Settings\Andrey\Мои документы\Мои рисунки\iCAMTOHLW.jpg"/>
          <p:cNvPicPr/>
          <p:nvPr/>
        </p:nvPicPr>
        <p:blipFill>
          <a:blip r:embed="rId2"/>
          <a:stretch/>
        </p:blipFill>
        <p:spPr>
          <a:xfrm>
            <a:off x="1285920" y="2071800"/>
            <a:ext cx="1371600" cy="712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3" descr="097"/>
          <p:cNvPicPr/>
          <p:nvPr/>
        </p:nvPicPr>
        <p:blipFill>
          <a:blip r:embed="rId3"/>
          <a:stretch/>
        </p:blipFill>
        <p:spPr>
          <a:xfrm>
            <a:off x="3000240" y="2000160"/>
            <a:ext cx="811440" cy="723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5" descr="3D_28"/>
          <p:cNvPicPr/>
          <p:nvPr/>
        </p:nvPicPr>
        <p:blipFill>
          <a:blip r:embed="rId4"/>
          <a:stretch/>
        </p:blipFill>
        <p:spPr>
          <a:xfrm>
            <a:off x="2071800" y="2857680"/>
            <a:ext cx="1060200" cy="785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Andrey\Мои документы\Мои рисунки\iCABUK8AT.jpg"/>
          <p:cNvPicPr/>
          <p:nvPr/>
        </p:nvPicPr>
        <p:blipFill>
          <a:blip r:embed="rId5"/>
          <a:stretch/>
        </p:blipFill>
        <p:spPr>
          <a:xfrm>
            <a:off x="3429000" y="285768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3" descr="3D_03"/>
          <p:cNvPicPr/>
          <p:nvPr/>
        </p:nvPicPr>
        <p:blipFill>
          <a:blip r:embed="rId6"/>
          <a:stretch/>
        </p:blipFill>
        <p:spPr>
          <a:xfrm>
            <a:off x="5643720" y="5072040"/>
            <a:ext cx="14904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3D_25"/>
          <p:cNvPicPr/>
          <p:nvPr/>
        </p:nvPicPr>
        <p:blipFill>
          <a:blip r:embed="rId7"/>
          <a:stretch/>
        </p:blipFill>
        <p:spPr>
          <a:xfrm>
            <a:off x="7143840" y="4929120"/>
            <a:ext cx="1727280" cy="941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3D_32"/>
          <p:cNvPicPr/>
          <p:nvPr/>
        </p:nvPicPr>
        <p:blipFill>
          <a:blip r:embed="rId8"/>
          <a:stretch/>
        </p:blipFill>
        <p:spPr>
          <a:xfrm>
            <a:off x="6429240" y="278604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3D_27"/>
          <p:cNvPicPr/>
          <p:nvPr/>
        </p:nvPicPr>
        <p:blipFill>
          <a:blip r:embed="rId9"/>
          <a:stretch/>
        </p:blipFill>
        <p:spPr>
          <a:xfrm>
            <a:off x="7929720" y="1928880"/>
            <a:ext cx="93168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C:\Documents and Settings\Andrey\Мои документы\Мои рисунки\iCA3RAFES.jpg"/>
          <p:cNvPicPr/>
          <p:nvPr/>
        </p:nvPicPr>
        <p:blipFill>
          <a:blip r:embed="rId10"/>
          <a:stretch/>
        </p:blipFill>
        <p:spPr>
          <a:xfrm>
            <a:off x="3000240" y="4857840"/>
            <a:ext cx="1071720" cy="1584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C:\Documents and Settings\Andrey\Мои документы\Мои рисунки\22.jpg"/>
          <p:cNvPicPr/>
          <p:nvPr/>
        </p:nvPicPr>
        <p:blipFill>
          <a:blip r:embed="rId11"/>
          <a:stretch/>
        </p:blipFill>
        <p:spPr>
          <a:xfrm>
            <a:off x="1500120" y="4786200"/>
            <a:ext cx="1143000" cy="1509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Andrey\Мои документы\Мои рисунки\iCAZYFKB1.jpg"/>
          <p:cNvPicPr/>
          <p:nvPr/>
        </p:nvPicPr>
        <p:blipFill>
          <a:blip r:embed="rId12"/>
          <a:stretch/>
        </p:blipFill>
        <p:spPr>
          <a:xfrm>
            <a:off x="6643800" y="5715000"/>
            <a:ext cx="1288800" cy="98748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9"/>
          <p:cNvSpPr/>
          <p:nvPr/>
        </p:nvSpPr>
        <p:spPr>
          <a:xfrm>
            <a:off x="4080960" y="1857240"/>
            <a:ext cx="15645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вторим правила ТБ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Прямоугольник с двумя скругленными противолежащими углами 3">
            <a:hlinkClick r:id="rId1" action="ppaction://hlinksldjump"/>
          </p:cNvPr>
          <p:cNvSpPr/>
          <p:nvPr/>
        </p:nvSpPr>
        <p:spPr>
          <a:xfrm>
            <a:off x="1428840" y="1857240"/>
            <a:ext cx="7215120" cy="1000440"/>
          </a:xfrm>
          <a:prstGeom prst="pi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авила поведения в кабинете информати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с двумя скругленными противолежащими углами 4">
            <a:hlinkClick r:id="rId2" action="ppaction://hlinksldjump"/>
          </p:cNvPr>
          <p:cNvSpPr/>
          <p:nvPr/>
        </p:nvSpPr>
        <p:spPr>
          <a:xfrm>
            <a:off x="1428840" y="3286080"/>
            <a:ext cx="7215120" cy="10000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язанност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с двумя скругленными противолежащими углами 5">
            <a:hlinkClick r:id="rId3" action="ppaction://hlinksldjump"/>
          </p:cNvPr>
          <p:cNvSpPr/>
          <p:nvPr/>
        </p:nvSpPr>
        <p:spPr>
          <a:xfrm>
            <a:off x="1428840" y="4929120"/>
            <a:ext cx="7215120" cy="10000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авильная посадка за рабочим м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Выноска со стрелкой вниз 6">
            <a:hlinkClick r:id="rId4" action="ppaction://hlinksldjump"/>
          </p:cNvPr>
          <p:cNvSpPr/>
          <p:nvPr/>
        </p:nvSpPr>
        <p:spPr>
          <a:xfrm>
            <a:off x="3643200" y="6286680"/>
            <a:ext cx="2786040" cy="428400"/>
          </a:xfrm>
          <a:prstGeom prst="downArrowCallout">
            <a:avLst>
              <a:gd name="adj1" fmla="val 24992"/>
              <a:gd name="adj2" fmla="val 25020"/>
              <a:gd name="adj3" fmla="val 25000"/>
              <a:gd name="adj4" fmla="val 6497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072200" y="1428840"/>
            <a:ext cx="1876680" cy="2428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orbel"/>
              </a:rPr>
              <a:t>Правила поведения в кабинете информатики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71360" y="1213920"/>
            <a:ext cx="761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кабинете ВТ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запрещается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ходиться в верхней одежде и без сменной обув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кабинете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запрещено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огать разъёмы соединительных провод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касаться к проводам 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касаться к экрану и задней стенке монитора и системного блок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ботать на клавиатуре при выключенном напряжен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ботать за ЭВМ во влажной одежде и с мокрыми рука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ласть вещи на составные части ЭВМ (особенно системный блок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Выноска со стрелкой вверх 5">
            <a:hlinkClick r:id="rId2" action="ppaction://hlinksldjump"/>
          </p:cNvPr>
          <p:cNvSpPr/>
          <p:nvPr/>
        </p:nvSpPr>
        <p:spPr>
          <a:xfrm>
            <a:off x="3214800" y="6215040"/>
            <a:ext cx="3429000" cy="428760"/>
          </a:xfrm>
          <a:prstGeom prst="upArrowCallout">
            <a:avLst>
              <a:gd name="adj1" fmla="val 24957"/>
              <a:gd name="adj2" fmla="val 24992"/>
              <a:gd name="adj3" fmla="val 25000"/>
              <a:gd name="adj4" fmla="val 700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вторим правила Т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бязанности учащихс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) Перед началом работы на ЭВМ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убедиться в отсутствии видимых неисправностей, в случае их обнаружения сообщить учителю и НЕ ЧИНИТЬ САМОМУ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писаться в журнале учё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ступить к работе по указанию учите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)  По окончании работы на ЭВМ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вести своё рабочее место в поряд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писать в журнале учёта все замеченные в процессе работы неисправ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дать выданные для работы раздаточные материалы, карточки, диске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7000920" y="2714760"/>
            <a:ext cx="1914480" cy="1514520"/>
          </a:xfrm>
          <a:prstGeom prst="rect">
            <a:avLst/>
          </a:prstGeom>
          <a:ln w="0">
            <a:noFill/>
          </a:ln>
        </p:spPr>
      </p:pic>
      <p:sp>
        <p:nvSpPr>
          <p:cNvPr id="377" name="Выноска со стрелкой вверх 6">
            <a:hlinkClick r:id="rId2" action="ppaction://hlinksldjump"/>
          </p:cNvPr>
          <p:cNvSpPr/>
          <p:nvPr/>
        </p:nvSpPr>
        <p:spPr>
          <a:xfrm>
            <a:off x="3214800" y="6215040"/>
            <a:ext cx="3429000" cy="428760"/>
          </a:xfrm>
          <a:prstGeom prst="upArrowCallout">
            <a:avLst>
              <a:gd name="adj1" fmla="val 24957"/>
              <a:gd name="adj2" fmla="val 24992"/>
              <a:gd name="adj3" fmla="val 25000"/>
              <a:gd name="adj4" fmla="val 700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вторим правила Т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7358040" y="1357200"/>
            <a:ext cx="1657440" cy="1560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7215120" y="4857840"/>
            <a:ext cx="1657440" cy="1641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равильная посадка за рабочим место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28440" y="1071360"/>
            <a:ext cx="7186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ул должен быть подобран в соответствии с ростом, спина в области нижних улов лопаток должна иметь опор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гол, образуемый предплечьем и плечом, а также голенью и бедром должен быть не менее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вень глаз при вертикальном расположении экрана должен приходиться на центр экрана или 2/3 его высоты, линия взора должна быть перпендикулярна экран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птимальное расстояние до глаз от монитора должно быть в пределах 60-70 с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водить физкультминутки, делать упражнения для гла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Выноска со стрелкой вверх 6">
            <a:hlinkClick r:id="rId3" action="ppaction://hlinksldjump"/>
          </p:cNvPr>
          <p:cNvSpPr/>
          <p:nvPr/>
        </p:nvSpPr>
        <p:spPr>
          <a:xfrm>
            <a:off x="3214800" y="6215040"/>
            <a:ext cx="3429000" cy="428760"/>
          </a:xfrm>
          <a:prstGeom prst="upArrowCallout">
            <a:avLst>
              <a:gd name="adj1" fmla="val 24957"/>
              <a:gd name="adj2" fmla="val 24992"/>
              <a:gd name="adj3" fmla="val 25000"/>
              <a:gd name="adj4" fmla="val 700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вторим правила Т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say</dc:creator>
  <dc:description/>
  <dc:language>en-US</dc:language>
  <cp:lastModifiedBy>kusay</cp:lastModifiedBy>
  <dcterms:modified xsi:type="dcterms:W3CDTF">2021-10-19T18:34:28Z</dcterms:modified>
  <cp:revision>140</cp:revision>
  <dc:subject/>
  <dc:title>Слайд 1</dc:title>
</cp:coreProperties>
</file>