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3BC-1ED5-4D33-94F7-E78AD65C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E5A-A81E-465F-B612-B94A642E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14D9-80E5-43B8-AAA1-FF72976F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D5C5-3A29-476A-B6B4-88E2DC1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2722-4D91-41D9-B50D-42BA195A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8A380-1360-4359-B0D6-194BFE4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9741B-3FB4-479B-9272-4436276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A3D93-BF4C-446D-8CE9-6D85742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EF72-C307-4A1F-B142-430D156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71ED-B50B-4701-8A92-1571EAB9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CC59-D7CC-4F7B-837E-BF068099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DAF-9EA4-4752-949F-AAFEA2AB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4CC-BC3B-4572-B98D-A904BD2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8B4F-4C35-4898-BAAB-86908411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7052-DA94-4A2F-9B79-DEAF555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1FA-726D-4E4F-A935-AA006DF9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B30E-E2EB-4861-B0EF-A2936C70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5B28-E816-4AF8-A4FE-07B7739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638-82A0-443A-9750-3ED2D24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B41-E64D-4952-BCA1-E34B940C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366-EFA6-4733-B648-A3891BE9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A7A-7506-4A03-90F7-1C9ECB4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DC67-12A3-4AF1-A672-C74B626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C73-C7C1-4E94-8467-73AF950E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1127-2C6E-468F-BA8F-98383D91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C20-0E35-4062-A448-AAE0232D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A0A3-A631-4110-B835-8241BBF7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23FD-0D7E-4D21-9152-B16F096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0881-6C69-430E-A5BC-7BFFA72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F0F9-A4F1-4A29-9015-3438D8C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143E-B338-428C-88A6-5497353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3FA-FE20-4F8C-9B98-1F40D62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A1CB-44ED-4FEB-BE29-4BCCF5C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5362-2AA9-434C-A4FA-173A31B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0309-BAD4-4C52-BF99-331F3F8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6BD1-0E9F-4DCB-96FA-4B7AA06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B562-E0E6-4FF9-B83E-97E3DF2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31BA-0333-4E39-9D75-897A66C6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7FB0-19D3-4735-8938-074561C3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C9AC-996D-49BB-96DD-E49E90E9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F7F0-BFAE-478F-82B3-F0A0BC1D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F5C84-B6E3-4051-BBCB-C45BBEDE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8ED-BA65-4AD2-8781-A861E886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68E1-E4B1-4D91-AD62-2EF9108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7BDE-4743-49CA-893F-C8853D58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597F-50EC-442E-8A78-C9AC23B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6E3F-8C7F-4017-BD53-9CA9135D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C28C-8B4F-4283-81E4-40BA6D9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6CA9-6029-4CA2-A546-B4DD005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EB840-CA01-4E95-918C-C542932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76FF-FC0E-4B06-A43D-2253B2C5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3B88-75C7-4985-B6BB-B01309B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DBD6-E9A9-48FF-A368-0B53DDCC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3B8-B5C0-4EBF-B3D3-19399D0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6B55-DEDF-4B15-BB37-AC384999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2C14-3C56-4C54-A629-9AEC5C9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263C-4DC8-499C-8EF3-326FBBAB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A6300-DDBE-4F85-B3CB-CCA0E05F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4EAA-41CC-4585-8D10-F224D4C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4728-E10F-4014-B386-4EAFACA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5F0F-2E99-4698-A5C3-462F9CB2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27FD-EB89-4C48-8EFB-AA1C677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FED7-B88D-46C5-9515-F9F19D17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533A-563E-43AF-BEE1-6AF08FAC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749-8AE0-4340-85C7-4C3775EC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114E-4AE3-474E-9E65-AD57935D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950C-6047-4938-8FE1-B48EA79C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624E9-2D30-420B-9736-21F03B04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4C19-9AD5-49B9-8D12-6C28E65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43B3-859F-4614-879E-9283627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B7D6-EDFC-4B69-895F-AB34D5A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E15D-913A-4460-9802-1486442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EB5F-7DDB-4469-B6D2-F3ACA56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8463-A522-4422-986D-5BA5A08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EF8E-3044-405A-B8CB-4374F44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A90-56DD-4B0A-9A06-1A2733A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EC5A-9CD4-48B5-97AD-EB79936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37F6-9AF8-47EC-A926-ED315417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91B6-E6D8-4862-AE8D-74E61AA1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567C-24FB-4B79-8D5D-7F2E56B7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D1AC-5AD0-4EDC-B97D-AFDBAB2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D4CA3-7005-48CA-B15F-345C661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7E21-472A-41FB-A88A-65534D7D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651A0-9942-4B1E-B33C-2BEF5E0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65016-8522-4E6D-A5B3-0C14737E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0F81-526A-44B7-8AFA-16EFF9E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81B-AA8E-4E0F-AF01-38B7156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4672-A74D-4315-9F31-7AA46D4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A6AE-5A7D-44E2-8C54-626EA39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B949-02AB-406E-AF9C-FBF2B04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6CCAF-5DB4-441C-8F9F-4B186C2C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EB584-A9CC-4E27-9CB8-B3903F5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E1118-02C4-49FE-9896-0E37B17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2B025-67CF-4646-87DD-5BB30F2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5B3A-3EB0-4054-9B81-5C86FE96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71CF-6E6B-49D4-9A89-02C7A706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D52E-8D08-4AF5-BBD4-CEBE4F2E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5A2-C96B-41E3-A77E-F66AE21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2B56-BA73-4F74-9828-4EB679CE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A1D9-BC91-4542-B14A-E64D284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DEF82-2E2B-4BED-925F-1E6006F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4A51B-33C7-481A-AF1C-FB98182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6793-E9F8-4391-BBC5-0CC262C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1D54D-37FF-4792-BAF3-31E4614A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555F-CA56-4AB2-9FB9-4733D815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B6A2-A31F-4BA8-968F-4DCE07BA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CA4E2-6481-421C-9B6A-E0DC507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9FA2B-D714-49CB-965B-E756F49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F19C-E846-4AC1-A15A-EC1774C4D0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BBF2-3183-420F-BB18-E76F4BF0C8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11A-A231-4106-803B-5D641AE193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2DB-02EA-46F6-9A13-686FA9BC50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6E8-DA08-454A-887D-1AF39D85B7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5BDF-9532-40C2-A53D-CF6F653D62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EDE-B549-448A-BEC9-33FA8664D0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CE0-6559-4BA5-943A-7FF8B630AA0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074-16F1-43CB-980C-A82F043118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755640" y="476280"/>
            <a:ext cx="770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начения синуса, косинуса и танген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для углов 30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, 45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и 60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334080" y="468000"/>
            <a:ext cx="937080" cy="3057480"/>
            <a:chOff x="334080" y="468000"/>
            <a:chExt cx="937080" cy="3057480"/>
          </a:xfrm>
        </p:grpSpPr>
        <p:sp>
          <p:nvSpPr>
            <p:cNvPr id="401" name="Line 6"/>
            <p:cNvSpPr/>
            <p:nvPr/>
          </p:nvSpPr>
          <p:spPr>
            <a:xfrm flipV="1">
              <a:off x="866880" y="528840"/>
              <a:ext cx="404280" cy="299664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 flipH="1" flipV="1">
              <a:off x="334080" y="468000"/>
              <a:ext cx="532800" cy="30574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"/>
            <p:cNvSpPr/>
            <p:nvPr/>
          </p:nvSpPr>
          <p:spPr>
            <a:xfrm flipH="1" flipV="1">
              <a:off x="334080" y="468000"/>
              <a:ext cx="936720" cy="6120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0"/>
          <p:cNvGrpSpPr/>
          <p:nvPr/>
        </p:nvGrpSpPr>
        <p:grpSpPr>
          <a:xfrm>
            <a:off x="7886880" y="338760"/>
            <a:ext cx="928080" cy="3092760"/>
            <a:chOff x="7886880" y="338760"/>
            <a:chExt cx="928080" cy="3092760"/>
          </a:xfrm>
        </p:grpSpPr>
        <p:sp>
          <p:nvSpPr>
            <p:cNvPr id="405" name="Line 11"/>
            <p:cNvSpPr/>
            <p:nvPr/>
          </p:nvSpPr>
          <p:spPr>
            <a:xfrm flipH="1">
              <a:off x="7886880" y="338760"/>
              <a:ext cx="663840" cy="29505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2"/>
            <p:cNvSpPr/>
            <p:nvPr/>
          </p:nvSpPr>
          <p:spPr>
            <a:xfrm>
              <a:off x="8550720" y="338760"/>
              <a:ext cx="264240" cy="30927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3"/>
            <p:cNvSpPr/>
            <p:nvPr/>
          </p:nvSpPr>
          <p:spPr>
            <a:xfrm>
              <a:off x="7886880" y="3288960"/>
              <a:ext cx="928080" cy="1425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РЕШЕНИЕ ЗАДАЧИ №3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6"/>
              <p:cNvSpPr txBox="1"/>
              <p:nvPr/>
            </p:nvSpPr>
            <p:spPr>
              <a:xfrm>
                <a:off x="6372360" y="3429000"/>
                <a:ext cx="24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8"/>
              <p:cNvSpPr txBox="1"/>
              <p:nvPr/>
            </p:nvSpPr>
            <p:spPr>
              <a:xfrm>
                <a:off x="6134040" y="2496960"/>
                <a:ext cx="1067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34"/>
              <p:cNvSpPr txBox="1"/>
              <p:nvPr/>
            </p:nvSpPr>
            <p:spPr>
              <a:xfrm>
                <a:off x="4394160" y="6165720"/>
                <a:ext cx="1650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76" name="Group 4"/>
          <p:cNvGrpSpPr/>
          <p:nvPr/>
        </p:nvGrpSpPr>
        <p:grpSpPr>
          <a:xfrm>
            <a:off x="4500720" y="981000"/>
            <a:ext cx="3742560" cy="2447640"/>
            <a:chOff x="4500720" y="981000"/>
            <a:chExt cx="3742560" cy="2447640"/>
          </a:xfrm>
        </p:grpSpPr>
        <p:sp>
          <p:nvSpPr>
            <p:cNvPr id="577" name="Line 5"/>
            <p:cNvSpPr/>
            <p:nvPr/>
          </p:nvSpPr>
          <p:spPr>
            <a:xfrm>
              <a:off x="4930560" y="1311480"/>
              <a:ext cx="0" cy="189864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6"/>
            <p:cNvSpPr/>
            <p:nvPr/>
          </p:nvSpPr>
          <p:spPr>
            <a:xfrm>
              <a:off x="4930560" y="3210480"/>
              <a:ext cx="293724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7"/>
            <p:cNvSpPr/>
            <p:nvPr/>
          </p:nvSpPr>
          <p:spPr>
            <a:xfrm>
              <a:off x="4930560" y="1311480"/>
              <a:ext cx="2937240" cy="189864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8"/>
            <p:cNvSpPr/>
            <p:nvPr/>
          </p:nvSpPr>
          <p:spPr>
            <a:xfrm>
              <a:off x="4930560" y="2922480"/>
              <a:ext cx="71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"/>
            <p:cNvSpPr/>
            <p:nvPr/>
          </p:nvSpPr>
          <p:spPr>
            <a:xfrm>
              <a:off x="5644800" y="2922480"/>
              <a:ext cx="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WordArt 10"/>
            <p:cNvSpPr txBox="1"/>
            <p:nvPr/>
          </p:nvSpPr>
          <p:spPr>
            <a:xfrm>
              <a:off x="7941960" y="3129480"/>
              <a:ext cx="30132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83" name="WordArt 11"/>
            <p:cNvSpPr txBox="1"/>
            <p:nvPr/>
          </p:nvSpPr>
          <p:spPr>
            <a:xfrm>
              <a:off x="4500720" y="3129480"/>
              <a:ext cx="30204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84" name="WordArt 12"/>
            <p:cNvSpPr txBox="1"/>
            <p:nvPr/>
          </p:nvSpPr>
          <p:spPr>
            <a:xfrm>
              <a:off x="4930560" y="981000"/>
              <a:ext cx="30132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85" name="WordArt 13"/>
            <p:cNvSpPr txBox="1"/>
            <p:nvPr/>
          </p:nvSpPr>
          <p:spPr>
            <a:xfrm>
              <a:off x="6564240" y="1900080"/>
              <a:ext cx="259200" cy="43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6823440" y="2713680"/>
              <a:ext cx="6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7" name="Object 15"/>
              <p:cNvSpPr txBox="1"/>
              <p:nvPr/>
            </p:nvSpPr>
            <p:spPr>
              <a:xfrm>
                <a:off x="250920" y="4292640"/>
                <a:ext cx="1657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17"/>
              <p:cNvSpPr txBox="1"/>
              <p:nvPr/>
            </p:nvSpPr>
            <p:spPr>
              <a:xfrm>
                <a:off x="250920" y="3357720"/>
                <a:ext cx="151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Rectangle 18"/>
          <p:cNvSpPr/>
          <p:nvPr/>
        </p:nvSpPr>
        <p:spPr>
          <a:xfrm>
            <a:off x="395280" y="134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"/>
          <p:cNvSpPr/>
          <p:nvPr/>
        </p:nvSpPr>
        <p:spPr>
          <a:xfrm>
            <a:off x="469800" y="19969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=9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339840" y="264492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=3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ак ка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4"/>
          <p:cNvSpPr/>
          <p:nvPr/>
        </p:nvSpPr>
        <p:spPr>
          <a:xfrm>
            <a:off x="1835280" y="3645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=А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5"/>
          <p:cNvSpPr/>
          <p:nvPr/>
        </p:nvSpPr>
        <p:spPr>
          <a:xfrm>
            <a:off x="1899360" y="4508640"/>
            <a:ext cx="50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  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=АВ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=&gt; 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684360" y="5373720"/>
            <a:ext cx="67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=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1"/>
          <p:cNvSpPr/>
          <p:nvPr/>
        </p:nvSpPr>
        <p:spPr>
          <a:xfrm>
            <a:off x="3564000" y="5445000"/>
            <a:ext cx="0" cy="1152720"/>
          </a:xfrm>
          <a:prstGeom prst="line">
            <a:avLst/>
          </a:prstGeom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2"/>
          <p:cNvSpPr/>
          <p:nvPr/>
        </p:nvSpPr>
        <p:spPr>
          <a:xfrm>
            <a:off x="3921480" y="5427720"/>
            <a:ext cx="11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=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3924360" y="5877000"/>
            <a:ext cx="10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=12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6" descr="22R6"/>
          <p:cNvPicPr/>
          <p:nvPr/>
        </p:nvPicPr>
        <p:blipFill>
          <a:blip r:embed="rId1"/>
          <a:stretch/>
        </p:blipFill>
        <p:spPr>
          <a:xfrm>
            <a:off x="7451640" y="5445000"/>
            <a:ext cx="100980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УСТНАЯ РАБОТ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Дано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АВ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Lucida Sans Unicode"/>
                <a:ea typeface="Lucida Sans Unicode"/>
              </a:rPr>
              <a:t>∠</a:t>
            </a: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С=90</a:t>
            </a:r>
            <a:r>
              <a:rPr b="0" lang="ru-RU" sz="2800" spc="-1" strike="noStrike" baseline="30000">
                <a:solidFill>
                  <a:srgbClr val="cc0099"/>
                </a:solidFill>
                <a:latin typeface="Franklin Gothic Book"/>
              </a:rPr>
              <a:t>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ВС=5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АВ=13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Franklin Gothic Book"/>
              </a:rPr>
              <a:t>Найт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Franklin Gothic Book"/>
              </a:rPr>
              <a:t>Sin A, cos A, tg A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Franklin Gothic Book"/>
              </a:rPr>
              <a:t>Sin B, cos B, tg B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5076720" y="1557360"/>
            <a:ext cx="3760920" cy="4267080"/>
            <a:chOff x="5076720" y="1557360"/>
            <a:chExt cx="3760920" cy="4267080"/>
          </a:xfrm>
        </p:grpSpPr>
        <p:sp>
          <p:nvSpPr>
            <p:cNvPr id="411" name="Line 4"/>
            <p:cNvSpPr/>
            <p:nvPr/>
          </p:nvSpPr>
          <p:spPr>
            <a:xfrm>
              <a:off x="5508720" y="2133720"/>
              <a:ext cx="0" cy="33112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5508720" y="5445000"/>
              <a:ext cx="295092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>
              <a:off x="5508720" y="2133720"/>
              <a:ext cx="2950920" cy="33112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>
              <a:off x="5508720" y="4941720"/>
              <a:ext cx="718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6227640" y="4941720"/>
              <a:ext cx="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WordArt 10"/>
            <p:cNvSpPr txBox="1"/>
            <p:nvPr/>
          </p:nvSpPr>
          <p:spPr>
            <a:xfrm>
              <a:off x="8532720" y="530064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17" name="WordArt 11"/>
            <p:cNvSpPr txBox="1"/>
            <p:nvPr/>
          </p:nvSpPr>
          <p:spPr>
            <a:xfrm>
              <a:off x="5076720" y="530064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18" name="WordArt 12"/>
            <p:cNvSpPr txBox="1"/>
            <p:nvPr/>
          </p:nvSpPr>
          <p:spPr>
            <a:xfrm>
              <a:off x="5508720" y="155736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19" name="WordArt 13"/>
            <p:cNvSpPr txBox="1"/>
            <p:nvPr/>
          </p:nvSpPr>
          <p:spPr>
            <a:xfrm>
              <a:off x="7093080" y="335772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13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20" name="WordArt 14"/>
            <p:cNvSpPr txBox="1"/>
            <p:nvPr/>
          </p:nvSpPr>
          <p:spPr>
            <a:xfrm>
              <a:off x="5076720" y="335772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421" name="Picture 20" descr="QUESTON5"/>
          <p:cNvPicPr/>
          <p:nvPr/>
        </p:nvPicPr>
        <p:blipFill>
          <a:blip r:embed="rId1"/>
          <a:stretch/>
        </p:blipFill>
        <p:spPr>
          <a:xfrm>
            <a:off x="7524720" y="476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РЕШЕНИЕ ЗАДАЧ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о теореме Пифагор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В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=ВС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+АС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С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=169-25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С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=14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АС=1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54"/>
              <p:cNvSpPr txBox="1"/>
              <p:nvPr/>
            </p:nvSpPr>
            <p:spPr>
              <a:xfrm>
                <a:off x="2268360" y="5013360"/>
                <a:ext cx="1727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COS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62"/>
              <p:cNvSpPr txBox="1"/>
              <p:nvPr/>
            </p:nvSpPr>
            <p:spPr>
              <a:xfrm>
                <a:off x="2268360" y="3933720"/>
                <a:ext cx="1656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SIN 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Line 5"/>
          <p:cNvSpPr/>
          <p:nvPr/>
        </p:nvSpPr>
        <p:spPr>
          <a:xfrm>
            <a:off x="4645080" y="1711440"/>
            <a:ext cx="0" cy="21222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645080" y="3833640"/>
            <a:ext cx="1977840" cy="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4645080" y="1711440"/>
            <a:ext cx="1977840" cy="2122200"/>
          </a:xfrm>
          <a:prstGeom prst="line">
            <a:avLst/>
          </a:prstGeom>
          <a:ln w="572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4356000" y="1341360"/>
            <a:ext cx="2519640" cy="2735280"/>
            <a:chOff x="4356000" y="1341360"/>
            <a:chExt cx="2519640" cy="2735280"/>
          </a:xfrm>
        </p:grpSpPr>
        <p:sp>
          <p:nvSpPr>
            <p:cNvPr id="430" name="WordArt 10"/>
            <p:cNvSpPr txBox="1"/>
            <p:nvPr/>
          </p:nvSpPr>
          <p:spPr>
            <a:xfrm>
              <a:off x="6670800" y="3740040"/>
              <a:ext cx="204840" cy="3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31" name="WordArt 11"/>
            <p:cNvSpPr txBox="1"/>
            <p:nvPr/>
          </p:nvSpPr>
          <p:spPr>
            <a:xfrm>
              <a:off x="4356000" y="3716280"/>
              <a:ext cx="204840" cy="3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32" name="WordArt 12"/>
            <p:cNvSpPr txBox="1"/>
            <p:nvPr/>
          </p:nvSpPr>
          <p:spPr>
            <a:xfrm>
              <a:off x="4645080" y="1341360"/>
              <a:ext cx="204840" cy="3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3" name="Group 57"/>
          <p:cNvGrpSpPr/>
          <p:nvPr/>
        </p:nvGrpSpPr>
        <p:grpSpPr>
          <a:xfrm>
            <a:off x="4356000" y="2495520"/>
            <a:ext cx="1554120" cy="1338120"/>
            <a:chOff x="4356000" y="2495520"/>
            <a:chExt cx="1554120" cy="1338120"/>
          </a:xfrm>
        </p:grpSpPr>
        <p:sp>
          <p:nvSpPr>
            <p:cNvPr id="434" name="Line 8"/>
            <p:cNvSpPr/>
            <p:nvPr/>
          </p:nvSpPr>
          <p:spPr>
            <a:xfrm>
              <a:off x="4645080" y="3511440"/>
              <a:ext cx="48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9"/>
            <p:cNvSpPr/>
            <p:nvPr/>
          </p:nvSpPr>
          <p:spPr>
            <a:xfrm>
              <a:off x="5127480" y="3511440"/>
              <a:ext cx="0" cy="3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WordArt 13"/>
            <p:cNvSpPr txBox="1"/>
            <p:nvPr/>
          </p:nvSpPr>
          <p:spPr>
            <a:xfrm>
              <a:off x="5707080" y="2495520"/>
              <a:ext cx="20304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13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37" name="WordArt 14"/>
            <p:cNvSpPr txBox="1"/>
            <p:nvPr/>
          </p:nvSpPr>
          <p:spPr>
            <a:xfrm>
              <a:off x="4356000" y="2495520"/>
              <a:ext cx="20484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38" name="Text Box 49"/>
          <p:cNvSpPr/>
          <p:nvPr/>
        </p:nvSpPr>
        <p:spPr>
          <a:xfrm>
            <a:off x="17928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>
            <a:off x="1403280" y="422100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1"/>
          <p:cNvSpPr/>
          <p:nvPr/>
        </p:nvSpPr>
        <p:spPr>
          <a:xfrm>
            <a:off x="140328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14032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8"/>
          <p:cNvSpPr/>
          <p:nvPr/>
        </p:nvSpPr>
        <p:spPr>
          <a:xfrm>
            <a:off x="181080" y="508464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 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9"/>
          <p:cNvSpPr/>
          <p:nvPr/>
        </p:nvSpPr>
        <p:spPr>
          <a:xfrm>
            <a:off x="1547640" y="4869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0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1"/>
          <p:cNvSpPr/>
          <p:nvPr/>
        </p:nvSpPr>
        <p:spPr>
          <a:xfrm>
            <a:off x="147636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4"/>
          <p:cNvSpPr/>
          <p:nvPr/>
        </p:nvSpPr>
        <p:spPr>
          <a:xfrm>
            <a:off x="3995640" y="3933720"/>
            <a:ext cx="7164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65"/>
              <p:cNvSpPr txBox="1"/>
              <p:nvPr/>
            </p:nvSpPr>
            <p:spPr>
              <a:xfrm>
                <a:off x="2268360" y="5950080"/>
                <a:ext cx="1440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tg 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Rectangle 66"/>
          <p:cNvSpPr/>
          <p:nvPr/>
        </p:nvSpPr>
        <p:spPr>
          <a:xfrm>
            <a:off x="252000" y="60213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g 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7"/>
          <p:cNvSpPr/>
          <p:nvPr/>
        </p:nvSpPr>
        <p:spPr>
          <a:xfrm>
            <a:off x="1258920" y="5805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8"/>
          <p:cNvSpPr/>
          <p:nvPr/>
        </p:nvSpPr>
        <p:spPr>
          <a:xfrm>
            <a:off x="1258920" y="6237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9"/>
          <p:cNvSpPr/>
          <p:nvPr/>
        </p:nvSpPr>
        <p:spPr>
          <a:xfrm>
            <a:off x="1258920" y="623736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70"/>
              <p:cNvSpPr txBox="1"/>
              <p:nvPr/>
            </p:nvSpPr>
            <p:spPr>
              <a:xfrm>
                <a:off x="6384960" y="5014800"/>
                <a:ext cx="22194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COS 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Text Box 71"/>
          <p:cNvSpPr/>
          <p:nvPr/>
        </p:nvSpPr>
        <p:spPr>
          <a:xfrm>
            <a:off x="4140360" y="42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2"/>
          <p:cNvSpPr/>
          <p:nvPr/>
        </p:nvSpPr>
        <p:spPr>
          <a:xfrm>
            <a:off x="5508720" y="4000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3"/>
          <p:cNvSpPr/>
          <p:nvPr/>
        </p:nvSpPr>
        <p:spPr>
          <a:xfrm>
            <a:off x="5508720" y="45036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4"/>
          <p:cNvSpPr/>
          <p:nvPr/>
        </p:nvSpPr>
        <p:spPr>
          <a:xfrm>
            <a:off x="4213440" y="530064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 B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5"/>
          <p:cNvSpPr/>
          <p:nvPr/>
        </p:nvSpPr>
        <p:spPr>
          <a:xfrm>
            <a:off x="5653080" y="50799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6"/>
          <p:cNvSpPr/>
          <p:nvPr/>
        </p:nvSpPr>
        <p:spPr>
          <a:xfrm>
            <a:off x="5581800" y="5584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77"/>
              <p:cNvSpPr txBox="1"/>
              <p:nvPr/>
            </p:nvSpPr>
            <p:spPr>
              <a:xfrm>
                <a:off x="6384960" y="4016520"/>
                <a:ext cx="1932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SIN 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78"/>
              <p:cNvSpPr txBox="1"/>
              <p:nvPr/>
            </p:nvSpPr>
            <p:spPr>
              <a:xfrm>
                <a:off x="6356520" y="5950080"/>
                <a:ext cx="2247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tg 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Rectangle 79"/>
          <p:cNvSpPr/>
          <p:nvPr/>
        </p:nvSpPr>
        <p:spPr>
          <a:xfrm>
            <a:off x="4285080" y="61657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g 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80"/>
          <p:cNvSpPr/>
          <p:nvPr/>
        </p:nvSpPr>
        <p:spPr>
          <a:xfrm>
            <a:off x="5364000" y="60166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1"/>
          <p:cNvSpPr/>
          <p:nvPr/>
        </p:nvSpPr>
        <p:spPr>
          <a:xfrm>
            <a:off x="5364000" y="6448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2"/>
          <p:cNvSpPr/>
          <p:nvPr/>
        </p:nvSpPr>
        <p:spPr>
          <a:xfrm>
            <a:off x="5364000" y="645336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83"/>
          <p:cNvSpPr/>
          <p:nvPr/>
        </p:nvSpPr>
        <p:spPr>
          <a:xfrm>
            <a:off x="5580000" y="5516640"/>
            <a:ext cx="79236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4"/>
          <p:cNvSpPr/>
          <p:nvPr/>
        </p:nvSpPr>
        <p:spPr>
          <a:xfrm>
            <a:off x="5435640" y="4437000"/>
            <a:ext cx="7920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5"/>
          <p:cNvSpPr/>
          <p:nvPr/>
        </p:nvSpPr>
        <p:spPr>
          <a:xfrm>
            <a:off x="5867280" y="3357720"/>
            <a:ext cx="289080" cy="502920"/>
          </a:xfrm>
          <a:custGeom>
            <a:avLst/>
            <a:gdLst>
              <a:gd name="textAreaLeft" fmla="*/ 38520 w 289080"/>
              <a:gd name="textAreaRight" fmla="*/ 250560 w 289080"/>
              <a:gd name="textAreaTop" fmla="*/ 87840 h 502920"/>
              <a:gd name="textAreaBottom" fmla="*/ 3646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6"/>
          <p:cNvSpPr/>
          <p:nvPr/>
        </p:nvSpPr>
        <p:spPr>
          <a:xfrm>
            <a:off x="4643280" y="2205000"/>
            <a:ext cx="505080" cy="28728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00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92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1000" autoRev="1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50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4" dur="50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5" dur="50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2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4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0" autoRev="1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7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0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5" dur="1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16" dur="1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17" dur="1500" autoRev="1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4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Scale>
                                      <p:cBhvr>
                                        <p:cTn id="3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4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1500" autoRev="1" fill="hold"/>
                                        <p:tgtEl>
                                          <p:spTgt spid="4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1182600" y="165240"/>
            <a:ext cx="7643880" cy="1547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23640" y="1916280"/>
            <a:ext cx="382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Дано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АВ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Lucida Sans Unicode"/>
              </a:rPr>
              <a:t>∠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А=3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Franklin Gothic Medium"/>
              </a:rPr>
              <a:t>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  <a:ea typeface="Lucida Sans Unicode"/>
              </a:rPr>
              <a:t>∠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С=9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Franklin Gothic Medium"/>
              </a:rPr>
              <a:t>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Най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Medium"/>
              </a:rPr>
              <a:t>Sin A, cos A, tg A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Medium"/>
              </a:rPr>
              <a:t>Sin B, cos B, tg B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WordArt 15"/>
          <p:cNvSpPr txBox="1"/>
          <p:nvPr/>
        </p:nvSpPr>
        <p:spPr>
          <a:xfrm>
            <a:off x="3492360" y="148428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№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2" name="Group 17"/>
          <p:cNvGrpSpPr/>
          <p:nvPr/>
        </p:nvGrpSpPr>
        <p:grpSpPr>
          <a:xfrm>
            <a:off x="4788000" y="2133720"/>
            <a:ext cx="3599640" cy="3239640"/>
            <a:chOff x="4788000" y="2133720"/>
            <a:chExt cx="3599640" cy="3239640"/>
          </a:xfrm>
        </p:grpSpPr>
        <p:sp>
          <p:nvSpPr>
            <p:cNvPr id="473" name="Line 18"/>
            <p:cNvSpPr/>
            <p:nvPr/>
          </p:nvSpPr>
          <p:spPr>
            <a:xfrm>
              <a:off x="5202000" y="2571480"/>
              <a:ext cx="0" cy="25138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9"/>
            <p:cNvSpPr/>
            <p:nvPr/>
          </p:nvSpPr>
          <p:spPr>
            <a:xfrm>
              <a:off x="5202000" y="5085360"/>
              <a:ext cx="282348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0"/>
            <p:cNvSpPr/>
            <p:nvPr/>
          </p:nvSpPr>
          <p:spPr>
            <a:xfrm>
              <a:off x="5202000" y="2571480"/>
              <a:ext cx="2823480" cy="25138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1"/>
            <p:cNvSpPr/>
            <p:nvPr/>
          </p:nvSpPr>
          <p:spPr>
            <a:xfrm>
              <a:off x="5202000" y="4703040"/>
              <a:ext cx="688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2"/>
            <p:cNvSpPr/>
            <p:nvPr/>
          </p:nvSpPr>
          <p:spPr>
            <a:xfrm>
              <a:off x="5890320" y="4703040"/>
              <a:ext cx="0" cy="38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23"/>
            <p:cNvSpPr txBox="1"/>
            <p:nvPr/>
          </p:nvSpPr>
          <p:spPr>
            <a:xfrm>
              <a:off x="8096040" y="4974840"/>
              <a:ext cx="2916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79" name="WordArt 24"/>
            <p:cNvSpPr txBox="1"/>
            <p:nvPr/>
          </p:nvSpPr>
          <p:spPr>
            <a:xfrm>
              <a:off x="4788000" y="4974840"/>
              <a:ext cx="2916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80" name="WordArt 25"/>
            <p:cNvSpPr txBox="1"/>
            <p:nvPr/>
          </p:nvSpPr>
          <p:spPr>
            <a:xfrm>
              <a:off x="5202000" y="2133720"/>
              <a:ext cx="29160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1" name="Text Box 28"/>
          <p:cNvSpPr/>
          <p:nvPr/>
        </p:nvSpPr>
        <p:spPr>
          <a:xfrm flipH="1">
            <a:off x="6612840" y="429264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7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РЕШЕНИЕ ЗАДАЧИ №1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538200" y="2492280"/>
                <a:ext cx="2523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23"/>
              <p:cNvSpPr txBox="1"/>
              <p:nvPr/>
            </p:nvSpPr>
            <p:spPr>
              <a:xfrm>
                <a:off x="528480" y="3068640"/>
                <a:ext cx="1535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25"/>
              <p:cNvSpPr txBox="1"/>
              <p:nvPr/>
            </p:nvSpPr>
            <p:spPr>
              <a:xfrm>
                <a:off x="422280" y="4941720"/>
                <a:ext cx="232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27"/>
              <p:cNvSpPr txBox="1"/>
              <p:nvPr/>
            </p:nvSpPr>
            <p:spPr>
              <a:xfrm>
                <a:off x="179280" y="5737320"/>
                <a:ext cx="3025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7" name="Group 41"/>
          <p:cNvGrpSpPr/>
          <p:nvPr/>
        </p:nvGrpSpPr>
        <p:grpSpPr>
          <a:xfrm>
            <a:off x="6443640" y="1484280"/>
            <a:ext cx="2016000" cy="2232000"/>
            <a:chOff x="6443640" y="1484280"/>
            <a:chExt cx="2016000" cy="2232000"/>
          </a:xfrm>
        </p:grpSpPr>
        <p:sp>
          <p:nvSpPr>
            <p:cNvPr id="488" name="Line 5"/>
            <p:cNvSpPr/>
            <p:nvPr/>
          </p:nvSpPr>
          <p:spPr>
            <a:xfrm>
              <a:off x="6675480" y="1785960"/>
              <a:ext cx="0" cy="17319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675480" y="3517920"/>
              <a:ext cx="158112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7"/>
            <p:cNvSpPr/>
            <p:nvPr/>
          </p:nvSpPr>
          <p:spPr>
            <a:xfrm>
              <a:off x="6675480" y="1785960"/>
              <a:ext cx="1581120" cy="17319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8"/>
            <p:cNvSpPr/>
            <p:nvPr/>
          </p:nvSpPr>
          <p:spPr>
            <a:xfrm>
              <a:off x="6675480" y="3254400"/>
              <a:ext cx="385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>
              <a:off x="7061040" y="3254400"/>
              <a:ext cx="0" cy="26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10"/>
            <p:cNvSpPr txBox="1"/>
            <p:nvPr/>
          </p:nvSpPr>
          <p:spPr>
            <a:xfrm>
              <a:off x="8296200" y="3441600"/>
              <a:ext cx="163440" cy="27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94" name="WordArt 11"/>
            <p:cNvSpPr txBox="1"/>
            <p:nvPr/>
          </p:nvSpPr>
          <p:spPr>
            <a:xfrm>
              <a:off x="6443640" y="3441600"/>
              <a:ext cx="163440" cy="27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95" name="WordArt 12"/>
            <p:cNvSpPr txBox="1"/>
            <p:nvPr/>
          </p:nvSpPr>
          <p:spPr>
            <a:xfrm>
              <a:off x="6675480" y="1484280"/>
              <a:ext cx="163440" cy="27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96" name="WordArt 17"/>
          <p:cNvSpPr txBox="1"/>
          <p:nvPr/>
        </p:nvSpPr>
        <p:spPr>
          <a:xfrm>
            <a:off x="539640" y="141300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сть ВС=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7" name="WordArt 18"/>
          <p:cNvSpPr txBox="1"/>
          <p:nvPr/>
        </p:nvSpPr>
        <p:spPr>
          <a:xfrm>
            <a:off x="539640" y="191628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гда АВ=2х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9"/>
              <p:cNvSpPr txBox="1"/>
              <p:nvPr/>
            </p:nvSpPr>
            <p:spPr>
              <a:xfrm>
                <a:off x="179280" y="4076640"/>
                <a:ext cx="2735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Line 33"/>
          <p:cNvSpPr/>
          <p:nvPr/>
        </p:nvSpPr>
        <p:spPr>
          <a:xfrm>
            <a:off x="4500720" y="3573360"/>
            <a:ext cx="72720" cy="309564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34"/>
              <p:cNvSpPr txBox="1"/>
              <p:nvPr/>
            </p:nvSpPr>
            <p:spPr>
              <a:xfrm>
                <a:off x="4572000" y="5013360"/>
                <a:ext cx="2808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5"/>
              <p:cNvSpPr txBox="1"/>
              <p:nvPr/>
            </p:nvSpPr>
            <p:spPr>
              <a:xfrm>
                <a:off x="4673520" y="5757840"/>
                <a:ext cx="2965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6"/>
              <p:cNvSpPr txBox="1"/>
              <p:nvPr/>
            </p:nvSpPr>
            <p:spPr>
              <a:xfrm>
                <a:off x="4560840" y="4005360"/>
                <a:ext cx="3081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 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3" name="Group 40"/>
          <p:cNvGrpSpPr/>
          <p:nvPr/>
        </p:nvGrpSpPr>
        <p:grpSpPr>
          <a:xfrm>
            <a:off x="3059280" y="4365720"/>
            <a:ext cx="6084720" cy="2023920"/>
            <a:chOff x="3059280" y="4365720"/>
            <a:chExt cx="6084720" cy="2023920"/>
          </a:xfrm>
        </p:grpSpPr>
        <p:sp>
          <p:nvSpPr>
            <p:cNvPr id="504" name="Text Box 30"/>
            <p:cNvSpPr/>
            <p:nvPr/>
          </p:nvSpPr>
          <p:spPr>
            <a:xfrm>
              <a:off x="3059280" y="43657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99"/>
                  </a:solidFill>
                  <a:latin typeface="Arial"/>
                </a:rPr>
                <a:t>=&gt;  SIN 30</a:t>
              </a:r>
              <a:r>
                <a:rPr b="1" lang="en-US" sz="1800" spc="-1" strike="noStrike" baseline="30000">
                  <a:solidFill>
                    <a:srgbClr val="99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1"/>
            <p:cNvSpPr/>
            <p:nvPr/>
          </p:nvSpPr>
          <p:spPr>
            <a:xfrm>
              <a:off x="3065400" y="508464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99"/>
                  </a:solidFill>
                  <a:latin typeface="Arial"/>
                </a:rPr>
                <a:t>=&gt;  COS 30</a:t>
              </a:r>
              <a:r>
                <a:rPr b="1" lang="en-US" sz="1800" spc="-1" strike="noStrike" baseline="30000">
                  <a:solidFill>
                    <a:srgbClr val="99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32"/>
            <p:cNvSpPr/>
            <p:nvPr/>
          </p:nvSpPr>
          <p:spPr>
            <a:xfrm>
              <a:off x="3203640" y="595008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99"/>
                  </a:solidFill>
                  <a:latin typeface="Arial"/>
                </a:rPr>
                <a:t>=&gt;  tg 30</a:t>
              </a:r>
              <a:r>
                <a:rPr b="1" lang="en-US" sz="1800" spc="-1" strike="noStrike" baseline="30000">
                  <a:solidFill>
                    <a:srgbClr val="990099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7"/>
            <p:cNvSpPr/>
            <p:nvPr/>
          </p:nvSpPr>
          <p:spPr>
            <a:xfrm>
              <a:off x="7524720" y="4365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=&gt;  SIN 60</a:t>
              </a:r>
              <a:r>
                <a:rPr b="1" lang="en-US" sz="1800" spc="-1" strike="noStrike" baseline="30000">
                  <a:solidFill>
                    <a:srgbClr val="a50021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8"/>
            <p:cNvSpPr/>
            <p:nvPr/>
          </p:nvSpPr>
          <p:spPr>
            <a:xfrm>
              <a:off x="7457760" y="508464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=&gt;  COS 60</a:t>
              </a:r>
              <a:r>
                <a:rPr b="1" lang="en-US" sz="1800" spc="-1" strike="noStrike" baseline="30000">
                  <a:solidFill>
                    <a:srgbClr val="a50021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9"/>
            <p:cNvSpPr/>
            <p:nvPr/>
          </p:nvSpPr>
          <p:spPr>
            <a:xfrm>
              <a:off x="7777080" y="602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=&gt;  tg 60</a:t>
              </a:r>
              <a:r>
                <a:rPr b="1" lang="en-US" sz="1800" spc="-1" strike="noStrike" baseline="30000">
                  <a:solidFill>
                    <a:srgbClr val="a50021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42"/>
          <p:cNvSpPr/>
          <p:nvPr/>
        </p:nvSpPr>
        <p:spPr>
          <a:xfrm>
            <a:off x="7524720" y="314172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66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animClr clrSpc="rgb">
                                      <p:cBhvr>
                                        <p:cTn id="494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644e"/>
                                      </p:to>
                                    </p:animClr>
                                    <p:set>
                                      <p:cBhvr>
                                        <p:cTn id="495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8808840" cy="1182600"/>
          </a:xfrm>
          <a:prstGeom prst="rect">
            <a:avLst/>
          </a:prstGeom>
          <a:ln w="0">
            <a:noFill/>
          </a:ln>
        </p:spPr>
      </p:pic>
      <p:sp>
        <p:nvSpPr>
          <p:cNvPr id="512" name="WordArt 4"/>
          <p:cNvSpPr txBox="1"/>
          <p:nvPr/>
        </p:nvSpPr>
        <p:spPr>
          <a:xfrm>
            <a:off x="3492360" y="134136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№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395280" y="2133720"/>
            <a:ext cx="273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=90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n A, cos A, tg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1"/>
          <p:cNvGrpSpPr/>
          <p:nvPr/>
        </p:nvGrpSpPr>
        <p:grpSpPr>
          <a:xfrm>
            <a:off x="4284720" y="1989000"/>
            <a:ext cx="4247640" cy="4032000"/>
            <a:chOff x="4284720" y="1989000"/>
            <a:chExt cx="4247640" cy="4032000"/>
          </a:xfrm>
        </p:grpSpPr>
        <p:sp>
          <p:nvSpPr>
            <p:cNvPr id="515" name="Line 7"/>
            <p:cNvSpPr/>
            <p:nvPr/>
          </p:nvSpPr>
          <p:spPr>
            <a:xfrm>
              <a:off x="4719240" y="2532960"/>
              <a:ext cx="0" cy="31305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>
              <a:off x="4719240" y="5663520"/>
              <a:ext cx="333288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9"/>
            <p:cNvSpPr/>
            <p:nvPr/>
          </p:nvSpPr>
          <p:spPr>
            <a:xfrm>
              <a:off x="4719240" y="2532960"/>
              <a:ext cx="3332880" cy="313056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0"/>
            <p:cNvSpPr/>
            <p:nvPr/>
          </p:nvSpPr>
          <p:spPr>
            <a:xfrm>
              <a:off x="4771800" y="5186880"/>
              <a:ext cx="81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1"/>
            <p:cNvSpPr/>
            <p:nvPr/>
          </p:nvSpPr>
          <p:spPr>
            <a:xfrm>
              <a:off x="5583600" y="5186880"/>
              <a:ext cx="0" cy="47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12"/>
            <p:cNvSpPr txBox="1"/>
            <p:nvPr/>
          </p:nvSpPr>
          <p:spPr>
            <a:xfrm>
              <a:off x="8188920" y="5527080"/>
              <a:ext cx="343440" cy="49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1" name="WordArt 13"/>
            <p:cNvSpPr txBox="1"/>
            <p:nvPr/>
          </p:nvSpPr>
          <p:spPr>
            <a:xfrm>
              <a:off x="4284720" y="5527080"/>
              <a:ext cx="342720" cy="49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2" name="WordArt 14"/>
            <p:cNvSpPr txBox="1"/>
            <p:nvPr/>
          </p:nvSpPr>
          <p:spPr>
            <a:xfrm>
              <a:off x="4771800" y="1989000"/>
              <a:ext cx="343440" cy="49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6514920" y="5013360"/>
              <a:ext cx="11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9700"/>
                            </p:stCondLst>
                            <p:childTnLst>
                              <p:par>
                                <p:cTn id="5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5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5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РЕШЕНИЕ ЗАДАЧИ №</a:t>
            </a:r>
            <a:r>
              <a:rPr b="1" i="1" lang="en-US" sz="3600" spc="-1" strike="noStrike">
                <a:solidFill>
                  <a:srgbClr val="990099"/>
                </a:solidFill>
                <a:latin typeface="Franklin Gothic Medium"/>
              </a:rPr>
              <a:t>2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9"/>
              <p:cNvSpPr txBox="1"/>
              <p:nvPr/>
            </p:nvSpPr>
            <p:spPr>
              <a:xfrm>
                <a:off x="611280" y="2565360"/>
                <a:ext cx="2089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468360" y="2997360"/>
                <a:ext cx="1944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WordArt 14"/>
          <p:cNvSpPr txBox="1"/>
          <p:nvPr/>
        </p:nvSpPr>
        <p:spPr>
          <a:xfrm>
            <a:off x="539640" y="141300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сть ВС=х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WordArt 15"/>
          <p:cNvSpPr txBox="1"/>
          <p:nvPr/>
        </p:nvSpPr>
        <p:spPr>
          <a:xfrm>
            <a:off x="539640" y="191628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гда АC=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23"/>
              <p:cNvSpPr txBox="1"/>
              <p:nvPr/>
            </p:nvSpPr>
            <p:spPr>
              <a:xfrm>
                <a:off x="250920" y="4724280"/>
                <a:ext cx="4465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4"/>
              <p:cNvSpPr txBox="1"/>
              <p:nvPr/>
            </p:nvSpPr>
            <p:spPr>
              <a:xfrm>
                <a:off x="1619280" y="5589720"/>
                <a:ext cx="280836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5"/>
              <p:cNvSpPr txBox="1"/>
              <p:nvPr/>
            </p:nvSpPr>
            <p:spPr>
              <a:xfrm>
                <a:off x="539640" y="3789360"/>
                <a:ext cx="38260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Rectangle 26"/>
          <p:cNvSpPr/>
          <p:nvPr/>
        </p:nvSpPr>
        <p:spPr>
          <a:xfrm>
            <a:off x="4716360" y="4076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=&gt;  SIN 45</a:t>
            </a:r>
            <a:r>
              <a:rPr b="1" lang="en-US" sz="24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7"/>
          <p:cNvSpPr/>
          <p:nvPr/>
        </p:nvSpPr>
        <p:spPr>
          <a:xfrm>
            <a:off x="5154840" y="5950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=&gt;  tg 45</a:t>
            </a:r>
            <a:r>
              <a:rPr b="1" lang="en-US" sz="24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8"/>
          <p:cNvSpPr/>
          <p:nvPr/>
        </p:nvSpPr>
        <p:spPr>
          <a:xfrm>
            <a:off x="4939560" y="48690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=&gt;  COS 45</a:t>
            </a:r>
            <a:r>
              <a:rPr b="1" lang="en-US" sz="24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29"/>
          <p:cNvGrpSpPr/>
          <p:nvPr/>
        </p:nvGrpSpPr>
        <p:grpSpPr>
          <a:xfrm>
            <a:off x="4572000" y="1125360"/>
            <a:ext cx="2808360" cy="2952720"/>
            <a:chOff x="4572000" y="1125360"/>
            <a:chExt cx="2808360" cy="2952720"/>
          </a:xfrm>
        </p:grpSpPr>
        <p:sp>
          <p:nvSpPr>
            <p:cNvPr id="536" name="Line 30"/>
            <p:cNvSpPr/>
            <p:nvPr/>
          </p:nvSpPr>
          <p:spPr>
            <a:xfrm>
              <a:off x="4859280" y="1523880"/>
              <a:ext cx="0" cy="22924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1"/>
            <p:cNvSpPr/>
            <p:nvPr/>
          </p:nvSpPr>
          <p:spPr>
            <a:xfrm>
              <a:off x="4859280" y="3816360"/>
              <a:ext cx="220356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2"/>
            <p:cNvSpPr/>
            <p:nvPr/>
          </p:nvSpPr>
          <p:spPr>
            <a:xfrm>
              <a:off x="4859280" y="1523880"/>
              <a:ext cx="2203560" cy="229248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3"/>
            <p:cNvSpPr/>
            <p:nvPr/>
          </p:nvSpPr>
          <p:spPr>
            <a:xfrm>
              <a:off x="4894200" y="3467160"/>
              <a:ext cx="53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4"/>
            <p:cNvSpPr/>
            <p:nvPr/>
          </p:nvSpPr>
          <p:spPr>
            <a:xfrm>
              <a:off x="5430960" y="3467160"/>
              <a:ext cx="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35"/>
            <p:cNvSpPr txBox="1"/>
            <p:nvPr/>
          </p:nvSpPr>
          <p:spPr>
            <a:xfrm>
              <a:off x="7153200" y="3716280"/>
              <a:ext cx="2271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2" name="WordArt 36"/>
            <p:cNvSpPr txBox="1"/>
            <p:nvPr/>
          </p:nvSpPr>
          <p:spPr>
            <a:xfrm>
              <a:off x="4572000" y="3716280"/>
              <a:ext cx="2268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3" name="WordArt 37"/>
            <p:cNvSpPr txBox="1"/>
            <p:nvPr/>
          </p:nvSpPr>
          <p:spPr>
            <a:xfrm>
              <a:off x="4894200" y="1125360"/>
              <a:ext cx="2271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4" name="Rectangle 38"/>
            <p:cNvSpPr/>
            <p:nvPr/>
          </p:nvSpPr>
          <p:spPr>
            <a:xfrm>
              <a:off x="6306840" y="34290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ff"/>
                  </a:solidFill>
                  <a:latin typeface="Arial"/>
                </a:rPr>
                <a:t>45</a:t>
              </a:r>
              <a:r>
                <a:rPr b="0" lang="en-US" sz="1800" spc="-1" strike="noStrike" baseline="30000">
                  <a:solidFill>
                    <a:srgbClr val="6600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341280" y="469800"/>
            <a:ext cx="835200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>
          <a:off x="468360" y="1700280"/>
          <a:ext cx="8280360" cy="4730760"/>
        </p:xfrm>
        <a:graphic>
          <a:graphicData uri="http://schemas.openxmlformats.org/drawingml/2006/table">
            <a:tbl>
              <a:tblPr/>
              <a:tblGrid>
                <a:gridCol w="1439640"/>
                <a:gridCol w="1584360"/>
                <a:gridCol w="2016360"/>
                <a:gridCol w="3240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r>
                        <a:rPr b="1" i="1" lang="en-US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r>
                        <a:rPr b="1" i="1" lang="en-US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r>
                        <a:rPr b="1" i="1" lang="en-US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in </a:t>
                      </a: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s </a:t>
                      </a: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g </a:t>
                      </a:r>
                      <a:r>
                        <a:rPr b="1" i="1" lang="en-US" sz="2800" spc="-1" strike="noStrike">
                          <a:solidFill>
                            <a:srgbClr val="ff66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7" name="Object 33"/>
              <p:cNvSpPr txBox="1"/>
              <p:nvPr/>
            </p:nvSpPr>
            <p:spPr>
              <a:xfrm>
                <a:off x="6591240" y="24969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5"/>
              <p:cNvSpPr txBox="1"/>
              <p:nvPr/>
            </p:nvSpPr>
            <p:spPr>
              <a:xfrm>
                <a:off x="2340000" y="3716280"/>
                <a:ext cx="636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7"/>
              <p:cNvSpPr txBox="1"/>
              <p:nvPr/>
            </p:nvSpPr>
            <p:spPr>
              <a:xfrm>
                <a:off x="2268360" y="5229360"/>
                <a:ext cx="635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40"/>
              <p:cNvSpPr txBox="1"/>
              <p:nvPr/>
            </p:nvSpPr>
            <p:spPr>
              <a:xfrm>
                <a:off x="4067280" y="2421000"/>
                <a:ext cx="5284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1"/>
              <p:cNvSpPr txBox="1"/>
              <p:nvPr/>
            </p:nvSpPr>
            <p:spPr>
              <a:xfrm>
                <a:off x="4067280" y="3789360"/>
                <a:ext cx="711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2"/>
              <p:cNvSpPr txBox="1"/>
              <p:nvPr/>
            </p:nvSpPr>
            <p:spPr>
              <a:xfrm>
                <a:off x="6732720" y="2276640"/>
                <a:ext cx="554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43"/>
              <p:cNvSpPr txBox="1"/>
              <p:nvPr/>
            </p:nvSpPr>
            <p:spPr>
              <a:xfrm>
                <a:off x="2340000" y="2276640"/>
                <a:ext cx="5382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45"/>
              <p:cNvSpPr txBox="1"/>
              <p:nvPr/>
            </p:nvSpPr>
            <p:spPr>
              <a:xfrm>
                <a:off x="6877080" y="5516640"/>
                <a:ext cx="7920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61"/>
              <p:cNvSpPr txBox="1"/>
              <p:nvPr/>
            </p:nvSpPr>
            <p:spPr>
              <a:xfrm>
                <a:off x="4140360" y="5229360"/>
                <a:ext cx="593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6" name="Picture 63" descr="arg-exclaim-25-trans-y"/>
          <p:cNvPicPr/>
          <p:nvPr/>
        </p:nvPicPr>
        <p:blipFill>
          <a:blip r:embed="rId2"/>
          <a:stretch/>
        </p:blipFill>
        <p:spPr>
          <a:xfrm>
            <a:off x="8028000" y="404640"/>
            <a:ext cx="695160" cy="905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6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6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97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6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6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6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Franklin Gothic Medium"/>
              </a:rPr>
              <a:t>РЕШЕНИЕ ЗАДАЧ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Franklin Gothic Book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В прямоугольном треугольнике гипотенуза равна с, а один из острых углов равен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. Выразите второй острый угол и катеты через с и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и найдите их значения, если с=24, а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=6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Franklin Gothic Book"/>
              </a:rPr>
              <a:t>0</a:t>
            </a:r>
            <a:r>
              <a:rPr b="1" i="1" lang="ru-RU" sz="2800" spc="-1" strike="noStrike">
                <a:solidFill>
                  <a:srgbClr val="cc33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3059280" y="1052640"/>
            <a:ext cx="20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№ 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3708360" y="4005360"/>
            <a:ext cx="4678920" cy="2447640"/>
            <a:chOff x="3708360" y="4005360"/>
            <a:chExt cx="4678920" cy="2447640"/>
          </a:xfrm>
        </p:grpSpPr>
        <p:sp>
          <p:nvSpPr>
            <p:cNvPr id="561" name="Line 6"/>
            <p:cNvSpPr/>
            <p:nvPr/>
          </p:nvSpPr>
          <p:spPr>
            <a:xfrm>
              <a:off x="4245480" y="4335840"/>
              <a:ext cx="0" cy="189864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7"/>
            <p:cNvSpPr/>
            <p:nvPr/>
          </p:nvSpPr>
          <p:spPr>
            <a:xfrm>
              <a:off x="4245480" y="6234840"/>
              <a:ext cx="3672360" cy="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8"/>
            <p:cNvSpPr/>
            <p:nvPr/>
          </p:nvSpPr>
          <p:spPr>
            <a:xfrm>
              <a:off x="4245480" y="4335840"/>
              <a:ext cx="3672360" cy="1898640"/>
            </a:xfrm>
            <a:prstGeom prst="line">
              <a:avLst/>
            </a:prstGeom>
            <a:ln w="5724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9"/>
            <p:cNvSpPr/>
            <p:nvPr/>
          </p:nvSpPr>
          <p:spPr>
            <a:xfrm>
              <a:off x="4245480" y="5946840"/>
              <a:ext cx="89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0"/>
            <p:cNvSpPr/>
            <p:nvPr/>
          </p:nvSpPr>
          <p:spPr>
            <a:xfrm>
              <a:off x="5139000" y="5946840"/>
              <a:ext cx="0" cy="28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11"/>
            <p:cNvSpPr txBox="1"/>
            <p:nvPr/>
          </p:nvSpPr>
          <p:spPr>
            <a:xfrm>
              <a:off x="8010720" y="6153840"/>
              <a:ext cx="37656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А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7" name="WordArt 12"/>
            <p:cNvSpPr txBox="1"/>
            <p:nvPr/>
          </p:nvSpPr>
          <p:spPr>
            <a:xfrm>
              <a:off x="3708360" y="6153840"/>
              <a:ext cx="37764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С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8" name="WordArt 13"/>
            <p:cNvSpPr txBox="1"/>
            <p:nvPr/>
          </p:nvSpPr>
          <p:spPr>
            <a:xfrm>
              <a:off x="4245480" y="4005360"/>
              <a:ext cx="37656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В</a:t>
              </a:r>
              <a:endPara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9" name="WordArt 15"/>
            <p:cNvSpPr txBox="1"/>
            <p:nvPr/>
          </p:nvSpPr>
          <p:spPr>
            <a:xfrm>
              <a:off x="6288120" y="4924440"/>
              <a:ext cx="324360" cy="43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6612480" y="5738040"/>
              <a:ext cx="8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8"/>
          <p:cNvSpPr/>
          <p:nvPr/>
        </p:nvSpPr>
        <p:spPr>
          <a:xfrm>
            <a:off x="539640" y="3573360"/>
            <a:ext cx="316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, АС,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ть чер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4:25:35Z</dcterms:created>
  <dc:creator>Светлана</dc:creator>
  <dc:description/>
  <dc:language>en-US</dc:language>
  <cp:lastModifiedBy>user</cp:lastModifiedBy>
  <dcterms:modified xsi:type="dcterms:W3CDTF">2021-10-19T09:55:23Z</dcterms:modified>
  <cp:revision>196</cp:revision>
  <dc:subject/>
  <dc:title>Слайд 1</dc:title>
</cp:coreProperties>
</file>