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6A8-55C1-4533-B0B6-1D818E20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147-BAFE-4B0F-AF74-FEE46D65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409-E271-47C4-8B11-BA9ECFF9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057-EDF4-4907-A0EB-ADA30BA0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C4BB-3470-435A-B51D-807D7751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9750-6D47-4CBA-AB97-4CB798B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E86-B64E-40C9-B127-6B532FB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A20-7DBC-4F66-B86E-2CAE00A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5493-891B-4997-AA53-644F7EC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885-760D-43B6-908B-42E1B2A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B177-9B10-4B07-8D11-ADF6307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9FD-7F8A-44DE-8A9A-9E5A7495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2BFC-76B9-4AA5-8E59-4D5C6E2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9E3-95BB-4F40-9B74-E1A422A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A852-D558-489F-A757-15DD3B8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287E-71F6-4EB6-8F31-F09CDF4B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4D4-B55A-4CF3-B331-FFBA98C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4DE7-FDF6-4DB8-818E-E2F0BDAF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84FD-5521-4D1F-AACF-86C8994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BCFF-9C0B-456E-B87A-D311C87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705E-7EB0-4F21-9E40-84959F2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4F60-838F-4094-BA8E-D7C26925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922-1D11-4BE0-85FE-4C6B6DA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E087-C89F-4DFC-AD54-0447C2F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DE8B-7487-49F4-A52A-1744194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2B59-45AD-46A0-9BDD-8281CD6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6588-CCBD-4D22-BA4A-019A8B4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904D-C691-4C70-9EF5-85706B0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0401-0930-4AC3-94BA-1C212A87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1C9C-D4AA-4C47-8BE8-B05357B6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4B8E-CD44-421D-88E2-06F105D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31AC-E6E8-4A03-8F02-BD5EB1B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7735-18ED-4679-831F-1570A00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0CE-1D82-4DFD-B340-73E5421C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2046-CDE1-47C7-9F07-E7196F5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CD91-5333-4DE9-AAD5-1D19FF78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F3A75-BF27-476B-9644-04560134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D3B8-3A77-41A8-AD6F-1985AF0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3701-1B30-4E95-AB77-72A5E75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D804-9C59-4002-903A-F80323C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6047-6F19-4B9A-9B51-CB69B08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A7D9-D54F-479F-AA8B-8235B84D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651E-05EC-46A7-9A20-E1DC93C2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6732-A8FF-4215-969D-AF7259E7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257-E539-45D9-BCA3-0749D2B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1D82-0593-4B73-BF77-C053381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7BB2-9394-4B0B-993F-16B8AF7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0EEC-5D41-4EFD-8E42-4948ADD6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203D-94BD-4990-B485-6CB1DC1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5DB6-36FE-4712-8940-B0D9F2F7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6A49-3C11-4C65-B5EA-3266161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1F8F-9419-425D-9139-EE9CE3E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F3AF-DB59-4B96-B537-50C3B12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2A555-05FC-4D3F-A218-1C112F7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B5E5-9800-4DB7-A7C7-C1D9780A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544-FADC-446C-A853-4967C6E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69D4-D4A4-4AE6-973B-14EF8385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6F5E-8C84-4633-81A2-F1F9482A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CA0FD-BC41-4287-A950-347D60FA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5FA2-3CAF-47EC-98EB-DB2CBF9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7F54-564E-4DD2-B556-15ED7218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8158-24BC-4745-B798-8FAA2B2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1F3B-75A7-4EE6-A416-0FDC20C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8931-4055-4CE9-803E-0FB7B45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8EED-AC19-460D-82BB-B4EAC85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687D-DBFA-43DE-AECF-12E6C02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DDF-9601-4081-A9B3-3F4B5A5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E3C4-4FAA-4555-BC6E-89515156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4DDD-7580-4358-B3C6-8911DB67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386B-A4AA-4689-8CD5-DE2AE30E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77B6F-14F1-4DC3-B789-ED92B0DA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8AE8-CFD3-4647-8980-ADBFDA33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CA319-2E64-49D3-8E3A-3DEBEB9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485C-FB12-49D0-A4F4-FEEC8CA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0185-271F-4CD3-A549-A5C4F76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F54F-CEC6-4573-A1DB-57FACC1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2E41-0970-4A92-B06E-E68D5AF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FF5-1B0C-45D5-928E-F3462F5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A1D74-D3E4-405F-8635-0F27B9D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EB1F-AD92-46E5-8D1A-C347E1D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7E1D-48BE-401C-BD67-B118BA4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26A4-8F65-4D33-98B5-A407AD5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DA71-B9F0-4841-AF8C-5CF6AAD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E95-0F6B-4C4F-9207-84883E7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BFA-5C86-4E12-BACC-7C0F441BD55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1AE-00F4-4154-BC04-AD3753CF92C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7F8-5601-4258-BB31-4F79B4B94D6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43C-8292-41EE-AFFA-80A1730687F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6542-8473-46E7-88A9-6CEAB47F1B2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75F-C1C5-41F2-A1CF-3DC4AC5DBEE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A613-13FA-428F-B221-38BF8B20F82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b80a"/>
                </a:solidFill>
                <a:latin typeface="Corbel"/>
              </a:rPr>
              <a:t>Занимательная математика для детей </a:t>
            </a: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(устный счёт + учимся писать цифры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219280" y="422100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рязгунова Надежда Николаев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КОУ «Ольховлогская ООШ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Учимся писать цифр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380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94" dur="5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97" dur="5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00" dur="5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36097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25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28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3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Все орешки посчитай-ка!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    </a:t>
            </a: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1000080" y="189000"/>
            <a:ext cx="3660840" cy="3128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47" dur="5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53" dur="5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56" dur="5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Только сколько ложек надо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1071720" y="3000240"/>
            <a:ext cx="424800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62" dur="5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колько всего грибов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000080" y="115920"/>
            <a:ext cx="3213000" cy="2531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430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 rot="901200">
            <a:off x="1712520" y="109512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3571920" y="1214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 rot="7451400">
            <a:off x="2837880" y="694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5000760" y="112536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Не похож он на пятак, не похож на бублик, круглый он, да не дурак, с дыркой, да не бубли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16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5580000" y="1052640"/>
            <a:ext cx="35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евять, как шесть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гляд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олько хвост не ввер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190" dur="5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Источники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dc765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8dc765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8dc765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826920" y="263700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3%20%D1%86%D1%8B%D0%BF%D0%BB%D1%91%D0%BD%D0%BA%D0%B0&amp;img_url=s56.radikal.ru%2Fi154%2F0904%2F0b%2F797649ce0634.jpg&amp;spsite=fake-004-7856796.ru&amp;p=29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У домика утром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Два зайца сидели и дружно весёлую песенку пели.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Один убежал, а второй вслед глядит.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колько у домика зайцев сидит?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22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25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41752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feb80a"/>
                </a:solidFill>
                <a:latin typeface="Corbel"/>
              </a:rPr>
              <a:t>У ежа в тарелке!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350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50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362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75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feb80a"/>
                </a:solidFill>
                <a:latin typeface="Corbel"/>
              </a:rPr>
              <a:t>Посчитай окошки в домике у кошки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Ирина Алексеевна</cp:lastModifiedBy>
  <dcterms:modified xsi:type="dcterms:W3CDTF">2016-10-25T08:51:05Z</dcterms:modified>
  <cp:revision>11</cp:revision>
  <dc:subject/>
  <dc:title>Занимательная математика для детей (устный счёт)</dc:title>
</cp:coreProperties>
</file>