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7E4E-4429-4D30-804F-4579F172AB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64E9-3327-4DAF-A547-EF0E89F8C7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2B86-0CB5-450E-9315-8F0844E3CE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921-0E2A-4158-A383-BF65F95C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96F-09D4-4690-8668-E1528134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139-2D17-4E91-9A6F-2C402252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FAB4-D47C-4FD7-B29B-B61A877E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826-2CF2-4656-AD81-A22388EC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4F4E-0F40-4BA7-B5B1-E7F364CD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915-0AD0-4D80-B594-A922191C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B4A8-F68C-41CC-92D6-46D6A9A9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5A1-6076-4752-A888-1921C070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616-22AB-4C23-8953-8D241A94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B70-0CEB-4635-8BB2-08441B66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6D8-761D-414F-B14D-38D195C6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22F9-4686-4E2A-898A-0A7BD7CF24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5.bmp"/>
          <p:cNvPicPr/>
          <p:nvPr/>
        </p:nvPicPr>
        <p:blipFill>
          <a:blip r:embed="rId1"/>
          <a:stretch/>
        </p:blipFill>
        <p:spPr>
          <a:xfrm>
            <a:off x="2757600" y="3957480"/>
            <a:ext cx="1485720" cy="16574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5.bmp"/>
          <p:cNvPicPr/>
          <p:nvPr/>
        </p:nvPicPr>
        <p:blipFill>
          <a:blip r:embed="rId2"/>
          <a:stretch/>
        </p:blipFill>
        <p:spPr>
          <a:xfrm>
            <a:off x="1298520" y="3957480"/>
            <a:ext cx="1486080" cy="1657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Перо"/>
          <p:cNvPicPr/>
          <p:nvPr/>
        </p:nvPicPr>
        <p:blipFill>
          <a:blip r:embed="rId3"/>
          <a:stretch/>
        </p:blipFill>
        <p:spPr>
          <a:xfrm>
            <a:off x="6245280" y="2852640"/>
            <a:ext cx="2143080" cy="3000600"/>
          </a:xfrm>
          <a:prstGeom prst="rect">
            <a:avLst/>
          </a:prstGeom>
          <a:ln w="0">
            <a:noFill/>
          </a:ln>
        </p:spPr>
      </p:pic>
      <p:pic>
        <p:nvPicPr>
          <p:cNvPr id="51" name="WordArt 8" descr=""/>
          <p:cNvPicPr/>
          <p:nvPr/>
        </p:nvPicPr>
        <p:blipFill>
          <a:blip r:embed="rId4"/>
          <a:stretch/>
        </p:blipFill>
        <p:spPr>
          <a:xfrm>
            <a:off x="2494080" y="3492360"/>
            <a:ext cx="4443120" cy="129888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1428840" y="85716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54061"/>
                </a:solidFill>
                <a:latin typeface="Segoe Print"/>
                <a:ea typeface="Times New Roman"/>
              </a:rPr>
              <a:t>ЗАНИМАТЕ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54061"/>
                </a:solidFill>
                <a:latin typeface="Segoe Print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254061"/>
                </a:solidFill>
                <a:latin typeface="Segoe Print"/>
                <a:ea typeface="Times New Roman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ольник 1" descr=""/>
          <p:cNvPicPr/>
          <p:nvPr/>
        </p:nvPicPr>
        <p:blipFill>
          <a:blip r:embed="rId1"/>
          <a:stretch/>
        </p:blipFill>
        <p:spPr>
          <a:xfrm>
            <a:off x="781200" y="2682720"/>
            <a:ext cx="8081640" cy="59688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4" descr=""/>
          <p:cNvPicPr/>
          <p:nvPr/>
        </p:nvPicPr>
        <p:blipFill>
          <a:blip r:embed="rId2"/>
          <a:stretch/>
        </p:blipFill>
        <p:spPr>
          <a:xfrm>
            <a:off x="1676520" y="3724200"/>
            <a:ext cx="7265880" cy="1500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www.sominka.ru/produktsiya/images/stone70-300.gif"/>
          <p:cNvPicPr/>
          <p:nvPr/>
        </p:nvPicPr>
        <p:blipFill>
          <a:blip r:embed="rId3"/>
          <a:stretch/>
        </p:blipFill>
        <p:spPr>
          <a:xfrm>
            <a:off x="3203640" y="549360"/>
            <a:ext cx="39434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781200" y="2682720"/>
            <a:ext cx="8081640" cy="5968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4" descr=""/>
          <p:cNvPicPr/>
          <p:nvPr/>
        </p:nvPicPr>
        <p:blipFill>
          <a:blip r:embed="rId2"/>
          <a:stretch/>
        </p:blipFill>
        <p:spPr>
          <a:xfrm>
            <a:off x="2090880" y="4017960"/>
            <a:ext cx="6188040" cy="149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900igr.net/datai/priroda/3-Osen-3.files/0026-050-Osenju-vozdukh-stanovitsja-kholodnee.png"/>
          <p:cNvPicPr/>
          <p:nvPr/>
        </p:nvPicPr>
        <p:blipFill>
          <a:blip r:embed="rId3"/>
          <a:stretch/>
        </p:blipFill>
        <p:spPr>
          <a:xfrm>
            <a:off x="3708360" y="392040"/>
            <a:ext cx="26481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3235320" y="2806560"/>
            <a:ext cx="60580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3400" spc="-1" strike="noStrike">
                <a:solidFill>
                  <a:srgbClr val="009300"/>
                </a:solidFill>
                <a:latin typeface="Times New Roman - 36"/>
              </a:rPr>
              <a:t>Наша Таня громко плаче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500120" y="1225440"/>
            <a:ext cx="385776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3100" spc="-1" strike="noStrike">
                <a:solidFill>
                  <a:srgbClr val="0000ff"/>
                </a:solidFill>
                <a:latin typeface="Times New Roman - 36"/>
              </a:rPr>
              <a:t>Мишка косолапы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3100" spc="-1" strike="noStrike">
                <a:solidFill>
                  <a:srgbClr val="0000ff"/>
                </a:solidFill>
                <a:latin typeface="Times New Roman - 36"/>
              </a:rPr>
              <a:t>по лесу идё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143000" y="4500720"/>
            <a:ext cx="5715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3800" spc="-1" strike="noStrike">
                <a:solidFill>
                  <a:srgbClr val="4b0082"/>
                </a:solidFill>
                <a:latin typeface="Times New Roman - 36"/>
              </a:rPr>
              <a:t>Идёт бычок качаетс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Crying 2"/>
          <p:cNvPicPr/>
          <p:nvPr/>
        </p:nvPicPr>
        <p:blipFill>
          <a:blip r:embed="rId1"/>
          <a:stretch/>
        </p:blipFill>
        <p:spPr>
          <a:xfrm rot="21259200">
            <a:off x="904680" y="2752200"/>
            <a:ext cx="2274840" cy="1084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бык_к"/>
          <p:cNvPicPr/>
          <p:nvPr/>
        </p:nvPicPr>
        <p:blipFill>
          <a:blip r:embed="rId2"/>
          <a:stretch/>
        </p:blipFill>
        <p:spPr>
          <a:xfrm rot="779400">
            <a:off x="6973920" y="4433760"/>
            <a:ext cx="1442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5"/>
          <p:cNvGrpSpPr/>
          <p:nvPr/>
        </p:nvGrpSpPr>
        <p:grpSpPr>
          <a:xfrm>
            <a:off x="5606640" y="1041120"/>
            <a:ext cx="1065240" cy="1252080"/>
            <a:chOff x="5606640" y="1041120"/>
            <a:chExt cx="1065240" cy="1252080"/>
          </a:xfrm>
        </p:grpSpPr>
        <p:sp>
          <p:nvSpPr>
            <p:cNvPr id="104" name="Freeform 14"/>
            <p:cNvSpPr/>
            <p:nvPr/>
          </p:nvSpPr>
          <p:spPr>
            <a:xfrm rot="471000">
              <a:off x="5607720" y="2148480"/>
              <a:ext cx="87120" cy="198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 rot="471000">
              <a:off x="6392520" y="2255760"/>
              <a:ext cx="87120" cy="219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 rot="471000">
              <a:off x="5758560" y="1941840"/>
              <a:ext cx="98640" cy="65160"/>
            </a:xfrm>
            <a:prstGeom prst="pie">
              <a:avLst/>
            </a:prstGeom>
            <a:solidFill>
              <a:srgbClr val="6928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 rot="471000">
              <a:off x="5682240" y="1661400"/>
              <a:ext cx="773280" cy="573840"/>
            </a:xfrm>
            <a:prstGeom prst="pie">
              <a:avLst/>
            </a:pr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 rot="471000">
              <a:off x="5936040" y="1731960"/>
              <a:ext cx="496440" cy="388800"/>
            </a:xfrm>
            <a:prstGeom prst="pie">
              <a:avLst/>
            </a:prstGeom>
            <a:solidFill>
              <a:srgbClr val="fff2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 rot="471000">
              <a:off x="6372360" y="2264400"/>
              <a:ext cx="85680" cy="219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 rot="471000">
              <a:off x="6307560" y="2265120"/>
              <a:ext cx="85680" cy="219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 rot="471000">
              <a:off x="5635800" y="2161800"/>
              <a:ext cx="85680" cy="208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 rot="471000">
              <a:off x="5700600" y="2175120"/>
              <a:ext cx="85680" cy="208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 rot="471000">
              <a:off x="6377040" y="1105560"/>
              <a:ext cx="244440" cy="168840"/>
            </a:xfrm>
            <a:prstGeom prst="pie">
              <a:avLst/>
            </a:pr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 rot="471000">
              <a:off x="6430680" y="1171440"/>
              <a:ext cx="153000" cy="113760"/>
            </a:xfrm>
            <a:prstGeom prst="pie">
              <a:avLst/>
            </a:pr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 rot="471000">
              <a:off x="5724720" y="1105920"/>
              <a:ext cx="910800" cy="595080"/>
            </a:xfrm>
            <a:prstGeom prst="pie">
              <a:avLst/>
            </a:pr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 rot="471000">
              <a:off x="5712840" y="1058040"/>
              <a:ext cx="264600" cy="212400"/>
            </a:xfrm>
            <a:prstGeom prst="pie">
              <a:avLst/>
            </a:prstGeom>
            <a:solidFill>
              <a:srgbClr val="8f360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7"/>
            <p:cNvSpPr/>
            <p:nvPr/>
          </p:nvSpPr>
          <p:spPr>
            <a:xfrm rot="471000">
              <a:off x="5781240" y="1116000"/>
              <a:ext cx="177120" cy="143640"/>
            </a:xfrm>
            <a:prstGeom prst="pie">
              <a:avLst/>
            </a:prstGeom>
            <a:solidFill>
              <a:srgbClr val="ffb76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8"/>
            <p:cNvSpPr/>
            <p:nvPr/>
          </p:nvSpPr>
          <p:spPr>
            <a:xfrm rot="471000">
              <a:off x="6207840" y="1275840"/>
              <a:ext cx="343440" cy="26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9"/>
            <p:cNvSpPr/>
            <p:nvPr/>
          </p:nvSpPr>
          <p:spPr>
            <a:xfrm rot="471000">
              <a:off x="6435360" y="1394280"/>
              <a:ext cx="102960" cy="813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0"/>
            <p:cNvSpPr/>
            <p:nvPr/>
          </p:nvSpPr>
          <p:spPr>
            <a:xfrm rot="471000">
              <a:off x="5973840" y="1247400"/>
              <a:ext cx="371880" cy="279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1"/>
            <p:cNvSpPr/>
            <p:nvPr/>
          </p:nvSpPr>
          <p:spPr>
            <a:xfrm rot="471000">
              <a:off x="6219000" y="1371960"/>
              <a:ext cx="102960" cy="813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2"/>
            <p:cNvSpPr/>
            <p:nvPr/>
          </p:nvSpPr>
          <p:spPr>
            <a:xfrm rot="471000">
              <a:off x="6106680" y="1483200"/>
              <a:ext cx="364680" cy="227880"/>
            </a:xfrm>
            <a:prstGeom prst="ellipse">
              <a:avLst/>
            </a:prstGeom>
            <a:solidFill>
              <a:srgbClr val="ffb7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 rot="471000">
              <a:off x="6282000" y="1507320"/>
              <a:ext cx="118440" cy="50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4"/>
            <p:cNvSpPr/>
            <p:nvPr/>
          </p:nvSpPr>
          <p:spPr>
            <a:xfrm rot="471000">
              <a:off x="6289560" y="1558800"/>
              <a:ext cx="88200" cy="43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1" descr=""/>
          <p:cNvPicPr/>
          <p:nvPr/>
        </p:nvPicPr>
        <p:blipFill>
          <a:blip r:embed="rId1"/>
          <a:stretch/>
        </p:blipFill>
        <p:spPr>
          <a:xfrm>
            <a:off x="781200" y="2682720"/>
            <a:ext cx="8081640" cy="596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42960" y="341280"/>
            <a:ext cx="82152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еде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едельник Прохор Попов, простой парнишка, провёл по-иному: почему-то пораньше проснулся, пошёл прогуляться по пробуждающемуся парку. По пути повстречал Петю. Прохор предложил Пете пройтись по парку, площадкам, полянкам. Потом пошли подкрепиться посущественнее: поели пирожки, пиццу, попили, попробовали привлекательные пирожные. Попутно покормили пони, пташек. После прогулки побежали покупа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олудня пошли помогать Петькиной прабабушке прополоть, полить помидорчики. Потом поужинали, помыли по-быстрому посуду. Потемнело. Прохор побрёл провожать притомившегося Петьку. По пути полюбовались превосходной прир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ся пречудесный полезный понедель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extBox 1" descr=""/>
          <p:cNvPicPr/>
          <p:nvPr/>
        </p:nvPicPr>
        <p:blipFill>
          <a:blip r:embed="rId1"/>
          <a:stretch/>
        </p:blipFill>
        <p:spPr>
          <a:xfrm>
            <a:off x="225360" y="85680"/>
            <a:ext cx="896796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Segoe Print"/>
              </a:rPr>
              <a:t>-Время проходит, но сказанное слово остается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Print"/>
              </a:rPr>
              <a:t>-Поэты берутся не откуда же-нибудь из-за моря, но исходят из своего народа. Это - огни, из него же излетевшие, передовые вестники сил его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Print"/>
              </a:rPr>
              <a:t>-Учитесь и читайте. Читайте книги серьезные. Жизнь сделает остально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Print"/>
              </a:rPr>
              <a:t>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Print"/>
              </a:rPr>
              <a:t>-Нет слова, которое было бы так замашисто, бойко, так вырывалось бы из-под самого сердца, так бы кипело и животрепетало, как метко сказанное русское слов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Print"/>
              </a:rPr>
              <a:t>-Кто не родился поэтом, тот им никогда не станет, сколько бы к тому ни стремился, сколько бы труда на то ни потратил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Print"/>
              </a:rPr>
              <a:t>-Каждый настоящий писатель, конечно же, психолог, но сам больной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Print"/>
              </a:rPr>
              <a:t>-Писать нужно тогда, когда чувствуешь в этом острую потребность, и если есть, что сказать людям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Print"/>
              </a:rPr>
              <a:t>-Литература - язык, выражающий все, что страна думает, чего желает, что она знает и чего хочет и должна знать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Print"/>
              </a:rPr>
              <a:t>-Литература служит представительницей умственной жизни народ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Print"/>
              </a:rPr>
              <a:t>-Читать — это еще ничего не значит; что читать и как понимать читаемое — вот в чем главное дело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Print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532548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368604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й первый слог растёт в дубрав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торой - глубокая канав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бавьте букву иль предлог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тем найдите третий слог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го отлично знае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то в бильярд игра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 целом - повесть эт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ликого поэт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Дуб + Ров + С + Кий = «Дубровский».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3000240"/>
            <a:ext cx="3900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клицанье, утверждень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ё - поэта сочинень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О + Да = Ода.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то части мотоцикла знае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т слово это отгада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если букву «Д» прибави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сцене можно будет стави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Рама - драма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ы меня, наверно, знаеш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сказки Пушкина геро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если «Л» на «Н» замениш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бирской стану я реко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Елисей - Енисей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285480"/>
            <a:ext cx="40384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буквой «Я» - это шторм, извержень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водненье, паденье комет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без «Я» - то плоды вдохновень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нам дарят любовно поэт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Стихия - стихи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значает слово эт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, что ищут все поэт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кв порядок изменяем 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приятье получае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Рифма - фирма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ое - это же имя мальчиш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у а второе - читаете в книжк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Роман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третью в книжке вы найдёт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церкви первая блести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крест резной на ней стои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государства есть втора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од её весь выбира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за полчасика прочтёт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Глава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4"/>
          <p:cNvSpPr/>
          <p:nvPr/>
        </p:nvSpPr>
        <p:spPr>
          <a:xfrm>
            <a:off x="642960" y="13572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Segoe Print"/>
                <a:ea typeface="Times New Roman"/>
              </a:rPr>
              <a:t>Шесть мышат в шалаше шурш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42960" y="3714840"/>
            <a:ext cx="85010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egoe Print"/>
              </a:rPr>
              <a:t>Проворонила ворона ворон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extBox 1" descr=""/>
          <p:cNvPicPr/>
          <p:nvPr/>
        </p:nvPicPr>
        <p:blipFill>
          <a:blip r:embed="rId1"/>
          <a:stretch/>
        </p:blipFill>
        <p:spPr>
          <a:xfrm>
            <a:off x="633240" y="128520"/>
            <a:ext cx="8517240" cy="1925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571680" y="2357280"/>
            <a:ext cx="87865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ждь лил               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коро дело наладилось и пошло            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Я  знал городские переулки           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ости свалились    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н всегда врёт    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 себя во дворе Мишка был                     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4"/>
          <p:cNvSpPr/>
          <p:nvPr/>
        </p:nvSpPr>
        <p:spPr>
          <a:xfrm>
            <a:off x="2571840" y="2857680"/>
            <a:ext cx="3071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2365920" y="2357280"/>
            <a:ext cx="35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снег на голо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8"/>
          <p:cNvSpPr/>
          <p:nvPr/>
        </p:nvSpPr>
        <p:spPr>
          <a:xfrm>
            <a:off x="6143760" y="3500280"/>
            <a:ext cx="285732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5938200" y="297648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сивый ме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1"/>
          <p:cNvSpPr/>
          <p:nvPr/>
        </p:nvSpPr>
        <p:spPr>
          <a:xfrm>
            <a:off x="5357880" y="4071960"/>
            <a:ext cx="264312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5246640" y="3571920"/>
            <a:ext cx="30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рыба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4"/>
          <p:cNvSpPr/>
          <p:nvPr/>
        </p:nvSpPr>
        <p:spPr>
          <a:xfrm>
            <a:off x="3500280" y="4714920"/>
            <a:ext cx="214344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5"/>
          <p:cNvSpPr/>
          <p:nvPr/>
        </p:nvSpPr>
        <p:spPr>
          <a:xfrm>
            <a:off x="3340080" y="421488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из  ве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7"/>
          <p:cNvSpPr/>
          <p:nvPr/>
        </p:nvSpPr>
        <p:spPr>
          <a:xfrm>
            <a:off x="3143160" y="5286240"/>
            <a:ext cx="21430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8"/>
          <p:cNvSpPr/>
          <p:nvPr/>
        </p:nvSpPr>
        <p:spPr>
          <a:xfrm>
            <a:off x="3047040" y="4786200"/>
            <a:ext cx="25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по мас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20"/>
          <p:cNvSpPr/>
          <p:nvPr/>
        </p:nvSpPr>
        <p:spPr>
          <a:xfrm>
            <a:off x="5429160" y="5929200"/>
            <a:ext cx="350064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2"/>
          <p:cNvSpPr/>
          <p:nvPr/>
        </p:nvSpPr>
        <p:spPr>
          <a:xfrm>
            <a:off x="5049720" y="5405400"/>
            <a:ext cx="42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свои пять паль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3"/>
          <p:cNvSpPr/>
          <p:nvPr/>
        </p:nvSpPr>
        <p:spPr>
          <a:xfrm>
            <a:off x="3429000" y="4214880"/>
            <a:ext cx="357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снег на голо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4"/>
          <p:cNvSpPr/>
          <p:nvPr/>
        </p:nvSpPr>
        <p:spPr>
          <a:xfrm>
            <a:off x="3079440" y="4786200"/>
            <a:ext cx="34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сивый мер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5"/>
          <p:cNvSpPr/>
          <p:nvPr/>
        </p:nvSpPr>
        <p:spPr>
          <a:xfrm>
            <a:off x="5461200" y="5429160"/>
            <a:ext cx="30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рыба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6"/>
          <p:cNvSpPr/>
          <p:nvPr/>
        </p:nvSpPr>
        <p:spPr>
          <a:xfrm>
            <a:off x="2697120" y="235728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из  ве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8"/>
          <p:cNvSpPr/>
          <p:nvPr/>
        </p:nvSpPr>
        <p:spPr>
          <a:xfrm>
            <a:off x="6261840" y="3000240"/>
            <a:ext cx="25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по мас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9"/>
          <p:cNvSpPr/>
          <p:nvPr/>
        </p:nvSpPr>
        <p:spPr>
          <a:xfrm>
            <a:off x="5054040" y="3571920"/>
            <a:ext cx="43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свои пять паль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1" descr=""/>
          <p:cNvPicPr/>
          <p:nvPr/>
        </p:nvPicPr>
        <p:blipFill>
          <a:blip r:embed="rId1"/>
          <a:stretch/>
        </p:blipFill>
        <p:spPr>
          <a:xfrm>
            <a:off x="781200" y="2682720"/>
            <a:ext cx="8081640" cy="59688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4" descr=""/>
          <p:cNvPicPr/>
          <p:nvPr/>
        </p:nvPicPr>
        <p:blipFill>
          <a:blip r:embed="rId2"/>
          <a:stretch/>
        </p:blipFill>
        <p:spPr>
          <a:xfrm>
            <a:off x="2090880" y="3724200"/>
            <a:ext cx="613224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go3.imgsmail.ru/imgpreview?key=4743199a8a6df337&amp;mb=imgdb_preview_1279"/>
          <p:cNvPicPr/>
          <p:nvPr/>
        </p:nvPicPr>
        <p:blipFill>
          <a:blip r:embed="rId3"/>
          <a:stretch/>
        </p:blipFill>
        <p:spPr>
          <a:xfrm>
            <a:off x="3492360" y="549360"/>
            <a:ext cx="30355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1" descr=""/>
          <p:cNvPicPr/>
          <p:nvPr/>
        </p:nvPicPr>
        <p:blipFill>
          <a:blip r:embed="rId1"/>
          <a:stretch/>
        </p:blipFill>
        <p:spPr>
          <a:xfrm>
            <a:off x="781200" y="2682720"/>
            <a:ext cx="8081640" cy="5968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post-182034-1268567050.gif"/>
          <p:cNvPicPr/>
          <p:nvPr/>
        </p:nvPicPr>
        <p:blipFill>
          <a:blip r:embed="rId2"/>
          <a:stretch/>
        </p:blipFill>
        <p:spPr>
          <a:xfrm>
            <a:off x="1547640" y="531720"/>
            <a:ext cx="6286680" cy="2793960"/>
          </a:xfrm>
          <a:prstGeom prst="rect">
            <a:avLst/>
          </a:prstGeom>
          <a:ln w="0">
            <a:noFill/>
          </a:ln>
        </p:spPr>
      </p:pic>
      <p:pic>
        <p:nvPicPr>
          <p:cNvPr id="85" name="TextBox 4" descr=""/>
          <p:cNvPicPr/>
          <p:nvPr/>
        </p:nvPicPr>
        <p:blipFill>
          <a:blip r:embed="rId3"/>
          <a:stretch/>
        </p:blipFill>
        <p:spPr>
          <a:xfrm>
            <a:off x="2090880" y="3724200"/>
            <a:ext cx="61322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781200" y="2682720"/>
            <a:ext cx="8081640" cy="59688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4" descr=""/>
          <p:cNvPicPr/>
          <p:nvPr/>
        </p:nvPicPr>
        <p:blipFill>
          <a:blip r:embed="rId2"/>
          <a:stretch/>
        </p:blipFill>
        <p:spPr>
          <a:xfrm>
            <a:off x="1779480" y="3724200"/>
            <a:ext cx="6748560" cy="1500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infokava.com/uploads/posts/2014-11/1415809166_rebenok.jpg"/>
          <p:cNvPicPr/>
          <p:nvPr/>
        </p:nvPicPr>
        <p:blipFill>
          <a:blip r:embed="rId3"/>
          <a:stretch/>
        </p:blipFill>
        <p:spPr>
          <a:xfrm>
            <a:off x="3276720" y="53172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1" descr=""/>
          <p:cNvPicPr/>
          <p:nvPr/>
        </p:nvPicPr>
        <p:blipFill>
          <a:blip r:embed="rId1"/>
          <a:stretch/>
        </p:blipFill>
        <p:spPr>
          <a:xfrm>
            <a:off x="781200" y="2682720"/>
            <a:ext cx="8081640" cy="59688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2090880" y="3724200"/>
            <a:ext cx="6132240" cy="1500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aif-ukraine.kiev.ua/wp-content/uploads/2014/01/detskie-igry.jpg"/>
          <p:cNvPicPr/>
          <p:nvPr/>
        </p:nvPicPr>
        <p:blipFill>
          <a:blip r:embed="rId3"/>
          <a:stretch/>
        </p:blipFill>
        <p:spPr>
          <a:xfrm>
            <a:off x="2268360" y="404640"/>
            <a:ext cx="500724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2:11:25Z</dcterms:created>
  <dc:creator>Надя</dc:creator>
  <dc:description/>
  <dc:language>en-US</dc:language>
  <cp:lastModifiedBy>Библиотека</cp:lastModifiedBy>
  <dcterms:modified xsi:type="dcterms:W3CDTF">2016-12-07T08:49:18Z</dcterms:modified>
  <cp:revision>127</cp:revision>
  <dc:subject/>
  <dc:title>Слайд 1</dc:title>
</cp:coreProperties>
</file>