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CFE-023F-4116-B587-702A4BC6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D07-9636-4C7A-91AA-B9CA7983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9FA-D963-4FD1-9D91-07D0A86B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13C-C639-40A4-B99E-1D89B641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1DE-DE52-474B-8581-256F69FF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DED-6D17-4EA1-A694-CFFB8F67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401-3FC9-4EE1-AF64-0A4EB1C0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867-9B34-4231-BD50-6712D066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62B-15A2-43C9-94FE-E60E12A7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6B7-D6D5-4234-9CCB-F81355D0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33A9-BFDA-4EEB-B051-818EED10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818-C219-495F-9B56-80AB0050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11EF-E149-4E94-A246-8445A920B1B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1332000" y="1413000"/>
            <a:ext cx="66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ЖДУНАРОДНЫЕ ДОКУМЕН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 ПРАВАХ РЕБ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4211640" y="4869000"/>
            <a:ext cx="4248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Рисунок 2" descr=""/>
          <p:cNvPicPr/>
          <p:nvPr/>
        </p:nvPicPr>
        <p:blipFill>
          <a:blip r:embed="rId2"/>
          <a:stretch/>
        </p:blipFill>
        <p:spPr>
          <a:xfrm>
            <a:off x="34920" y="3656160"/>
            <a:ext cx="3384720" cy="3085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108000" y="4046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Уважение взглядов ребенка (статья 1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F:\ОБЩЕСТВОЗНАНИЕ\110.jpg"/>
          <p:cNvPicPr/>
          <p:nvPr/>
        </p:nvPicPr>
        <p:blipFill>
          <a:blip r:embed="rId2"/>
          <a:stretch/>
        </p:blipFill>
        <p:spPr>
          <a:xfrm>
            <a:off x="250920" y="2743200"/>
            <a:ext cx="8642160" cy="39988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2"/>
          <p:cNvSpPr/>
          <p:nvPr/>
        </p:nvSpPr>
        <p:spPr>
          <a:xfrm>
            <a:off x="108000" y="958680"/>
            <a:ext cx="892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ям необходимо давать возможность участвовать в решении всех вопросов, касающихся их жизни, и обеспечивать свободу выражения их мнений. Они имеют право на то, чтобы к их мнению прислушивались и самым серьезным образом принимали его во вним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179280" y="333360"/>
            <a:ext cx="879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аждый ребенок имеет прав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"/>
          <p:cNvSpPr/>
          <p:nvPr/>
        </p:nvSpPr>
        <p:spPr>
          <a:xfrm>
            <a:off x="324000" y="1197000"/>
            <a:ext cx="8651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жизн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имя и гражданство при рожде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знать своих родителей и рассчитывать на их забот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свободно выражать свои мыс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защиту от вмешательства в личную жизн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щита ребенка, лишенного семь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получение медицинской помощ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уровень жизни, необходимый для развития ребен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образова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отдых, участие в культурной и творческой жиз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защиту от эксплуат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и один ребенок не должен быть подвергнут пытка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говорить на родном языке и соблюдать родные обычаи, исповедовать свою религ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F:\ОБЩЕСТВОЗНАНИЕ\44.jpg"/>
          <p:cNvPicPr/>
          <p:nvPr/>
        </p:nvPicPr>
        <p:blipFill>
          <a:blip r:embed="rId2"/>
          <a:stretch/>
        </p:blipFill>
        <p:spPr>
          <a:xfrm>
            <a:off x="755640" y="549360"/>
            <a:ext cx="7777080" cy="5381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826920" y="1125360"/>
            <a:ext cx="777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МНИТЕ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ЛЬЗУЯСЬ   СВОИМИ   ПРАВАМИ,   НАДО   УВАЖАТЬ ПРАВА ДРУГИХ ЛЮДЕ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2700360" y="4869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971640" y="47628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А РЕБЕН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611280" y="141300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а ребе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вод прав детей, зафиксированных в международных документах по правам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ен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лицо, не достигшее 18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о взяло на себя обязательство защищать детей, поэтому они имеют такие же права, что и взросл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1"/>
          <p:cNvSpPr/>
          <p:nvPr/>
        </p:nvSpPr>
        <p:spPr>
          <a:xfrm>
            <a:off x="900000" y="333360"/>
            <a:ext cx="73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ЖДУНАРОДНЫЕ ДОКУМЕНТЫ О ПРАВАХ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79280" y="1409760"/>
            <a:ext cx="85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24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Женевская декларация прав ребе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8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сеобщая декларация прав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F:\ОБЩЕСТВОЗНАНИЕ\88.jpg"/>
          <p:cNvPicPr/>
          <p:nvPr/>
        </p:nvPicPr>
        <p:blipFill>
          <a:blip r:embed="rId2"/>
          <a:stretch/>
        </p:blipFill>
        <p:spPr>
          <a:xfrm>
            <a:off x="179280" y="3471840"/>
            <a:ext cx="4392720" cy="319716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1"/>
          <p:cNvSpPr/>
          <p:nvPr/>
        </p:nvSpPr>
        <p:spPr>
          <a:xfrm>
            <a:off x="4716360" y="3471840"/>
            <a:ext cx="442764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59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Декларация прав ребе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89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Конвенция о правах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3"/>
          <p:cNvSpPr/>
          <p:nvPr/>
        </p:nvSpPr>
        <p:spPr>
          <a:xfrm>
            <a:off x="324000" y="76500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клар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т лат. «провозглашение») – не имеет обязательной силы. Это рекомендации, в которых провозглашаются основные принципы, программные по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1476360" y="3500280"/>
            <a:ext cx="698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нв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т лат. «договор», «соглашение») – соглашение по специальному вопросу, имеющее обязательную силу для тех государств, которые к нему присоединил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1"/>
          <p:cNvSpPr/>
          <p:nvPr/>
        </p:nvSpPr>
        <p:spPr>
          <a:xfrm>
            <a:off x="108000" y="260280"/>
            <a:ext cx="58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20 ноября 195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енеральной Ассамблеей ООН принят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кларация прав ребен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держит 10 принципов обеспечения защиты и благополучия де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"/>
          <p:cNvSpPr/>
          <p:nvPr/>
        </p:nvSpPr>
        <p:spPr>
          <a:xfrm>
            <a:off x="4140360" y="5335560"/>
            <a:ext cx="4752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0 ноября – Всемирный день прав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F:\ОБЩЕСТВОЗНАНИЕ\slide_4 (2).jpg"/>
          <p:cNvPicPr/>
          <p:nvPr/>
        </p:nvPicPr>
        <p:blipFill>
          <a:blip r:embed="rId2"/>
          <a:stretch/>
        </p:blipFill>
        <p:spPr>
          <a:xfrm>
            <a:off x="6084720" y="260280"/>
            <a:ext cx="2951280" cy="230508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3"/>
          <p:cNvSpPr/>
          <p:nvPr/>
        </p:nvSpPr>
        <p:spPr>
          <a:xfrm>
            <a:off x="4140360" y="2781360"/>
            <a:ext cx="489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20 ноября 198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писа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нвенция ООН о правах ребен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держит 54 статьи, учитывающие все моменты, связанные с жизнью и положением ребенка в обществ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ерритории России Конвенция о правах ребенка вступила в законную силу 15 сентября 1990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F:\ОБЩЕСТВОЗНАНИЕ\000 (2).jpg"/>
          <p:cNvPicPr/>
          <p:nvPr/>
        </p:nvPicPr>
        <p:blipFill>
          <a:blip r:embed="rId3"/>
          <a:stretch/>
        </p:blipFill>
        <p:spPr>
          <a:xfrm>
            <a:off x="108000" y="1628640"/>
            <a:ext cx="3900600" cy="511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2"/>
          <a:stretch/>
        </p:blipFill>
        <p:spPr>
          <a:xfrm>
            <a:off x="444600" y="433440"/>
            <a:ext cx="8254800" cy="755640"/>
          </a:xfrm>
          <a:prstGeom prst="rect">
            <a:avLst/>
          </a:prstGeom>
          <a:ln w="0">
            <a:noFill/>
          </a:ln>
        </p:spPr>
      </p:pic>
      <p:pic>
        <p:nvPicPr>
          <p:cNvPr id="341" name="Схема 7" descr=""/>
          <p:cNvPicPr/>
          <p:nvPr/>
        </p:nvPicPr>
        <p:blipFill>
          <a:blip r:embed="rId3"/>
          <a:stretch/>
        </p:blipFill>
        <p:spPr>
          <a:xfrm>
            <a:off x="268200" y="1816200"/>
            <a:ext cx="879660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179280" y="765000"/>
            <a:ext cx="885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Предотвращение дискриминации (статья 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F:\ОБЩЕСТВОЗНАНИЕ\22.jpg"/>
          <p:cNvPicPr/>
          <p:nvPr/>
        </p:nvPicPr>
        <p:blipFill>
          <a:blip r:embed="rId2"/>
          <a:stretch/>
        </p:blipFill>
        <p:spPr>
          <a:xfrm>
            <a:off x="4859280" y="1844640"/>
            <a:ext cx="4176720" cy="3960720"/>
          </a:xfrm>
          <a:prstGeom prst="rect">
            <a:avLst/>
          </a:prstGeom>
          <a:ln w="0">
            <a:noFill/>
          </a:ln>
        </p:spPr>
      </p:pic>
      <p:sp>
        <p:nvSpPr>
          <p:cNvPr id="344" name="TextBox 3"/>
          <p:cNvSpPr/>
          <p:nvPr/>
        </p:nvSpPr>
        <p:spPr>
          <a:xfrm>
            <a:off x="179280" y="1628640"/>
            <a:ext cx="4608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не должны подвергаться какой-либо дискриминации по признаку «расы, цвета кожи, пола, языка, религии, политических или иных убеждений, национального, этнического или социального происхождения, имущественного положения, состояния здоровья и обстоятельств рождения ребенка, его родителей или законных опекунов или каких-либо иных обстоятельств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5"/>
          <p:cNvSpPr/>
          <p:nvPr/>
        </p:nvSpPr>
        <p:spPr>
          <a:xfrm>
            <a:off x="108000" y="549360"/>
            <a:ext cx="885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Наилучшее обеспечение интересов ребенка (статья 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http://schelkovo-blagochin.orthodoxy.ru/press/svetilnik/2008_102/images/ystic_1.jpg"/>
          <p:cNvPicPr/>
          <p:nvPr/>
        </p:nvPicPr>
        <p:blipFill>
          <a:blip r:embed="rId2"/>
          <a:stretch/>
        </p:blipFill>
        <p:spPr>
          <a:xfrm>
            <a:off x="108000" y="1795320"/>
            <a:ext cx="3743280" cy="39373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7"/>
          <p:cNvSpPr/>
          <p:nvPr/>
        </p:nvSpPr>
        <p:spPr>
          <a:xfrm>
            <a:off x="4284720" y="1795320"/>
            <a:ext cx="46800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 всех решениях или действиях, которые затрагивают ребенка или детей как группу, в первую очередь необходимо учитывать наилучшие интересы ребенка. Это остается справедливым, независимо от того, принимаются ли решения правительственными, административными или судебными властями, либо семь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2"/>
          <p:cNvSpPr/>
          <p:nvPr/>
        </p:nvSpPr>
        <p:spPr>
          <a:xfrm>
            <a:off x="395280" y="836640"/>
            <a:ext cx="856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Право на жизнь, выживание и развитие (статья 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F:\ОБЩЕСТВОЗНАНИЕ\888.jpg"/>
          <p:cNvPicPr/>
          <p:nvPr/>
        </p:nvPicPr>
        <p:blipFill>
          <a:blip r:embed="rId2"/>
          <a:stretch/>
        </p:blipFill>
        <p:spPr>
          <a:xfrm>
            <a:off x="1116000" y="3097080"/>
            <a:ext cx="6985080" cy="350064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395280" y="198900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имеют право на выживание и всестороннее развитие, включая физическое, эмоциональное, психосоциальное, познавательное и культур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28:57Z</dcterms:created>
  <dc:creator>школа</dc:creator>
  <dc:description/>
  <dc:language>en-US</dc:language>
  <cp:lastModifiedBy>User</cp:lastModifiedBy>
  <dcterms:modified xsi:type="dcterms:W3CDTF">2020-08-24T08:14:59Z</dcterms:modified>
  <cp:revision>108</cp:revision>
  <dc:subject/>
  <dc:title>Слайд 1</dc:title>
</cp:coreProperties>
</file>