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5867F-41C4-4285-B6F4-F8FC8145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2300-9F74-4CD3-83EF-507E3BB2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6805-1048-406B-B36E-9D6B2C32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FDEE-F25A-4E52-A138-FDD68BBC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8225-4E5D-4F00-A8DE-DA721BB0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9040-745D-4E8B-9462-2CCE6EBA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6C1F-2FE8-4283-B83C-B945C8E2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11CD-CE1B-4A12-BCFE-864E846A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DE7E-CB17-4387-8EF4-5D9934C9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2550-B25B-42F0-9327-7BFE0F67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C500-7782-4D68-AAA1-C802173C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60CE-A05E-4F13-B248-EBDBAEDE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9422-D050-49A9-9304-5772C2C6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8482-87FA-428F-B242-B606A551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CB81-1FB1-4DC4-AE27-994EDFBF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0E1B-86F0-498C-AC96-491C7183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65A5-E986-4B73-AA82-2774B4EB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8098-4B0D-4AA3-BAFF-386F2F12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C9B2-0502-4B16-8265-442DB8D5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1F216-B8F9-4AA2-A527-EC6780C4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72CCD-F8D9-4B4E-9699-0E9DCBE6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740C-EC32-4BD0-BD99-192150BA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BEBC-C796-4BA4-B9FE-874F3390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0023-20D9-4548-BA5F-02690677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84EF-E175-4723-B734-4A1C9DFF7F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217C-25DE-4CB8-A219-6FA99F6FB5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Times New Roman"/>
              </a:rPr>
              <a:t>Государственное бюджетное дошкольное образовательное учреждение детский сад №23,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Times New Roman"/>
              </a:rPr>
              <a:t>Колпинского района , Санкт-Петербурга.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16000" y="981000"/>
            <a:ext cx="640080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онсультация для родител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Проведение народных подвижных игр с дошкольниками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6913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Введение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егодня мы все чаще обращаемся к опыту наших предков, к истокам народного образования и воспитания, поскольку именно там мы находим ответы на многие трудные вопросы сегодняшнего дня.Нормы и правила воспитания, выработанные народной педагогикой, проверены временем. В них сосредоточена веками формировавшаяся народная мудрость, вобравшая в себя общечеловеческие ценност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Одним из таких средств воспитания является народная игра. Она – уникальный феномен общечеловеческой культуры, поскольку у каждого века, у каждой эпохи, у каждого конкретного этноса, у любого поколения есть свои любимые игры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Народные подвижные игры являются традиционным средством педагогики. Испокон веков в них ярко отражался образ жизни людей, их быт, труд, национальные устои, представления о чести, смелости, мужестве, желание обладать силой, ловкостью, выносливостью, быстротой и красотой движений, проявлять смекалку, выдержку, творческую выдумку, находчивость, волю и стремление к побед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Народная подвижная игра, выполняя различные функции (развивающую, познавательную, развлекательную, диагностическую, корректирующую) служит средством приобщения детей к народной культуре. Подвижная игра – естественный спутник жизни ребенка, источник радостных эмоций, обладающий великой воспитательной силой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1. Народные подвижные игры.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320480"/>
            <a:ext cx="8785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русских селах и городах среди молодежи были широко распространены народные игры подвижного характера. Без них не обходился ни один даже самый скромный народный праздник. В игру вовлекались целые группы подростков, которые состязались в силе, ловкости, быстроте, меткости. В связи тем, что игры, как правило, проводились на улице, на свежем воздухе, это способствовало укреплению здоров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Бытовавшие в народе подвижные игры возникали свободно, продолжительность их не была регламентирована; элементарные правила между играющими, требования к выполнению двигательных заданий складывались по общему уговору участников игры, которые всякий раз сами устанавливали, где и как будут играть, куда можно убегать, сколько человек надо поймать водящему, как можно выручать пойманных и т. п. Устанавливались и правила выбора водящих (назначение по желанию играющих, с помощью считалок и т. п.), а также придумывались наказания проигравшему (часто довольно трудные и с современной точки зрения недопустимы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Подвижные игры разнообразны по своему содержанию и организации. Одни игры имеют сюжет, роли и правила, тесно связанные с сюжетом; игровые действия в них производятся в соответствии с требованиями, заданной ролью и правилами. В других играх сюжет и роли отсутствуют, предложены только двигательные задания, регулируемые правилами, которые определяют последовательность, быстроту и ловкость их выполнения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465440" cy="4464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4032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Сюжетные подвижные игры имеют широкое применение во всех возрастных группах детского сада Однако в младшем дошкольном возрасте особенно популярны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033800" cy="21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356000" y="1484280"/>
            <a:ext cx="4788000" cy="4897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428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Бессюжетные народные подвижные игры</a:t>
            </a: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Бессюжетные народные подвижные игры типа ловишек, перебежек очень близки к сюжетным – в них лишь нет образов, которым дети подражают, все остальные компоненты те же: наличие правил, ответственных ролей (ловишек, салок), взаимосвязанные игровые действия всех участников. Эти игры, так же как и сюжетные, основаны на простых движениях, чаще всего беге в сочетании с ловлей и прятаньем и т. п. Такие игры доступны и младшим и старшим дошкольникам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3961080" cy="20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11640" y="2276640"/>
            <a:ext cx="4464000" cy="208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9280" y="4365720"/>
            <a:ext cx="3853080" cy="2349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284720" y="4437000"/>
            <a:ext cx="4680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Подготовка к проведению игр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Подготовка к игре состоит из нескольких важных момент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Одним из них является предварительное ознакомление воспитателя с содержанием народных подвижных игр предшествующей данному возраст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Второй момент – это подготовка к проведению уже конкретной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игры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Важное значение имеет одежда и обувь играющих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7040" y="2577960"/>
            <a:ext cx="3097440" cy="2533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3024360" cy="194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443640" y="2637000"/>
            <a:ext cx="2700360" cy="338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763640" y="4581360"/>
            <a:ext cx="46087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Заключение</a:t>
            </a:r>
            <a:br>
              <a:rPr sz="1800"/>
            </a:br>
            <a:r>
              <a:rPr b="1" lang="en-US" sz="1400" spc="-1" strike="noStrike">
                <a:solidFill>
                  <a:srgbClr val="e5e5ff"/>
                </a:solidFill>
                <a:latin typeface="Garamond"/>
              </a:rPr>
              <a:t>Народные подвижные игры вызывают активную работу мысли, способствуют расширению кругозора, уточнению представлений об окружающем мире, совершенствованию всех психических и физических процессов, стимулирует переход детского организма к более высокой ступени развития, активной умственной деятельности.</a:t>
            </a:r>
            <a:br>
              <a:rPr sz="1400"/>
            </a:br>
            <a:r>
              <a:rPr b="1" lang="en-US" sz="1400" spc="-1" strike="noStrike">
                <a:solidFill>
                  <a:srgbClr val="e5e5ff"/>
                </a:solidFill>
                <a:latin typeface="Garamond"/>
              </a:rPr>
              <a:t>В народных подвижных играх много познавательного материала, содействующего расширению сенсорной сферы ребенка, развитию его мышления и самостоятельности действий.</a:t>
            </a:r>
            <a:br>
              <a:rPr sz="1400"/>
            </a:b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848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20:29:12Z</dcterms:created>
  <dc:creator>Таня</dc:creator>
  <dc:description/>
  <dc:language>en-US</dc:language>
  <cp:lastModifiedBy>Таня</cp:lastModifiedBy>
  <dcterms:modified xsi:type="dcterms:W3CDTF">2021-10-20T14:29:42Z</dcterms:modified>
  <cp:revision>4</cp:revision>
  <dc:subject/>
  <dc:title>Государственное бюджетное дошкольное образовательное учреждение детский сад №23, Колпинского района , Санкт-Петербурга.</dc:title>
</cp:coreProperties>
</file>