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456-CFEB-4945-A90D-3716A93B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65C-9656-4E46-9F41-959D773A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AFC-EF84-40B0-A278-CCDECABB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11D5-3FB1-43A5-8C34-587BE380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8957-E532-43A7-B977-078CCC23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C321-F01D-42C5-8161-D18DA5E1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ED3C-7002-427D-9491-7A4C4ED0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36E2-3F6D-4654-8B96-A42E7315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1503-48C5-4DDC-B164-C20E932B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39EF-A854-4251-8A7A-1828D553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C6E3-5EE9-4D55-A8AE-AAED1D31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82DF-722B-407A-AFD0-7E8F83FB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5074-A91A-4F48-BBB6-3D804485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183D-7012-4A85-9E61-5EF7A12C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3199-7396-4721-A0A1-D3873760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7BBD-DCAB-4EA1-9313-589FA320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CFB7-D5A0-4CD4-9C69-C24E1B13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6B0C-4F6E-4EC4-B78E-66B453D3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9D4-8205-42B2-B992-BC4E5AC3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2FC-7930-4A68-A418-B8D39BCA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FFA5-6D6D-4D57-AD8E-C4F713BD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A24-ECE8-4DF8-8ED8-7A3CDC01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55A1-6B6B-4DFF-9C68-F6F9EB46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7481-3DAA-4118-BD00-BD0D9642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7261-2CEC-4DDC-BE28-E973DBEACD5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6EF6-17BF-4E6A-AA36-05281C6D208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ставление описательных рассказов о зимующих птица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Picture 7" descr="http://itd0.mycdn.me/image?id=837939810603&amp;t=20&amp;plc=WEB&amp;tkn=*uj7xYlYqeK7T0gBRP6duiqAahxI"/>
          <p:cNvPicPr/>
          <p:nvPr/>
        </p:nvPicPr>
        <p:blipFill>
          <a:blip r:embed="rId1"/>
          <a:stretch/>
        </p:blipFill>
        <p:spPr>
          <a:xfrm>
            <a:off x="1295280" y="1981080"/>
            <a:ext cx="68788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904760" y="4648320"/>
            <a:ext cx="55623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Verdana"/>
              </a:rPr>
              <a:t>Воробей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– бойкая, жизнерадостная, находчивая и общительная птица. Клюёт овёс, пшено, зимой селится вблизи жилища человека, клюёт всё, что найдёт – всеядная птиц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7" descr="Воробей - 2"/>
          <p:cNvPicPr/>
          <p:nvPr/>
        </p:nvPicPr>
        <p:blipFill>
          <a:blip r:embed="rId1"/>
          <a:stretch/>
        </p:blipFill>
        <p:spPr>
          <a:xfrm>
            <a:off x="152280" y="609480"/>
            <a:ext cx="2514600" cy="3362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2819520" y="609480"/>
            <a:ext cx="60721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80520" y="4952880"/>
            <a:ext cx="8418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етом </a:t>
            </a:r>
            <a:r>
              <a:rPr b="0" lang="ru-RU" sz="2000" spc="-1" strike="noStrike">
                <a:solidFill>
                  <a:srgbClr val="33cccc"/>
                </a:solidFill>
                <a:latin typeface="Verdana"/>
              </a:rPr>
              <a:t>пёстрые дятлы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питаются древесными насекомыми, а зимой – семенами хвойных деревьев. Весной дятел пьёт берёзовый сок. Это одна из очень полезных птиц наших лесов: работает круглый год по уничтожению вредител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7" descr="Дятел - 1"/>
          <p:cNvPicPr/>
          <p:nvPr/>
        </p:nvPicPr>
        <p:blipFill>
          <a:blip r:embed="rId1"/>
          <a:stretch/>
        </p:blipFill>
        <p:spPr>
          <a:xfrm>
            <a:off x="152280" y="587520"/>
            <a:ext cx="2590920" cy="3717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2879640" y="609480"/>
            <a:ext cx="60721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ддержите птиц зимой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имующие птицы не боятся морозов и ухитряются добывать еду даже в самую холодную погоду. Они отыскивают насекомых, спрятавшихся в трещины коры, в щели домов и заборов, отыскивают плоды и семена лиственных растений, шишки хвойных деревьев с семенами. Но во время снегопадов, метелей и сильных морозов птицы голодают и даже погибают. Они прилетают к нашим жилищам за помощью. И мы с вами должны помочь пережить зиму пернатым друзья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7" descr="Дети кормят птиц - 2"/>
          <p:cNvPicPr/>
          <p:nvPr/>
        </p:nvPicPr>
        <p:blipFill>
          <a:blip r:embed="rId1"/>
          <a:stretch/>
        </p:blipFill>
        <p:spPr>
          <a:xfrm>
            <a:off x="152280" y="1600200"/>
            <a:ext cx="4496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2" descr="C:\Users\AMD\Desktop\zimuyuschie_pticy_ispolzuyut_lyudej_7_1240.jpg"/>
          <p:cNvPicPr/>
          <p:nvPr/>
        </p:nvPicPr>
        <p:blipFill>
          <a:blip r:embed="rId1"/>
          <a:stretch/>
        </p:blipFill>
        <p:spPr>
          <a:xfrm>
            <a:off x="0" y="-42840"/>
            <a:ext cx="91584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2" descr="C:\Users\AMD\Desktop\hello_html_ma321df4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екабр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Picture 5" descr="Декабрь"/>
          <p:cNvPicPr/>
          <p:nvPr/>
        </p:nvPicPr>
        <p:blipFill>
          <a:blip r:embed="rId1"/>
          <a:stretch/>
        </p:blipFill>
        <p:spPr>
          <a:xfrm>
            <a:off x="1606680" y="1600200"/>
            <a:ext cx="5930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Январ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Picture 6" descr="Январь"/>
          <p:cNvPicPr/>
          <p:nvPr/>
        </p:nvPicPr>
        <p:blipFill>
          <a:blip r:embed="rId1"/>
          <a:stretch/>
        </p:blipFill>
        <p:spPr>
          <a:xfrm>
            <a:off x="1371600" y="1676520"/>
            <a:ext cx="6172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Феврал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3" name="Picture 7" descr="Февраль - 2"/>
          <p:cNvPicPr/>
          <p:nvPr/>
        </p:nvPicPr>
        <p:blipFill>
          <a:blip r:embed="rId1"/>
          <a:stretch/>
        </p:blipFill>
        <p:spPr>
          <a:xfrm>
            <a:off x="1143000" y="1371600"/>
            <a:ext cx="67816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76720" y="2282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Verdana"/>
              </a:rPr>
              <a:t>Сорока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– неперелётная всеядная птица. Она питается как животным, так и растительным кормом. Пищу – насекомых, слизней, пауков и мокриц – сорока ищет на земле. К сожалению, сороки часто поселяются в садах и разоряют гнёзда певчих птиц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8" descr="Сорока - 1"/>
          <p:cNvPicPr/>
          <p:nvPr/>
        </p:nvPicPr>
        <p:blipFill>
          <a:blip r:embed="rId1"/>
          <a:stretch/>
        </p:blipFill>
        <p:spPr>
          <a:xfrm>
            <a:off x="228600" y="139680"/>
            <a:ext cx="2895480" cy="2832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http://image.slidesharecdn.com/random-140205101522-phpapp02/95/-21-638.jpg?cb=1391596427"/>
          <p:cNvPicPr/>
          <p:nvPr/>
        </p:nvPicPr>
        <p:blipFill>
          <a:blip r:embed="rId2"/>
          <a:srcRect l="0" t="22953" r="0" b="0"/>
          <a:stretch/>
        </p:blipFill>
        <p:spPr>
          <a:xfrm>
            <a:off x="1447920" y="2971800"/>
            <a:ext cx="607680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886200" y="151920"/>
            <a:ext cx="50292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етом </a:t>
            </a:r>
            <a:r>
              <a:rPr b="0" lang="ru-RU" sz="2000" spc="-1" strike="noStrike">
                <a:solidFill>
                  <a:srgbClr val="33cccc"/>
                </a:solidFill>
                <a:latin typeface="Verdana"/>
              </a:rPr>
              <a:t>синицы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питаются только насекомыми. Зимой насекомые прячутся, и птичкам приходится плохо, зимой они прилетают к нашим домам за помощью. Они будут клевать всё, что дадите: зерно, крупу, крошки хлеба, кусочки мяса, несолёного сал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8" descr="Синичка - 2"/>
          <p:cNvPicPr/>
          <p:nvPr/>
        </p:nvPicPr>
        <p:blipFill>
          <a:blip r:embed="rId1"/>
          <a:stretch/>
        </p:blipFill>
        <p:spPr>
          <a:xfrm>
            <a:off x="152280" y="152280"/>
            <a:ext cx="3505320" cy="2362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http://image.slidesharecdn.com/random-140205101522-phpapp02/95/-21-638.jpg?cb=1391596427"/>
          <p:cNvPicPr/>
          <p:nvPr/>
        </p:nvPicPr>
        <p:blipFill>
          <a:blip r:embed="rId2"/>
          <a:srcRect l="0" t="22953" r="0" b="0"/>
          <a:stretch/>
        </p:blipFill>
        <p:spPr>
          <a:xfrm>
            <a:off x="1447920" y="2971800"/>
            <a:ext cx="607680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00040" y="152280"/>
            <a:ext cx="57150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Verdana"/>
              </a:rPr>
              <a:t>Снегирь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чуть крупнее воробья, очень плотного сложения, сверху голубовато-серая с чёрным шапочка, подбородком, крыльями и хвостом, белыми надхвостьем и полосой на крыле, щёки и грудь у самцов красные или красно-розовы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11" descr="Снегирь - 2"/>
          <p:cNvPicPr/>
          <p:nvPr/>
        </p:nvPicPr>
        <p:blipFill>
          <a:blip r:embed="rId1"/>
          <a:stretch/>
        </p:blipFill>
        <p:spPr>
          <a:xfrm>
            <a:off x="228600" y="228600"/>
            <a:ext cx="2819520" cy="2606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http://image.slidesharecdn.com/random-140205101522-phpapp02/95/-21-638.jpg?cb=1391596427"/>
          <p:cNvPicPr/>
          <p:nvPr/>
        </p:nvPicPr>
        <p:blipFill>
          <a:blip r:embed="rId2"/>
          <a:srcRect l="0" t="22953" r="0" b="0"/>
          <a:stretch/>
        </p:blipFill>
        <p:spPr>
          <a:xfrm>
            <a:off x="1447920" y="3048120"/>
            <a:ext cx="607680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819160" y="380520"/>
            <a:ext cx="60958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cc"/>
                </a:solidFill>
                <a:latin typeface="Verdana"/>
              </a:rPr>
              <a:t>Вороны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очень умны. Фигура у вороны довольно неуклюжая. Ест ворона всё. Падаль, мыши, птички и их яйца, всякого рода черви и жуки, слизняки, рыба, овощи, фрукты, сыр, творог – всё ей годится. В природе ворона безусловно полезна, но вблизи человеческого жилья становится воровко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9" descr="Ворона"/>
          <p:cNvPicPr/>
          <p:nvPr/>
        </p:nvPicPr>
        <p:blipFill>
          <a:blip r:embed="rId1"/>
          <a:stretch/>
        </p:blipFill>
        <p:spPr>
          <a:xfrm>
            <a:off x="262080" y="228600"/>
            <a:ext cx="2371680" cy="264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http://image.slidesharecdn.com/random-140205101522-phpapp02/95/-21-638.jpg?cb=1391596427"/>
          <p:cNvPicPr/>
          <p:nvPr/>
        </p:nvPicPr>
        <p:blipFill>
          <a:blip r:embed="rId2"/>
          <a:srcRect l="0" t="22953" r="0" b="0"/>
          <a:stretch/>
        </p:blipFill>
        <p:spPr>
          <a:xfrm>
            <a:off x="1447920" y="3048120"/>
            <a:ext cx="607680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00040" y="228240"/>
            <a:ext cx="5791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ладает прекрасным зрением – различает цвета радуги и ультрафиолетовые лучи. Питается растительными кормами: семенами, ягодами, плодами фруктовых деревье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7" descr="голубь"/>
          <p:cNvPicPr/>
          <p:nvPr/>
        </p:nvPicPr>
        <p:blipFill>
          <a:blip r:embed="rId1"/>
          <a:stretch/>
        </p:blipFill>
        <p:spPr>
          <a:xfrm>
            <a:off x="228600" y="304920"/>
            <a:ext cx="2819520" cy="226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60721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2:11:51Z</dcterms:created>
  <dc:creator>admin</dc:creator>
  <dc:description/>
  <dc:language>en-US</dc:language>
  <cp:lastModifiedBy>AMD</cp:lastModifiedBy>
  <dcterms:modified xsi:type="dcterms:W3CDTF">2020-10-20T05:52:0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