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154-89D1-4FEF-A066-660EF0D6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2B3-73F1-4C39-8995-85807363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10D-6BDF-4982-A699-9E58F1F0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0C7-9ACB-4C65-B692-D200E7BF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AA2-F1A3-4F22-BE22-760D972D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D2E-4E0A-45D4-A5E5-06FE0C7A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DCF-2AE4-4C8F-B548-42606723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5CF-9C6E-4B6C-B152-4A4BEFBE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C28-B2D3-4CA3-9F4A-95BAB550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885-4BD6-453A-9E8E-16D2C7BB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D84-4DEC-43C4-AE3A-621A29A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69C-8029-439F-A6C2-E099A129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6C10-52FC-42ED-A621-EAA58F6A2F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518148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 Black"/>
              </a:rPr>
              <a:t>Речевая развивающая среда МДОУ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357440"/>
            <a:ext cx="53866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Подготовила: Степанова Светлана Владими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старший воспитатель МДОУ № 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«Ягодка»  Катав-Ивановск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муниципального рай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2021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57120" y="285840"/>
            <a:ext cx="6072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</a:rPr>
              <a:t>Организация речевой развивающей среды в детском сад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</a:rPr>
              <a:t>Создаёт благоприятные условия для формирования речевых умений и навыков детей не только в специально организованном обучении, но и в самостоя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</a:rPr>
              <a:t>Обеспечивает высокий уровень речев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</a:rPr>
              <a:t>Способствует овладению детьми речевыми умениями и навыками в естественной обстановке живой разговорной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55004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Times New Roman"/>
              </a:rPr>
              <a:t>Представление опыта работы на методическом объедине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286080" y="1357200"/>
            <a:ext cx="1928880" cy="266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214720" cy="279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3929040" y="4214880"/>
            <a:ext cx="1833480" cy="2346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172200" cy="48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Компоненты речевой развивающей среды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Arial"/>
              </a:rPr>
              <a:t>Речь педагог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Arial"/>
              </a:rPr>
              <a:t>                </a:t>
            </a: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Arial"/>
              </a:rPr>
              <a:t>Методы и приёмы</a:t>
            </a:r>
            <a:br>
              <a:rPr sz="2400"/>
            </a:b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Arial"/>
              </a:rPr>
              <a:t>	</a:t>
            </a: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Arial"/>
              </a:rPr>
              <a:t>	</a:t>
            </a: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Arial"/>
              </a:rPr>
              <a:t>Оборудова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428760" y="21420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ачества речи педаг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463680" y="1066680"/>
            <a:ext cx="5400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22228b"/>
                </a:solidFill>
                <a:latin typeface="Times New Roman"/>
              </a:rPr>
              <a:t>Методы и приёмы руководства речевым развитием детей</a:t>
            </a:r>
            <a:br>
              <a:rPr sz="28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Младшая группа 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методы и приёмы, направленные на развитие речи как средства общения (поручения, подсказ, образец обращения, образец взаимодействия посредством речи в разных видах деятельности);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методы и приёмы, направленные на формирование умения слушать и слышать (разговоры, рассказы, чтение);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редняя группа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етоды и приёмы, направленные на развитие речи как средства общения (удовлетворение потребности в получении и обсуждении информации; формирование навыков общения со сверстниками; знакомство с формулами речевого этикета);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етоды и приёмы, направленные на формирование умения слушать и слышать (выслушивание детей;  уточнение ответов; подсказ; рассказы воспитателя - акцент на стимулирование познавательного интереса)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ршая и подготовительная групп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ы и приёмы, направленные на развитие речи как средства общения (знакомство с формулами речевого этикета, целенаправленное формирование всех групп диалогических умений; умений грамотного отстаивания своей точки зрения)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ы и приёмы, направленные на формирование навыков самостоятельного рассказывания (поощрение рассказов детей; трансформация высказываний в связные рассказы; запись и повторение рассказов; уточнения, обобщения);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6760" y="609480"/>
            <a:ext cx="60721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одель предметной речевой среды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921040" y="1357200"/>
            <a:ext cx="33019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Логопедический уго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428760" y="1785960"/>
            <a:ext cx="21430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Книжный уго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2286000" y="4357800"/>
            <a:ext cx="457200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Уголок для сенсорно- моторного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357960" y="2286000"/>
            <a:ext cx="250020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Оборудование и атрибуты для сюжетно-ролевых иг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285840" y="3198960"/>
            <a:ext cx="21430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Уголок для театрал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2857680" y="2500200"/>
            <a:ext cx="27860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Развивающая речевая с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Прямая со стрелкой 11"/>
          <p:cNvCxnSpPr/>
          <p:nvPr/>
        </p:nvCxnSpPr>
        <p:spPr>
          <a:xfrm flipH="1">
            <a:off x="4427280" y="1857240"/>
            <a:ext cx="2160" cy="5724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V="1">
            <a:off x="2499840" y="3428640"/>
            <a:ext cx="786600" cy="3578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6" name="Прямая со стрелкой 17"/>
          <p:cNvCxnSpPr/>
          <p:nvPr/>
        </p:nvCxnSpPr>
        <p:spPr>
          <a:xfrm>
            <a:off x="1999800" y="2714400"/>
            <a:ext cx="786600" cy="2862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7" name="Прямая со стрелкой 19"/>
          <p:cNvCxnSpPr/>
          <p:nvPr/>
        </p:nvCxnSpPr>
        <p:spPr>
          <a:xfrm flipV="1">
            <a:off x="4570560" y="3430080"/>
            <a:ext cx="3600" cy="8582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8" name="Прямая со стрелкой 21"/>
          <p:cNvCxnSpPr/>
          <p:nvPr/>
        </p:nvCxnSpPr>
        <p:spPr>
          <a:xfrm flipH="1" flipV="1">
            <a:off x="5715000" y="2928600"/>
            <a:ext cx="64332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15160" cy="53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Дидактические пособия по речевому развитию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* </a:t>
            </a:r>
            <a:r>
              <a:rPr b="0" lang="ru-RU" sz="2800" spc="-1" strike="noStrike">
                <a:solidFill>
                  <a:srgbClr val="22228b"/>
                </a:solidFill>
                <a:latin typeface="Times New Roman"/>
              </a:rPr>
              <a:t>Дидактическое пособие «Построй замок»</a:t>
            </a:r>
            <a:br>
              <a:rPr sz="2800"/>
            </a:br>
            <a:r>
              <a:rPr b="0" lang="ru-RU" sz="2800" spc="-1" strike="noStrike">
                <a:solidFill>
                  <a:srgbClr val="22228b"/>
                </a:solidFill>
                <a:latin typeface="Times New Roman"/>
              </a:rPr>
              <a:t>* Дидактическое пособие «Теремок»</a:t>
            </a:r>
            <a:br>
              <a:rPr sz="2800"/>
            </a:br>
            <a:r>
              <a:rPr b="0" lang="ru-RU" sz="2800" spc="-1" strike="noStrike">
                <a:solidFill>
                  <a:srgbClr val="22228b"/>
                </a:solidFill>
                <a:latin typeface="Times New Roman"/>
              </a:rPr>
              <a:t>* Дидактическое пособие «Изограф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Дидактическая игра «Построй замо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Содержимое 4" descr="20211014_161130.jpg"/>
          <p:cNvPicPr/>
          <p:nvPr/>
        </p:nvPicPr>
        <p:blipFill>
          <a:blip r:embed="rId1"/>
          <a:stretch/>
        </p:blipFill>
        <p:spPr>
          <a:xfrm>
            <a:off x="928800" y="1571760"/>
            <a:ext cx="3500280" cy="4667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2" name="Содержимое 5" descr="20211014_161254.jpg"/>
          <p:cNvPicPr/>
          <p:nvPr/>
        </p:nvPicPr>
        <p:blipFill>
          <a:blip r:embed="rId2"/>
          <a:stretch/>
        </p:blipFill>
        <p:spPr>
          <a:xfrm>
            <a:off x="4714920" y="1857240"/>
            <a:ext cx="3143160" cy="4383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Дидактическая игра «Теремо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Содержимое 3" descr="20211014_160938.jpg"/>
          <p:cNvPicPr/>
          <p:nvPr/>
        </p:nvPicPr>
        <p:blipFill>
          <a:blip r:embed="rId1"/>
          <a:stretch/>
        </p:blipFill>
        <p:spPr>
          <a:xfrm>
            <a:off x="1214280" y="1571760"/>
            <a:ext cx="392940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Times New Roman"/>
              </a:rPr>
              <a:t>Дидактическая игра «Изограф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одержимое 5" descr="20211014_161431.jpg"/>
          <p:cNvPicPr/>
          <p:nvPr/>
        </p:nvPicPr>
        <p:blipFill>
          <a:blip r:embed="rId1"/>
          <a:stretch/>
        </p:blipFill>
        <p:spPr>
          <a:xfrm>
            <a:off x="1143000" y="2071800"/>
            <a:ext cx="5500800" cy="4125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23:09:21Z</dcterms:created>
  <dc:creator>User</dc:creator>
  <dc:description/>
  <dc:language>en-US</dc:language>
  <cp:lastModifiedBy>User</cp:lastModifiedBy>
  <cp:lastPrinted>1899-12-30T00:00:00Z</cp:lastPrinted>
  <dcterms:modified xsi:type="dcterms:W3CDTF">2021-10-20T08:28:28Z</dcterms:modified>
  <cp:revision>17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77</vt:lpwstr>
  </property>
</Properties>
</file>