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3593-5612-44AD-9D02-1F5F10094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384F-49E1-41B3-8573-0830F1BB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5CD9-205B-40E2-A5B6-69BD7B93D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8C75-0445-4655-B482-FC9A7FC2F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5E7B-EEA5-48A8-92E0-681492AB8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517A-B41A-445A-9A0A-E02C4B74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DA77-9B3E-4EFB-BC5D-B9E2AE03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E703-8B4E-4866-8616-E4DAB7DD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74AA-446A-4B4D-9087-C5445DB3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ED29-42E7-47F2-9574-97B437C2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760A-AEDD-4F97-86D1-B2CA3C1A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43A5-5AD0-47A3-BE10-518C0CFF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58E5-B303-491B-ADCB-4C305571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40F9-A3C8-46C2-803C-6017FFF6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8574-CF41-4607-81FF-ACFACA28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A666-E9B0-4FFF-A4F9-F745E8438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E51B-B917-4541-84ED-585123EEC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8381-3879-46CB-A26E-620F3669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F778-33D6-4FCC-9E59-42D582DC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4E01-0184-4748-8750-E9C938D1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4973-924E-4826-A8F0-75C4A939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7CAB-999B-403D-9E5B-01E46E87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5D01-782C-4C29-BD37-D9461173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6BB8-B5DA-4EE1-9CC6-DEF763EF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31E0-49F0-4AEE-98AF-D1B54345BA6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C8C6-FF45-4551-B00E-41C8FB83317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рофилактика синдрома профессионального выгорания у педагогов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дагог-психолог МБОУ СОШ№8 г.Елабу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расимова Ольга Николае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веденческие  симпто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щущение, что работа становиться все тяжелее и тяжелее, а выполнить ее - все труднее и трудне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трудник заметно меняет свой рабочий режим (увеличивает или сокращает время работ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оянно, без необходимости, берет работу домой, но дома ее не дела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дагог затрудняется в принятии реш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увство бесполезности, неверия в улучшения, снижения энтузиазма по отношению к работе, безразличие к результатам и достижения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выполнение важных, приоритетных задач и «застревание» на мелких деталях,  трата большей части рабочего времени  выполнение автоматических и элементарных действ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стантированность от сотрудников и клиентов, повышение неадекватной критич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желание идти на работ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елание поскорее закончить рабочий д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лоупотребление стимуляторами: кофе, алкоголем, резкое возрастание выкуренных за день сигарет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Приемы профилактики и коррекции проявлений СП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вободное время отвлекаться от основной деятельности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“Лечите душу впечатлениями”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аньте частью сообщества преподавате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возможности внесите разнообразие в интерьер класса: повесьте новые постеры, картины, передвиньте стол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мните, ваши ресурсы не безгранич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взваливайте на себя всю ответственность за учебный процес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нообразьте свою деятельно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скрывайте свои чувства. Проявляйте ваши эмо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избегайте говорить о том, что случилос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стесняйтесь просить и  принимать помощ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ждите что СПВ пройдет сам по себ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деляйте достаточное время для сна, отдыха, размышл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являйте ваши желания прямо, ясно и четко, говорите о них семье, друзьям и на рабо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арайтесь сохранять нормальный распорядок вашей жизни, насколько это возмож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сновные ресур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ния и опы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стижения и заслуг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чностные каче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мья, близкие, друзья, коллег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щение с интересными людь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рсы повышения квалифик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кусство, литература, спорт, природа, юм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иемы и упражнения для профилактики и коррекции СП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сновная схем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спокоение (снижение и устранение эмоционального напряжен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сстановление (ослабление проявлений утомления и саморегуляц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ктивизация(повышение психологической и физической активности, повышение самооценки, формирование позитивного мышлен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Упражнения на снятие эмоционального напряже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Ведро мусор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-соревнование «Прощай напряжени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Упражнение на снятие эмоционально-физического напряжения и саморегуляцию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Мух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Лимон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Морожено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Улыбк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Потягивани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пражнения на дых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Упражнения на повышение самооценки и формирование позитивного мышлени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Я в лучах солнц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Волшебный лес чудес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Молодец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Дружественная ладошк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лучшить свою жизнь можно только через изменение отношения к ней, через восприятие её как самого ценного дара, через мудрость, радоваться каждому дню, минуте, впечатлен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еурядицы, жизненные противоречия – это норма жизни. Они не должны занимать в нашем сознании больше места, чем того стоя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Делайте всё с радостью, делайте всё самым лучшим из известных вам способов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Что такое синдром профессионального выгора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фессиональное “выгорание” - это синдром, развивающийся на фоне хронического стресса и ведущий к истощению эмоционально-энергетических и личностных ресурсов работающего чело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 «профессиональных стрессов» страдают около трети специалистов социономических профессий, но больше всех – педагоги, примерно 6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дагогов, старше 35-40 лет испытывают  эту пробле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омпоненты СП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моциональное истощ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чностная отстранённос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щущение утраты собственной эффективности и падение самооценк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Факторы, способствующие возникновению СП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ой фактор – это хронический стресс на рабочем месте, к которому приводят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ъявление завышенных требований и высокая рабочая нагруз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сутствие или недостаток поддержки со стороны коллег и началь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достаток вознаграждения за работу, как моральное, так и материаль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возможность влиять на принятие важных реш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обходимость внешне проявлять эмоции,не соответствующие реальным (необходимость быть эмпатичным, вежливым улыбчивым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с тяжелыми людьми (агрессивными, с психопатоподобным поведением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сутствие каких – либо интересов вне рабо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живание несправедлив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удовлетворенность работ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Мифы профессии педагога, способствующие формированию СП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не нельзя ошибать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 должен быть сдержанны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 не имею права быть предвзяты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 должен быть во всем примером для подраж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имптомы СП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82296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сихофизические симптом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увство постоянной усталости не только вечером, но и по утрам, сразу после сна (симптом хронической усталост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щущение эмоционального и физического истощ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нижение восприимчивости и реактивности в связи с изменениями внешней среды (отсутствие реакции любопытства  на фактор новизны или реакции страха на опасную ситуацию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щая астенизация (слабость, снижение активности и энергии, ухудшение биохимии крови и гормональных показателей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астые беспричинные головные боли; постоянные расстройства желудочно-кишечного трак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кая потеря или резкое увеличение ве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ная или частичная бессонниц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оянное заторможенное, сонливое состояние и желание спать в течение всего д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ышка или нарушение дыхания при физической или эмоциональной нагруз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метное снижение внешней и внутренней сенсорной чувствительности: ухудшение зрения, слуха, обаяния, потеря внутренних, телесных ощущ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ально-психологические симпто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зразличие, скука, пассивность и депрессия (пониженный эмоциональный тонус, чувство подавленност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вышенная раздражительность на незначительные, мелкие собы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астые нервные срывы (вспышки немотивированного гнева или отказа от общения, уход в себ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оянное переживание негативных эмоций, для которых во внешней ситуации причин нет (чувство вины, обиды, стыда, подозрительность, скованност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увство неосознанного беспокойства и повышенной тревожности (ощущение, что « что - то не так, как надо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увство гиперответственности и постоянное чувство страха, что «не получится» или « я не справлюсь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щая негативная установка на жизненные и профессиональные перспективы (по типу «как ни старайся, все равно ничего не получится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03-12-31T23:38:17Z</dcterms:modified>
  <cp:revision>20</cp:revision>
  <dc:subject/>
  <dc:title>PowerPoint Presentation</dc:title>
</cp:coreProperties>
</file>