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AE5-CC20-4CEA-AA9C-630E994E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CAD-5EA3-4BC7-86C6-5988B446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9D3-5D7D-4861-8D39-A9BD90CC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44AB-12D6-42FD-8B0A-A1CF9210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314-0758-4C49-BD38-8A4C40B9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902-5FF1-4CAE-939C-AA72E70B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CF03-78FF-4D92-BC1C-D299C507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6AD-F4F3-4942-8959-D86BE14E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D9A-9846-4F25-88AE-C435509B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2E8-1D98-4F0D-B2EE-3D68A37D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D46-D76F-4870-A1EA-5BF4D1BC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9F8-1391-4F64-904D-414E0ED6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B973-B8FD-43D7-8A05-E0D2537A809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456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404040"/>
                </a:solidFill>
                <a:latin typeface="Calibri"/>
              </a:rPr>
              <a:t>Алгоритм Евклид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836640"/>
            <a:ext cx="5783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вклид - древнегреческий математик. Работал в Александрии в 3 в. до н. э. Евклид оказал огромное влияние на развитие математики. Главный труд "Начало" (состоит из 15 книг) - содержит основы античной математики, элементарной геометрии, теории чисел, общей теории отношений и методы определения площадей и объёмов. Евклиду принадлежат также работы по астрономии, оптике, теории музы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евклид"/>
          <p:cNvPicPr/>
          <p:nvPr/>
        </p:nvPicPr>
        <p:blipFill>
          <a:blip r:embed="rId1"/>
          <a:stretch/>
        </p:blipFill>
        <p:spPr>
          <a:xfrm>
            <a:off x="5897520" y="3284640"/>
            <a:ext cx="2976480" cy="3313080"/>
          </a:xfrm>
          <a:prstGeom prst="rect">
            <a:avLst/>
          </a:prstGeom>
          <a:ln w="9360">
            <a:solidFill>
              <a:srgbClr val="990033"/>
            </a:solidFill>
            <a:miter/>
          </a:ln>
          <a:effectLst>
            <a:outerShdw dist="201022" dir="3317122" blurRad="0" rotWithShape="0">
              <a:srgbClr val="800080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928800"/>
            <a:ext cx="9648720" cy="19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Алгоритм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Евкли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— эффективный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лгорит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нахождения наибольшего общего делителя двух целых чисел (или общей меры двух отрезк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11280" y="3645000"/>
            <a:ext cx="7848360" cy="2226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ОД двух натуральных чисел - это самое большое натуральное число, на которое они делятся нацел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апример: НОД (12, 18) =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              </a:t>
            </a:r>
            <a:r>
              <a:rPr b="0" lang="ru-RU" sz="3600" spc="-1" strike="noStrike">
                <a:solidFill>
                  <a:srgbClr val="0d0d0d"/>
                </a:solidFill>
                <a:latin typeface="Calibri"/>
              </a:rPr>
              <a:t>12   2               18   2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Calibri"/>
              </a:rPr>
              <a:t>             </a:t>
            </a:r>
            <a:r>
              <a:rPr b="0" lang="ru-RU" sz="3600" spc="-1" strike="noStrike">
                <a:solidFill>
                  <a:srgbClr val="0d0d0d"/>
                </a:solidFill>
                <a:latin typeface="Calibri"/>
              </a:rPr>
              <a:t>6    2                 9  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Calibri"/>
              </a:rPr>
              <a:t>             </a:t>
            </a:r>
            <a:r>
              <a:rPr b="0" lang="ru-RU" sz="3600" spc="-1" strike="noStrike">
                <a:solidFill>
                  <a:srgbClr val="0d0d0d"/>
                </a:solidFill>
                <a:latin typeface="Calibri"/>
              </a:rPr>
              <a:t>3    3                 3  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Calibri"/>
              </a:rPr>
              <a:t>             </a:t>
            </a:r>
            <a:r>
              <a:rPr b="0" lang="ru-RU" sz="3600" spc="-1" strike="noStrike">
                <a:solidFill>
                  <a:srgbClr val="0d0d0d"/>
                </a:solidFill>
                <a:latin typeface="Calibri"/>
              </a:rPr>
              <a:t>1                      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5"/>
          <p:cNvSpPr/>
          <p:nvPr/>
        </p:nvSpPr>
        <p:spPr>
          <a:xfrm>
            <a:off x="3059280" y="1989000"/>
            <a:ext cx="0" cy="266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Line 6"/>
          <p:cNvSpPr/>
          <p:nvPr/>
        </p:nvSpPr>
        <p:spPr>
          <a:xfrm>
            <a:off x="6443640" y="1989000"/>
            <a:ext cx="0" cy="266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32000" y="530064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НОД (12,</a:t>
            </a:r>
            <a:r>
              <a:rPr b="1" lang="en-US" sz="4000" spc="-1" strike="noStrike">
                <a:solidFill>
                  <a:srgbClr val="0d0d0d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d0d0d"/>
                </a:solidFill>
                <a:latin typeface="Tahoma"/>
              </a:rPr>
              <a:t>18) = 2 </a:t>
            </a:r>
            <a:r>
              <a:rPr b="1" lang="en-US" sz="4000" spc="-1" strike="noStrike">
                <a:solidFill>
                  <a:srgbClr val="0d0d0d"/>
                </a:solidFill>
                <a:latin typeface="Tahoma"/>
                <a:ea typeface="Tahoma"/>
              </a:rPr>
              <a:t>·</a:t>
            </a:r>
            <a:r>
              <a:rPr b="1" lang="ru-RU" sz="4000" spc="-1" strike="noStrike">
                <a:solidFill>
                  <a:srgbClr val="0d0d0d"/>
                </a:solidFill>
                <a:latin typeface="Tahoma"/>
                <a:ea typeface="Tahoma"/>
              </a:rPr>
              <a:t> 3 = 6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53964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ahoma"/>
              </a:rPr>
              <a:t>Алгоритм нахождения НОД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alibri"/>
              </a:rPr>
              <a:t>Алгоритм нахождения Н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 Разложить числа на простые множите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 Найти общие множите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 Найти их произвед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alibri"/>
              </a:rPr>
              <a:t>Алгоритм Евкл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1484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Идея алгоритма основана на двух свойствах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1. Если </a:t>
            </a: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M&gt;N</a:t>
            </a: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, т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         </a:t>
            </a: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НОД</a:t>
            </a: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(</a:t>
            </a: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M, N) = </a:t>
            </a: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НОД </a:t>
            </a: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(M-N, 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2. НОД </a:t>
            </a:r>
            <a:r>
              <a:rPr b="0" lang="en-US" sz="3000" spc="-1" strike="noStrike">
                <a:solidFill>
                  <a:srgbClr val="0d0d0d"/>
                </a:solidFill>
                <a:latin typeface="Calibri"/>
              </a:rPr>
              <a:t>(M, M) = 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d0d0d"/>
                </a:solidFill>
                <a:latin typeface="Calibri"/>
              </a:rPr>
              <a:t>НОД (12, 18) = НОД (12, 18-12) = НОД (12, 6)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d0d0d"/>
                </a:solidFill>
                <a:latin typeface="Calibri"/>
              </a:rPr>
              <a:t>= НОД (12-6, 6) = НОД (6, 6) = 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044720" y="2421000"/>
            <a:ext cx="11304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04040"/>
                </a:solidFill>
                <a:latin typeface="Calibri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13:04:05Z</dcterms:created>
  <dc:creator>Ольга</dc:creator>
  <dc:description/>
  <dc:language>en-US</dc:language>
  <cp:lastModifiedBy>ADMIN</cp:lastModifiedBy>
  <dcterms:modified xsi:type="dcterms:W3CDTF">2021-10-21T17:29:00Z</dcterms:modified>
  <cp:revision>33</cp:revision>
  <dc:subject/>
  <dc:title>Алгоритм Евклида</dc:title>
</cp:coreProperties>
</file>