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png" ContentType="image/png"/>
  <Override PartName="/ppt/media/image16.jpeg" ContentType="image/jpeg"/>
  <Override PartName="/ppt/media/image25.png" ContentType="image/png"/>
  <Override PartName="/ppt/media/image4.jpeg" ContentType="image/jpeg"/>
  <Override PartName="/ppt/media/image8.png" ContentType="image/png"/>
  <Override PartName="/ppt/media/hdphoto1.wdp" ContentType="image/vnd.ms-photo"/>
  <Override PartName="/ppt/media/image11.png" ContentType="image/png"/>
  <Override PartName="/ppt/media/image6.png" ContentType="image/png"/>
  <Override PartName="/ppt/media/image7.jpeg" ContentType="image/jpeg"/>
  <Override PartName="/ppt/media/hdphoto3.wdp" ContentType="image/vnd.ms-photo"/>
  <Override PartName="/ppt/media/image17.png" ContentType="image/png"/>
  <Override PartName="/ppt/media/image5.png" ContentType="image/png"/>
  <Override PartName="/ppt/media/image26.jpeg" ContentType="image/jpeg"/>
  <Override PartName="/ppt/media/image27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hdphoto2.wdp" ContentType="image/vnd.ms-photo"/>
  <Override PartName="/ppt/media/image12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hdphoto4.wdp" ContentType="image/vnd.ms-photo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511-D8DF-4281-9C11-3A0E1315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360-65F6-4476-AE51-B4CB1CD5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13E-68DF-4618-B76E-B3C236D8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367-DF25-43B6-9D6E-CF83E2D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1910-222D-49F4-AA23-AE36274E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E461-585E-4764-9DB5-D57CEC29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355C-00A5-4C36-99D6-0BB8B5D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16B4-86DB-400D-BF6D-D3DD9DB9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49B-12FF-4B5D-9301-F2611A50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6ED5-BDC6-4832-8B75-84F2086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5946-0A85-4D40-B2FD-19D080B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AB7-A5C7-4F9B-BC36-0CD47CD8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C09C-AB7C-417D-9029-EFFEF89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810-BD5A-42EA-8E32-5C5D66D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D99-C8D1-45AB-8E86-A53D85F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8244-BC46-41D3-8E22-E3E94155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381-D8D7-47AD-8C28-4CD7D3D2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46D4-B5C9-46AF-943E-F3C8E0F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EEEC-8AEE-4077-83C8-1DC8A0DA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1DBD-60A8-428D-BCC2-5CF08C0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E8BC-8859-445A-9EE8-4AC5C098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413E-8740-405E-8778-807BBBC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2B3-B4AE-46D0-8FE6-286EC56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5328-A02B-429E-BBD6-337D179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7766-482C-4506-ACDC-D828A3A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0C27-8E39-4B42-8984-6B5E33C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8E3D-A77A-4BF5-89CA-581A916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17F4-9258-4A83-97B5-17C06C72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D29D-322B-47D3-9DC0-27770873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3DD1-6487-4537-AC6D-013DD826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376-CB57-4F24-B278-11818BE7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262-50A7-4414-9795-BE1952F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9D4-1221-4EC4-BC06-B6D9880D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C6B-4C59-4E3E-9EFC-0FF4F504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C39-5F77-4B4E-9D9D-98132E8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2E4-9CF6-40FC-A3DD-7CF29FE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6056DF-169F-46F7-B2C1-8DE890F2CDE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34A2A1-26DC-418B-B84A-B86FB4272A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9D4CE-4ACB-4AD0-9C5C-2B862F5483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microsoft.com/office/2007/relationships/hdphoto" Target="../media/hdphoto1.wdp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microsoft.com/office/2007/relationships/hdphoto" Target="../media/hdphoto2.wdp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microsoft.com/office/2007/relationships/hdphoto" Target="../media/hdphoto3.wdp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microsoft.com/office/2007/relationships/hdphoto" Target="../media/hdphoto4.wdp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"/>
          <p:cNvPicPr/>
          <p:nvPr/>
        </p:nvPicPr>
        <p:blipFill>
          <a:blip r:embed="rId1"/>
          <a:stretch/>
        </p:blipFill>
        <p:spPr>
          <a:xfrm>
            <a:off x="3457800" y="309960"/>
            <a:ext cx="5585760" cy="31608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2948040" y="4306320"/>
            <a:ext cx="60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КУРСИЯ ПО ЧЕЛЯБИНС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0" name="Рисунок 7" descr=""/>
          <p:cNvPicPr/>
          <p:nvPr/>
        </p:nvPicPr>
        <p:blipFill>
          <a:blip r:embed="rId1"/>
          <a:stretch/>
        </p:blipFill>
        <p:spPr>
          <a:xfrm>
            <a:off x="0" y="-13680"/>
            <a:ext cx="12191760" cy="6871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"/>
          <p:cNvPicPr/>
          <p:nvPr/>
        </p:nvPicPr>
        <p:blipFill>
          <a:blip r:embed="rId2"/>
          <a:stretch/>
        </p:blipFill>
        <p:spPr>
          <a:xfrm>
            <a:off x="109080" y="3960"/>
            <a:ext cx="12082320" cy="11692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9"/>
          <p:cNvSpPr/>
          <p:nvPr/>
        </p:nvSpPr>
        <p:spPr>
          <a:xfrm>
            <a:off x="1510200" y="227160"/>
            <a:ext cx="9171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Сквер на Алом пол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2" descr=""/>
          <p:cNvPicPr/>
          <p:nvPr/>
        </p:nvPicPr>
        <p:blipFill>
          <a:blip r:embed="rId3"/>
          <a:stretch/>
        </p:blipFill>
        <p:spPr>
          <a:xfrm>
            <a:off x="-558000" y="5555880"/>
            <a:ext cx="13307760" cy="13017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1"/>
          <p:cNvSpPr/>
          <p:nvPr/>
        </p:nvSpPr>
        <p:spPr>
          <a:xfrm>
            <a:off x="980280" y="5822280"/>
            <a:ext cx="10230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AGGaramondCyr"/>
              </a:rPr>
              <a:t>Место для прогулок в центр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0" y="19080"/>
            <a:ext cx="12191760" cy="68385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1038600" y="66600"/>
            <a:ext cx="10093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Александро-Невская церков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"/>
          <p:cNvPicPr/>
          <p:nvPr/>
        </p:nvPicPr>
        <p:blipFill>
          <a:blip r:embed="rId2"/>
          <a:stretch/>
        </p:blipFill>
        <p:spPr>
          <a:xfrm>
            <a:off x="-558000" y="5373360"/>
            <a:ext cx="13307760" cy="18302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6"/>
          <p:cNvSpPr/>
          <p:nvPr/>
        </p:nvSpPr>
        <p:spPr>
          <a:xfrm>
            <a:off x="225000" y="5598360"/>
            <a:ext cx="11741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GGaramondCyr"/>
              </a:rPr>
              <a:t>Является объектом культурного наследия Челяби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1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12191760" cy="6876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43560" y="-123120"/>
            <a:ext cx="12082320" cy="11692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3"/>
          <a:stretch/>
        </p:blipFill>
        <p:spPr>
          <a:xfrm>
            <a:off x="-558000" y="5617440"/>
            <a:ext cx="13307760" cy="13017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6"/>
          <p:cNvSpPr/>
          <p:nvPr/>
        </p:nvSpPr>
        <p:spPr>
          <a:xfrm>
            <a:off x="653400" y="0"/>
            <a:ext cx="10862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000000"/>
                </a:solidFill>
                <a:latin typeface="AGGaramondCyr"/>
                <a:ea typeface="Calibri"/>
              </a:rPr>
              <a:t>Сквер добровольцев-танкис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952560" y="5883840"/>
            <a:ext cx="10286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303030"/>
                </a:solidFill>
                <a:latin typeface="AGGaramondCyr"/>
                <a:ea typeface="Times New Roman"/>
              </a:rPr>
              <a:t>Символ патриотизма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68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rcRect l="0" t="0" r="0" b="-8367"/>
          <a:stretch/>
        </p:blipFill>
        <p:spPr>
          <a:xfrm>
            <a:off x="1260720" y="1182240"/>
            <a:ext cx="9506160" cy="5454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2"/>
          <a:stretch/>
        </p:blipFill>
        <p:spPr>
          <a:xfrm>
            <a:off x="-163800" y="4609800"/>
            <a:ext cx="12355560" cy="2225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7"/>
          <p:cNvSpPr/>
          <p:nvPr/>
        </p:nvSpPr>
        <p:spPr>
          <a:xfrm>
            <a:off x="277560" y="4933440"/>
            <a:ext cx="11637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AGGaramondCyr"/>
                <a:ea typeface="Times New Roman"/>
              </a:rPr>
              <a:t>Центральный архитектурный памятник, который является сердцем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469800" y="162720"/>
            <a:ext cx="11251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ПЛОЩАДЬ РЕВОЛЮЦ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0" y="-114480"/>
            <a:ext cx="12191760" cy="6972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-4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550440" y="5313240"/>
            <a:ext cx="13292640" cy="13683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1040040" y="5313240"/>
            <a:ext cx="10065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80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Челябинский Арб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0" descr=""/>
          <p:cNvPicPr/>
          <p:nvPr/>
        </p:nvPicPr>
        <p:blipFill>
          <a:blip r:embed="rId4"/>
          <a:stretch/>
        </p:blipFill>
        <p:spPr>
          <a:xfrm>
            <a:off x="1407960" y="160200"/>
            <a:ext cx="9419400" cy="1323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1"/>
          <p:cNvSpPr/>
          <p:nvPr/>
        </p:nvSpPr>
        <p:spPr>
          <a:xfrm>
            <a:off x="2273400" y="160200"/>
            <a:ext cx="7688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8000" spc="-1" strike="noStrike">
                <a:solidFill>
                  <a:srgbClr val="000000"/>
                </a:solidFill>
                <a:latin typeface="AGGaramondCyr"/>
              </a:rPr>
              <a:t>Улица Киров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2"/>
          <a:stretch/>
        </p:blipFill>
        <p:spPr>
          <a:xfrm>
            <a:off x="3439080" y="-117720"/>
            <a:ext cx="9667080" cy="1323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6"/>
          <p:cNvSpPr/>
          <p:nvPr/>
        </p:nvSpPr>
        <p:spPr>
          <a:xfrm>
            <a:off x="3831120" y="128520"/>
            <a:ext cx="8130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AGGaramondCyr"/>
                <a:ea typeface="Calibri"/>
              </a:rPr>
              <a:t>Памятник «Сказ об Урал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9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294560" y="5448240"/>
            <a:ext cx="14780520" cy="1409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0"/>
          <p:cNvSpPr/>
          <p:nvPr/>
        </p:nvSpPr>
        <p:spPr>
          <a:xfrm>
            <a:off x="114120" y="5969160"/>
            <a:ext cx="12214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GGaramondCyr"/>
              </a:rPr>
              <a:t>Скульптурная композиция на Привокзальной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9148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638640" y="0"/>
            <a:ext cx="10888920" cy="12571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372320" y="167040"/>
            <a:ext cx="9421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d9d9d9"/>
                </a:solidFill>
                <a:latin typeface="AGGaramondCyr"/>
                <a:ea typeface="Calibri"/>
              </a:rPr>
              <a:t>Скульптура «Сфера любв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6" descr=""/>
          <p:cNvPicPr/>
          <p:nvPr/>
        </p:nvPicPr>
        <p:blipFill>
          <a:blip r:embed="rId3"/>
          <a:stretch/>
        </p:blipFill>
        <p:spPr>
          <a:xfrm>
            <a:off x="129240" y="5657760"/>
            <a:ext cx="11989800" cy="12571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1344240" y="5901840"/>
            <a:ext cx="9559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d9d9d9"/>
                </a:solidFill>
                <a:latin typeface="AGGaramondCyr"/>
                <a:ea typeface="Calibri"/>
              </a:rPr>
              <a:t>Главный символ любви в реги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Объект 3" descr=""/>
          <p:cNvPicPr/>
          <p:nvPr/>
        </p:nvPicPr>
        <p:blipFill>
          <a:blip r:embed="rId1"/>
          <a:stretch/>
        </p:blipFill>
        <p:spPr>
          <a:xfrm>
            <a:off x="-13680" y="0"/>
            <a:ext cx="12205440" cy="6857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2"/>
          <a:stretch/>
        </p:blipFill>
        <p:spPr>
          <a:xfrm>
            <a:off x="-343080" y="326880"/>
            <a:ext cx="10944000" cy="132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573120" y="5758920"/>
            <a:ext cx="13292640" cy="846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759960" y="434880"/>
            <a:ext cx="8738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600" spc="-1" strike="noStrike">
                <a:solidFill>
                  <a:srgbClr val="303030"/>
                </a:solidFill>
                <a:latin typeface="AGGaramondCyr"/>
                <a:ea typeface="Times New Roman"/>
              </a:rPr>
              <a:t>Памятник Курчато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303480" y="5799240"/>
            <a:ext cx="11576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GGaramondCyr"/>
              </a:rPr>
              <a:t>Памятник знаменитому академику-ядерщ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12191760" cy="6876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"/>
          <p:cNvPicPr/>
          <p:nvPr/>
        </p:nvPicPr>
        <p:blipFill>
          <a:blip r:embed="rId2"/>
          <a:stretch/>
        </p:blipFill>
        <p:spPr>
          <a:xfrm>
            <a:off x="-1102680" y="5811120"/>
            <a:ext cx="13267080" cy="116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590760" y="5811120"/>
            <a:ext cx="9879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Один из лучших на Ура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0" name="Объект 7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343080" y="5470200"/>
            <a:ext cx="13157640" cy="14583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0"/>
          <p:cNvSpPr/>
          <p:nvPr/>
        </p:nvSpPr>
        <p:spPr>
          <a:xfrm>
            <a:off x="0" y="5691960"/>
            <a:ext cx="12191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Парк культуры и отдыха имени Гагари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является одним из самых больших и старых в го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4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109080" y="365040"/>
            <a:ext cx="12082320" cy="1169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7"/>
          <p:cNvSpPr/>
          <p:nvPr/>
        </p:nvSpPr>
        <p:spPr>
          <a:xfrm>
            <a:off x="1226880" y="534240"/>
            <a:ext cx="9738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AGGaramondCyr"/>
                <a:ea typeface="Times New Roman"/>
              </a:rPr>
              <a:t>Городской сад им. А.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9" descr=""/>
          <p:cNvPicPr/>
          <p:nvPr/>
        </p:nvPicPr>
        <p:blipFill>
          <a:blip r:embed="rId3"/>
          <a:stretch/>
        </p:blipFill>
        <p:spPr>
          <a:xfrm>
            <a:off x="-161640" y="5602320"/>
            <a:ext cx="12082320" cy="1169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0"/>
          <p:cNvSpPr/>
          <p:nvPr/>
        </p:nvSpPr>
        <p:spPr>
          <a:xfrm>
            <a:off x="1249200" y="5833080"/>
            <a:ext cx="10149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GGaramondCyr"/>
              </a:rPr>
              <a:t>Место для хорошего отдыха всей сем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  <Words>88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7:42:09Z</dcterms:created>
  <dc:creator>Сергей Максимов</dc:creator>
  <dc:description/>
  <dc:language>en-US</dc:language>
  <cp:lastModifiedBy>Пользователь Windows</cp:lastModifiedBy>
  <dcterms:modified xsi:type="dcterms:W3CDTF">2021-10-21T18:02:18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3</vt:r8>
  </property>
</Properties>
</file>