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2.jpeg" ContentType="image/jpeg"/>
  <Override PartName="/ppt/media/image13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7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53.jpeg" ContentType="image/jpeg"/>
  <Override PartName="/ppt/media/image23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20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70.jpeg" ContentType="image/jpeg"/>
  <Override PartName="/ppt/media/image28.png" ContentType="image/png"/>
  <Override PartName="/ppt/media/image60.jpeg" ContentType="image/jpeg"/>
  <Override PartName="/ppt/media/image30.png" ContentType="image/png"/>
  <Override PartName="/ppt/media/image80.jpeg" ContentType="image/jpeg"/>
  <Override PartName="/ppt/media/image77.png" ContentType="image/png"/>
  <Override PartName="/ppt/media/image76.jpeg" ContentType="image/jpeg"/>
  <Override PartName="/ppt/media/image75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65.jpeg" ContentType="image/jpeg"/>
  <Override PartName="/ppt/media/image69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31.png" ContentType="image/png"/>
  <Override PartName="/ppt/media/image61.jpeg" ContentType="image/jpeg"/>
  <Override PartName="/ppt/media/image78.jpeg" ContentType="image/jpeg"/>
  <Override PartName="/ppt/media/image36.png" ContentType="image/png"/>
  <Override PartName="/ppt/media/image55.jpeg" ContentType="image/jpe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8.png" ContentType="image/png"/>
  <Override PartName="/ppt/media/image82.jpeg" ContentType="image/jpeg"/>
  <Override PartName="/ppt/media/image54.jpeg" ContentType="image/jpeg"/>
  <Override PartName="/ppt/media/image33.png" ContentType="image/png"/>
  <Override PartName="/ppt/media/image27.png" ContentType="image/png"/>
  <Override PartName="/ppt/media/image64.jpeg" ContentType="image/jpeg"/>
  <Override PartName="/ppt/media/image39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63.jpeg" ContentType="image/jpeg"/>
  <Override PartName="/ppt/media/image29.png" ContentType="image/png"/>
  <Override PartName="/ppt/media/image79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FBA-E9BB-4590-9D26-58B03E07F0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29A-9023-40FD-BA42-94BE76EF4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D9C-5EE8-442D-947F-90048F4E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172-01DB-4A02-98F0-465CE73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EB95A-7B88-4B96-B615-B85C98D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B34D3-0FC5-4B9C-8014-83B3BFF1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DC568-2C22-4771-8F00-3727F725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8CDA3-8305-419C-81B5-9B704B9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84A8D-26CA-44D7-A87C-CB0CB2D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41E5A-24E6-40F9-8489-A8D1D9C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11D5E-F1B5-47DF-B992-79693F7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2257F-2B33-4614-901A-854409C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CA41D-A7DF-4E30-B5D2-49F2948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B0961-1E31-4166-850E-99119D2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87F-ED87-4199-8C1B-AD515BF7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13DCA-0CC8-445B-A46E-C492D08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01B1A-C75D-41C3-AD56-F0D7B365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CC308-907A-49D7-AEAB-F6244D48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7BEE1-D27E-422F-83A0-B774F00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2BBD6-2C9F-43B3-9012-34B5F3E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5C3AF-FB70-4C4F-B81C-B7BC389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6AD97-E3E5-4397-AE53-9148364E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BB264-86D1-48DE-965F-F26A8F9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085E3-184D-4549-9AA0-12D3E76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7BC8-7728-44EE-B0B8-414D589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75B-6392-461B-A9B2-A89BE604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CDCE-AA4D-48DE-8651-F988AB55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A4B75-12D4-486C-B82B-9A0A191A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AD93E-66FA-4C06-AF80-FD50C75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0C7A8-A7D5-4118-B97C-F66BD62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095E-2408-425B-A58F-C24D64C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5370F-7BB6-4730-B4FA-5A74F04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2888B-5AF3-4D0D-A53C-ED4E9348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F3ECD-0937-4D4A-94E5-7CA6406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F5F03-103E-4294-A78A-7DE8BF4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659C-08F1-4E3F-B5DF-0CD4F07B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48F-1E94-4AD5-9496-1EA0B9A6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48972-5890-4B3F-806E-8E3ED6CB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2212-E5A1-44B2-A9F8-A2402C52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C1EFE-B400-4AC9-9FBF-8D1D9761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CC3D-9841-4657-A36E-D7244600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C4CD2-6E3C-4696-950A-7C13581C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9F73B-99AF-45E2-BA6C-A5F0069A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8721-141C-44F5-A508-80DB66A1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05208-C21E-44D6-AEF7-E36CB91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30F35-4AA3-4E23-AC2E-D10BA6CF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90D7C-A287-4A59-895C-DDE2BF2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3F84-4A93-486C-97B3-6FBA860B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1E44E-128B-442A-9C3E-6E547D1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5C8FE-F90A-498B-BBF4-346FCF8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3CCC0-0DF8-4DDD-BD48-A24A4837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2A917-CA15-4B75-B74B-43B02E90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D4DD3-EF0E-4A7D-8E15-C794BA8F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7C730-AEB3-462A-A674-464F123B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97BB6-28C7-4073-BEA7-1AEED9F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88D9E-101B-449B-9044-8232EC2D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32E0C-CFC8-456A-B187-26E9109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C7DFF-5640-43A3-AC2E-FD14755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5DF-BD4F-41FB-B0F9-2F1FF34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142B-9B81-4B87-A2FE-011D9E6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5B364-1573-4F9E-8C67-42A2052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9011C-18D6-46C8-9AE4-C083860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068A5-3FBA-4B18-BB46-0CB4439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E27FD-3501-4F5F-A9E5-C0CF8001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259FB-63A3-4074-A356-2F79F9DE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C5511-0B84-4D1E-A256-B03613DB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DAA05-5B64-41FD-BBD2-D92260D0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A6207-23AF-424B-A5DE-901026E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BEDC6-1977-4159-8E18-B67E8905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65A8-C25B-4B5D-95CC-49D27B8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528E5-C98E-44CB-A4BD-3C07B95A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EAF14-DEC2-4E08-B9A3-33EE2AD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D3A1C-5F00-4467-B44D-5FAAA4B7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F53AD-7E81-43D0-9657-9470A18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6B453-A2EA-4630-B213-C7E8C28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9557E-987D-4AE6-B26B-172F6EC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AC959-019B-4BAE-9FA7-C7EDF52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FDC96-0C60-4FB9-8DCC-3E80D441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41FB4-F0A9-4CEE-88CF-44FD9839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88838-AA68-4207-8330-9D1EC290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2D2B-E9C8-411B-A59C-A878D57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AE1DD-6075-4D3A-9B42-0F035060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AAD73-5B0B-45D4-AB91-46533D8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13411-3DB2-4EC9-B82E-816FB44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3F580-4931-4512-AEEC-E36743B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66ECE-04D6-49C1-8F6C-C6849A82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D4110-7101-458B-A4C4-1A79BCD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F01EE-E885-4705-AD70-CA2BD9C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D1DD4-AAA2-4F78-AB26-E5B32ED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7B76B-43D4-497E-98D0-DDC19B1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7D685-E98A-4257-B4CF-028B2A65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9DD-7487-4B73-B186-588CE97E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DE46B-F175-4B7E-96C7-BCCF4BE2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BB361-E26F-41A1-83CE-3C879C8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84F55-AFEE-4806-94CA-B91AD5F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E0470-E000-4C28-98E8-D32F0D41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C5354-38CB-48BC-8043-DC518AD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8649A-3EAF-4CC6-91C7-6C4664A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9FCD1-4D05-4FF4-B6E7-A735B35C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E22FE-7038-4FBD-91FD-D30F30A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5A016-AC53-44F0-A2BB-058243A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C2D2A-712C-49DA-8B65-131125D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6485-74C3-482D-AAF9-F5AEBEE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6D176-A4C9-4BA7-8D4E-CBC4C53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33869-0D51-4CD1-A723-2D742F6E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B8F4A-ACD8-476E-BD0A-D3256C2E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8FD1D-2E4C-40F4-A6D6-1E9B1EB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5A60C-D501-4B4A-B13C-D4F89B21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94536-7A22-4AA8-AF4A-4543BDA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1AD7E-B4AC-44F8-B1DF-3789AB7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DBCCF-5FFE-4106-B277-F896C85E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349B8-7FDC-447F-B203-C2F2601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BDE1A-5F87-4ACA-838B-0239F76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3EB-B348-4B9F-BC13-5DE2A6B2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7CF4-8E77-4CFC-8B05-D571085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D2E96-7C44-4598-AA46-14FB17B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1F3C7-4CB3-4008-B2BB-D3AF6A5D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12B09-717E-491C-9FC6-17F225CA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36A03-70AD-4579-A2FE-6E05B9A6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D9015-BA28-46CC-B1F0-794114D0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A7F9-89FC-4ED4-98F4-8901693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BAB1-1BF7-4879-92A9-8C62016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E396-7A36-4644-B7E6-CC205F4F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4058-02BE-49FD-8E67-315EFCDD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4DAF-4A54-42BD-BF06-7365CC67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D8D5-9D8B-4D87-8742-F4F0564D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34D6-D2F3-48D2-BCC1-021E903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037C-46CF-4246-948A-048B6352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4FC9-01F2-403F-A5EF-6104844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1D9-AAF7-42E9-B02F-8A2A783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EA6D-8AA1-49C7-A9FC-2852AD45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C56C-5954-4FDC-825A-4194BA6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FF53-0B27-4536-98CF-589BB35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6894-4F95-493A-B708-5DBB57B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198F-397D-4451-91F6-B43B164F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BD0D-BA18-4817-BA91-154F3061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C134-ABFB-407B-8B19-006C0C70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01F2-5008-4A03-89F6-1B2C1156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7FFE-A815-4997-971B-C1D3F0B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FC7B-64A0-4CAB-9864-1D01849F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618-BEF4-4E89-A433-2C1A757B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8D25-EB6F-4CF1-B7DA-E4586E90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5706-7509-40AA-9A61-70A8DCC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E326-19E5-491E-B0EF-63507EA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6584-2EB3-4D00-A650-05FD06B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4C60-CA84-432B-B7B2-903D188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4C82-75C5-4347-B51D-59B4A58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1D84-46F6-414A-A452-B5F332A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8848-81F3-4824-875F-049329C4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6E6A-7D69-47FA-9CB8-182B697F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93C4-3A3E-463C-AA6F-6A0515B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C0A-D498-4428-B0A2-4C2E4A2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E3F8-E153-4309-A177-CAC595E7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3052-9499-4B6C-A5C4-844D163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BDEC0-BE20-41CC-AA3A-C088FDF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B23D-3A34-45B6-8E53-E9C3AE6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1A63-6A24-4EE6-A151-94DBB9A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2199-9B15-4D51-9119-B6B72BA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2ED0-ADBF-42A2-AFDF-97C19FB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D3EDF-DA95-4498-8E3E-2557B0F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9354-0913-4E6D-955E-5D87C41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B8EB-A705-406A-9226-3F4AAC5B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7F5-4F26-4298-A429-17FDEA3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A8346-1E08-4F1D-9115-97DE0605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98A7-8BC7-474A-8A23-0AF52625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9A1C-09E6-44E8-8066-939F8B84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6490-C755-4139-AB83-40375291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406F-A1CE-4244-8A54-4CACA93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7A5B-ADC0-467D-A268-0E10CD8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8957-508F-48B0-BD9E-CA4AD9F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354E-93C8-44D9-94AD-0177BC8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2BE0-839C-4056-93B4-5C16E415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D625-3067-4CD2-8E56-5A42E83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EDC-2585-44D7-B5C1-9A8AC5D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FE73-1DC5-4FD0-B7E4-574F20A1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CD83-F417-4C08-96D3-1F488319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1B8A-2C3A-4EF2-894C-CFD79DC2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CBD2-18AA-4608-865D-D9CA940A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F5F51-1184-41DB-AC93-D893726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A86B9-90B1-4106-9670-545C884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9E9A-E34D-4B04-9A07-73FBA35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376A-F8B7-4391-B261-C09666E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0EAA2-29B2-4D10-BC1B-30F6F5B4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E148A-0506-42EA-A0CC-12EA87C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633-369F-450C-ADF5-538144C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8074-E178-4D39-9030-C67A644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6C84-8EF0-4387-97EC-868EABB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7E1D-EC68-4754-8669-813EEBB6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6E91-FA93-4A92-A129-D96A5D38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BBA1-D4E8-4BB3-B659-BBC9444D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8DD2-FA16-45F3-B0F5-2450164F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E677-AEC4-457D-BB54-73C772C9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AC3D7-2B7F-425D-B603-349287E3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531C-4933-42B1-B672-A9AD1254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B277-0FE2-4CBB-AD6B-775F343F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022-75EC-4F57-BDB9-EAA6FF9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3DCB-6E3C-4DDC-BBEA-C5B65743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72DB-2CF2-48D7-9824-8A7F4C1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8A19-F00D-4C21-9C11-C82F4F5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BE222-C62E-45C9-976E-BCCF720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39447-CC10-42AE-BF24-A9D0A51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2F63-5EE6-4B8E-BB49-80944088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FCF77-056D-4ED7-A24A-4D05D23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9F113-08B6-4C2F-BF3E-D7860508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40997-5E64-40C6-A742-CDD044A1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A6C46-600E-4E28-85D0-26C2F3E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1639-3B9F-487C-98AA-B652453C53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3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42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55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669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670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D8D-A5FA-47EA-8265-79F7087577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3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26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741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40B-15BE-4F0E-9F60-5653F23834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84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97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FCDE-8340-45C9-ABFF-DCBF28CEDA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57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0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8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8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00D3-CAC3-4F7D-8E3B-86C18D0294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2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4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699-1DD3-4228-9DCF-686E7EA4CB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0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1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28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029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A81-1F8F-4777-9D01-A6978DB411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72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85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99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0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4A0-6796-40B5-9555-56A43B70EB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43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56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3D1-ADF1-45A1-9CD1-20B26ACAAA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colour-pencils.jpg"/>
          <p:cNvPicPr/>
          <p:nvPr/>
        </p:nvPicPr>
        <p:blipFill>
          <a:blip r:embed="rId6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736B-57CC-408E-90CF-52E5B27004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5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D8E-8CBD-4FDA-AFE2-B92E4BD1E0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6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9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9E6-9B94-4ABB-890E-E8347D36A6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7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0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F7B-AD43-419B-8C98-74DDB56203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216-E570-419F-A78B-5C33120BAF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C3D-8179-4E77-BBCF-2158044E6A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0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1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2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2D2-FF8A-4D87-8172-7E64FC07FF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7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8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9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B24-9EFE-45F8-8763-219E0C5C2F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pn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69120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«Формирование предикативной лексики у детей старшего дошкольного возраста с тяжелыми нарушениями речи, как одной из форм альтернативной коммуникации» 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1692360" y="4076280"/>
            <a:ext cx="5759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</a:rPr>
              <a:t>МДОУ «Детский сад «Искорка п.Пангоды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entury Gothic"/>
              </a:rPr>
              <a:t>Надымский район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</a:rPr>
              <a:t>Учитель-логопед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entury Gothic"/>
              </a:rPr>
              <a:t>Динмухаметова Венера Мударисовн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4000" y="620640"/>
            <a:ext cx="813564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тичка         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сидела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на          дерев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Она            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пела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   весёлую      песенку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Кошка      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услыхала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весёлую    песенку      и      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увидела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птич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4" name="Picture 7" descr="птичка"/>
          <p:cNvPicPr/>
          <p:nvPr/>
        </p:nvPicPr>
        <p:blipFill>
          <a:blip r:embed="rId1"/>
          <a:stretch/>
        </p:blipFill>
        <p:spPr>
          <a:xfrm>
            <a:off x="826920" y="1341360"/>
            <a:ext cx="863640" cy="8780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6" descr="садиться"/>
          <p:cNvPicPr/>
          <p:nvPr/>
        </p:nvPicPr>
        <p:blipFill>
          <a:blip r:embed="rId2"/>
          <a:stretch/>
        </p:blipFill>
        <p:spPr>
          <a:xfrm>
            <a:off x="2268360" y="1268280"/>
            <a:ext cx="790920" cy="78768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5" descr="предлог на"/>
          <p:cNvPicPr/>
          <p:nvPr/>
        </p:nvPicPr>
        <p:blipFill>
          <a:blip r:embed="rId3"/>
          <a:stretch/>
        </p:blipFill>
        <p:spPr>
          <a:xfrm>
            <a:off x="3132000" y="141300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4" descr="дерево"/>
          <p:cNvPicPr/>
          <p:nvPr/>
        </p:nvPicPr>
        <p:blipFill>
          <a:blip r:embed="rId4"/>
          <a:stretch/>
        </p:blipFill>
        <p:spPr>
          <a:xfrm>
            <a:off x="4284720" y="1268280"/>
            <a:ext cx="1079280" cy="86364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8"/>
          <p:cNvSpPr/>
          <p:nvPr/>
        </p:nvSpPr>
        <p:spPr>
          <a:xfrm>
            <a:off x="228960" y="-720"/>
            <a:ext cx="68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>
            <a:off x="678240" y="8802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0"/>
          <p:cNvSpPr/>
          <p:nvPr/>
        </p:nvSpPr>
        <p:spPr>
          <a:xfrm>
            <a:off x="678960" y="174240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Picture 14" descr="птичка"/>
          <p:cNvPicPr/>
          <p:nvPr/>
        </p:nvPicPr>
        <p:blipFill>
          <a:blip r:embed="rId5"/>
          <a:stretch/>
        </p:blipFill>
        <p:spPr>
          <a:xfrm>
            <a:off x="684360" y="2852640"/>
            <a:ext cx="936360" cy="92088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3" descr="пела"/>
          <p:cNvPicPr/>
          <p:nvPr/>
        </p:nvPicPr>
        <p:blipFill>
          <a:blip r:embed="rId6"/>
          <a:stretch/>
        </p:blipFill>
        <p:spPr>
          <a:xfrm>
            <a:off x="1979640" y="2924280"/>
            <a:ext cx="936720" cy="65232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12" descr="веселый"/>
          <p:cNvPicPr/>
          <p:nvPr/>
        </p:nvPicPr>
        <p:blipFill>
          <a:blip r:embed="rId7"/>
          <a:stretch/>
        </p:blipFill>
        <p:spPr>
          <a:xfrm>
            <a:off x="3276720" y="2852640"/>
            <a:ext cx="865080" cy="71604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11" descr="песенка"/>
          <p:cNvPicPr/>
          <p:nvPr/>
        </p:nvPicPr>
        <p:blipFill>
          <a:blip r:embed="rId8"/>
          <a:stretch/>
        </p:blipFill>
        <p:spPr>
          <a:xfrm>
            <a:off x="4643280" y="2852640"/>
            <a:ext cx="863640" cy="666720"/>
          </a:xfrm>
          <a:prstGeom prst="rect">
            <a:avLst/>
          </a:prstGeom>
          <a:ln w="0">
            <a:noFill/>
          </a:ln>
        </p:spPr>
      </p:pic>
      <p:sp>
        <p:nvSpPr>
          <p:cNvPr id="1275" name="Rectangle 15"/>
          <p:cNvSpPr/>
          <p:nvPr/>
        </p:nvSpPr>
        <p:spPr>
          <a:xfrm>
            <a:off x="228960" y="-7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6"/>
          <p:cNvSpPr/>
          <p:nvPr/>
        </p:nvSpPr>
        <p:spPr>
          <a:xfrm>
            <a:off x="678600" y="994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7"/>
          <p:cNvSpPr/>
          <p:nvPr/>
        </p:nvSpPr>
        <p:spPr>
          <a:xfrm>
            <a:off x="678600" y="1866240"/>
            <a:ext cx="40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8"/>
          <p:cNvSpPr/>
          <p:nvPr/>
        </p:nvSpPr>
        <p:spPr>
          <a:xfrm>
            <a:off x="678960" y="272808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25" descr="кошка"/>
          <p:cNvPicPr/>
          <p:nvPr/>
        </p:nvPicPr>
        <p:blipFill>
          <a:blip r:embed="rId9"/>
          <a:stretch/>
        </p:blipFill>
        <p:spPr>
          <a:xfrm>
            <a:off x="611280" y="443700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24" descr="слышать"/>
          <p:cNvPicPr/>
          <p:nvPr/>
        </p:nvPicPr>
        <p:blipFill>
          <a:blip r:embed="rId10"/>
          <a:stretch/>
        </p:blipFill>
        <p:spPr>
          <a:xfrm>
            <a:off x="2124000" y="4581360"/>
            <a:ext cx="1008000" cy="86544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23" descr="веселый"/>
          <p:cNvPicPr/>
          <p:nvPr/>
        </p:nvPicPr>
        <p:blipFill>
          <a:blip r:embed="rId11"/>
          <a:stretch/>
        </p:blipFill>
        <p:spPr>
          <a:xfrm>
            <a:off x="3492360" y="465300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22" descr="песенка"/>
          <p:cNvPicPr/>
          <p:nvPr/>
        </p:nvPicPr>
        <p:blipFill>
          <a:blip r:embed="rId12"/>
          <a:stretch/>
        </p:blipFill>
        <p:spPr>
          <a:xfrm>
            <a:off x="4788000" y="4581360"/>
            <a:ext cx="758880" cy="81144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21" descr="буква и"/>
          <p:cNvPicPr/>
          <p:nvPr/>
        </p:nvPicPr>
        <p:blipFill>
          <a:blip r:embed="rId13"/>
          <a:stretch/>
        </p:blipFill>
        <p:spPr>
          <a:xfrm>
            <a:off x="5724360" y="4581360"/>
            <a:ext cx="687600" cy="65880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20" descr="смотрит"/>
          <p:cNvPicPr/>
          <p:nvPr/>
        </p:nvPicPr>
        <p:blipFill>
          <a:blip r:embed="rId14"/>
          <a:stretch/>
        </p:blipFill>
        <p:spPr>
          <a:xfrm>
            <a:off x="6659640" y="4581360"/>
            <a:ext cx="936720" cy="73044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19" descr="птичка"/>
          <p:cNvPicPr/>
          <p:nvPr/>
        </p:nvPicPr>
        <p:blipFill>
          <a:blip r:embed="rId15"/>
          <a:stretch/>
        </p:blipFill>
        <p:spPr>
          <a:xfrm>
            <a:off x="7740720" y="4508640"/>
            <a:ext cx="1008000" cy="815760"/>
          </a:xfrm>
          <a:prstGeom prst="rect">
            <a:avLst/>
          </a:prstGeom>
          <a:ln w="0">
            <a:noFill/>
          </a:ln>
        </p:spPr>
      </p:pic>
      <p:sp>
        <p:nvSpPr>
          <p:cNvPr id="1286" name="Rectangle 26"/>
          <p:cNvSpPr/>
          <p:nvPr/>
        </p:nvSpPr>
        <p:spPr>
          <a:xfrm>
            <a:off x="228600" y="-72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27"/>
          <p:cNvSpPr/>
          <p:nvPr/>
        </p:nvSpPr>
        <p:spPr>
          <a:xfrm>
            <a:off x="678240" y="8042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28"/>
          <p:cNvSpPr/>
          <p:nvPr/>
        </p:nvSpPr>
        <p:spPr>
          <a:xfrm>
            <a:off x="678600" y="154224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9"/>
          <p:cNvSpPr/>
          <p:nvPr/>
        </p:nvSpPr>
        <p:spPr>
          <a:xfrm>
            <a:off x="678960" y="234720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0"/>
          <p:cNvSpPr/>
          <p:nvPr/>
        </p:nvSpPr>
        <p:spPr>
          <a:xfrm>
            <a:off x="838800" y="299664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32"/>
          <p:cNvSpPr/>
          <p:nvPr/>
        </p:nvSpPr>
        <p:spPr>
          <a:xfrm>
            <a:off x="678240" y="491436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3"/>
          <p:cNvSpPr/>
          <p:nvPr/>
        </p:nvSpPr>
        <p:spPr>
          <a:xfrm>
            <a:off x="450720" y="58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Picture 4" descr=""/>
          <p:cNvPicPr/>
          <p:nvPr/>
        </p:nvPicPr>
        <p:blipFill>
          <a:blip r:embed="rId1"/>
          <a:stretch/>
        </p:blipFill>
        <p:spPr>
          <a:xfrm>
            <a:off x="2643120" y="857160"/>
            <a:ext cx="4673520" cy="2086200"/>
          </a:xfrm>
          <a:prstGeom prst="rect">
            <a:avLst/>
          </a:prstGeom>
          <a:ln w="9360">
            <a:solidFill>
              <a:srgbClr val="7a8f59"/>
            </a:solidFill>
            <a:miter/>
          </a:ln>
        </p:spPr>
      </p:pic>
      <p:sp>
        <p:nvSpPr>
          <p:cNvPr id="1294" name="Прямоугольник 2"/>
          <p:cNvSpPr/>
          <p:nvPr/>
        </p:nvSpPr>
        <p:spPr>
          <a:xfrm>
            <a:off x="2286000" y="285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русской народной сказки «Репка» для младшего  дошкольного  возра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Прямоугольник 3"/>
          <p:cNvSpPr/>
          <p:nvPr/>
        </p:nvSpPr>
        <p:spPr>
          <a:xfrm>
            <a:off x="5214960" y="34290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Для детей </a:t>
            </a:r>
            <a:r>
              <a:rPr b="1" i="1" lang="ru-RU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старшего возраста </a:t>
            </a:r>
            <a:r>
              <a:rPr b="0" i="1" lang="ru-RU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схемы желательно рисовать в одном цвете,</a:t>
            </a:r>
            <a:r>
              <a:rPr b="0" i="1" lang="ru-RU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чтобы не привлекать внимание на яркость символических изображений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Рисунок 3" descr="C:\Users\Александр\Desktop\мнемотаблицы. сказки\ss36.jpg"/>
          <p:cNvPicPr/>
          <p:nvPr/>
        </p:nvPicPr>
        <p:blipFill>
          <a:blip r:embed="rId2"/>
          <a:stretch/>
        </p:blipFill>
        <p:spPr>
          <a:xfrm>
            <a:off x="785880" y="3000240"/>
            <a:ext cx="41479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entury Gothic"/>
              </a:rPr>
              <a:t>Мнемотаблицы на однокоренные слова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116000" y="1197000"/>
          <a:ext cx="6840720" cy="5416560"/>
        </p:xfrm>
        <a:graphic>
          <a:graphicData uri="http://schemas.openxmlformats.org/drawingml/2006/table">
            <a:tbl>
              <a:tblPr/>
              <a:tblGrid>
                <a:gridCol w="2279520"/>
                <a:gridCol w="2281320"/>
                <a:gridCol w="2279880"/>
              </a:tblGrid>
              <a:tr h="18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99" name="Picture 2" descr="C:\Users\Анютка\Desktop\Шипилина\Мнемотаблицы\Картинки для мнемотаблиц\snow_1024.jpg"/>
          <p:cNvPicPr/>
          <p:nvPr/>
        </p:nvPicPr>
        <p:blipFill>
          <a:blip r:embed="rId1"/>
          <a:stretch/>
        </p:blipFill>
        <p:spPr>
          <a:xfrm>
            <a:off x="3422520" y="3054240"/>
            <a:ext cx="2229120" cy="171936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3" descr="C:\Users\Анютка\Desktop\Шипилина\Мнемотаблицы\Картинки для мнемотаблиц\MC900439774.PNG"/>
          <p:cNvPicPr/>
          <p:nvPr/>
        </p:nvPicPr>
        <p:blipFill>
          <a:blip r:embed="rId2"/>
          <a:stretch/>
        </p:blipFill>
        <p:spPr>
          <a:xfrm>
            <a:off x="1476360" y="1268280"/>
            <a:ext cx="1592280" cy="159408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4" descr="C:\Users\Анютка\Desktop\Шипилина\Мнемотаблицы\Картинки для мнемотаблиц\MC900331453.WMF"/>
          <p:cNvPicPr/>
          <p:nvPr/>
        </p:nvPicPr>
        <p:blipFill>
          <a:blip r:embed="rId3"/>
          <a:stretch/>
        </p:blipFill>
        <p:spPr>
          <a:xfrm>
            <a:off x="4094280" y="4869000"/>
            <a:ext cx="885600" cy="163512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5" descr="C:\Users\Анютка\Desktop\Шипилина\Мнемотаблицы\Картинки для мнемотаблиц\snowdrops.jpg"/>
          <p:cNvPicPr/>
          <p:nvPr/>
        </p:nvPicPr>
        <p:blipFill>
          <a:blip r:embed="rId4"/>
          <a:stretch/>
        </p:blipFill>
        <p:spPr>
          <a:xfrm>
            <a:off x="1173240" y="4869000"/>
            <a:ext cx="2209680" cy="16920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6" descr="C:\Users\Анютка\Desktop\Шипилина\Мнемотаблицы\Картинки для мнемотаблиц\MC900440286.JPG"/>
          <p:cNvPicPr/>
          <p:nvPr/>
        </p:nvPicPr>
        <p:blipFill>
          <a:blip r:embed="rId5"/>
          <a:stretch/>
        </p:blipFill>
        <p:spPr>
          <a:xfrm>
            <a:off x="3768840" y="1244520"/>
            <a:ext cx="1536480" cy="17240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C:\Users\Анютка\Desktop\Шипилина\Мнемотаблицы\Картинки для мнемотаблиц\images.jpg"/>
          <p:cNvPicPr/>
          <p:nvPr/>
        </p:nvPicPr>
        <p:blipFill>
          <a:blip r:embed="rId6"/>
          <a:stretch/>
        </p:blipFill>
        <p:spPr>
          <a:xfrm>
            <a:off x="5961240" y="1287360"/>
            <a:ext cx="1728720" cy="166068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8" descr="C:\Users\Анютка\Desktop\Шипилина\Мнемотаблицы\Картинки для мнемотаблиц\MC900109307.WMF"/>
          <p:cNvPicPr/>
          <p:nvPr/>
        </p:nvPicPr>
        <p:blipFill>
          <a:blip r:embed="rId7"/>
          <a:stretch/>
        </p:blipFill>
        <p:spPr>
          <a:xfrm>
            <a:off x="1774800" y="3105000"/>
            <a:ext cx="1008000" cy="17240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9" descr="C:\Users\Анютка\Desktop\Шипилина\Мнемотаблицы\Картинки для мнемотаблиц\MC900353119.WMF"/>
          <p:cNvPicPr/>
          <p:nvPr/>
        </p:nvPicPr>
        <p:blipFill>
          <a:blip r:embed="rId8"/>
          <a:stretch/>
        </p:blipFill>
        <p:spPr>
          <a:xfrm>
            <a:off x="5873760" y="5211720"/>
            <a:ext cx="1816200" cy="10065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0" descr="C:\Users\Анютка\Desktop\Шипилина\Мнемотаблицы\Картинки для мнемотаблиц\MC900423499.WMF"/>
          <p:cNvPicPr/>
          <p:nvPr/>
        </p:nvPicPr>
        <p:blipFill>
          <a:blip r:embed="rId9"/>
          <a:stretch/>
        </p:blipFill>
        <p:spPr>
          <a:xfrm>
            <a:off x="6210360" y="3027240"/>
            <a:ext cx="1230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AutoShape 2"/>
          <p:cNvSpPr/>
          <p:nvPr/>
        </p:nvSpPr>
        <p:spPr>
          <a:xfrm>
            <a:off x="214200" y="1071720"/>
            <a:ext cx="8783640" cy="550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3"/>
          <p:cNvSpPr/>
          <p:nvPr/>
        </p:nvSpPr>
        <p:spPr>
          <a:xfrm>
            <a:off x="571680" y="1214280"/>
            <a:ext cx="8280360" cy="547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Равнобедренный треугольник 13"/>
          <p:cNvSpPr/>
          <p:nvPr/>
        </p:nvSpPr>
        <p:spPr>
          <a:xfrm>
            <a:off x="785880" y="1000080"/>
            <a:ext cx="7416720" cy="5572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Прямая соединительная линия 16"/>
          <p:cNvSpPr/>
          <p:nvPr/>
        </p:nvSpPr>
        <p:spPr>
          <a:xfrm flipV="1">
            <a:off x="2639160" y="3785760"/>
            <a:ext cx="3708360" cy="18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ая соединительная линия 20"/>
          <p:cNvSpPr/>
          <p:nvPr/>
        </p:nvSpPr>
        <p:spPr>
          <a:xfrm>
            <a:off x="3714840" y="1143000"/>
            <a:ext cx="15843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2" descr="0lvPenNi5GCCZGxq1k1uuJ0RMfvGwQmILoBMTBsjnNCR80_ZeMwNlt5uigLIq4aIneajHcFwKXbgJ_ePOtx0fpDAz3rJtVzgyAf6PKG7DkGb2Yt63ImWsSzgjgB6B-gb5WqgWSMYCsgb"/>
          <p:cNvPicPr/>
          <p:nvPr/>
        </p:nvPicPr>
        <p:blipFill>
          <a:blip r:embed="rId1"/>
          <a:stretch/>
        </p:blipFill>
        <p:spPr>
          <a:xfrm>
            <a:off x="3929040" y="13572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3" descr="C:\Users\Admin\Desktop\Ahşap-günlüğe-kaydeder.-Odun.-Ağaç-günlükleri_50ec632b8d8de-thumb.jpg"/>
          <p:cNvPicPr/>
          <p:nvPr/>
        </p:nvPicPr>
        <p:blipFill>
          <a:blip r:embed="rId2"/>
          <a:stretch/>
        </p:blipFill>
        <p:spPr>
          <a:xfrm>
            <a:off x="3071880" y="2786040"/>
            <a:ext cx="1108080" cy="76536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4" descr="C:\Users\Admin\Desktop\smile.jpg"/>
          <p:cNvPicPr/>
          <p:nvPr/>
        </p:nvPicPr>
        <p:blipFill>
          <a:blip r:embed="rId3"/>
          <a:stretch/>
        </p:blipFill>
        <p:spPr>
          <a:xfrm>
            <a:off x="4572000" y="2928960"/>
            <a:ext cx="988920" cy="53028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5" descr="C:\Users\Admin\Desktop\474b11b8ff.jpg"/>
          <p:cNvPicPr/>
          <p:nvPr/>
        </p:nvPicPr>
        <p:blipFill>
          <a:blip r:embed="rId4"/>
          <a:stretch/>
        </p:blipFill>
        <p:spPr>
          <a:xfrm>
            <a:off x="2786040" y="3571920"/>
            <a:ext cx="1281240" cy="86688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7" descr="C:\Users\Admin\Desktop\rOvPn5pA4k0.jpg"/>
          <p:cNvPicPr/>
          <p:nvPr/>
        </p:nvPicPr>
        <p:blipFill>
          <a:blip r:embed="rId5"/>
          <a:stretch/>
        </p:blipFill>
        <p:spPr>
          <a:xfrm>
            <a:off x="5143680" y="3571920"/>
            <a:ext cx="898200" cy="90972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8" descr="C:\Users\Admin\Desktop\38495c8s-960.jpg"/>
          <p:cNvPicPr/>
          <p:nvPr/>
        </p:nvPicPr>
        <p:blipFill>
          <a:blip r:embed="rId6"/>
          <a:stretch/>
        </p:blipFill>
        <p:spPr>
          <a:xfrm>
            <a:off x="5857920" y="4357800"/>
            <a:ext cx="833400" cy="107928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" descr="0lvPenNi5GCCZGxq1k1uuJ0RMfvGwQmILoBMTBsjnNCR80_ZeMwNlt5uigLIq4aIneajHcFwKXbgJ_ePOtx0fpDAz3rJtVzgyAf6PKG7DkGb2Yt63ImWsSzgjgB6B-gb5WqgWSMYCsgb"/>
          <p:cNvPicPr/>
          <p:nvPr/>
        </p:nvPicPr>
        <p:blipFill>
          <a:blip r:embed="rId7"/>
          <a:stretch/>
        </p:blipFill>
        <p:spPr>
          <a:xfrm>
            <a:off x="1928880" y="4357800"/>
            <a:ext cx="1103400" cy="117612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9" descr="C:\Users\Admin\Desktop\i (1).jpg"/>
          <p:cNvPicPr/>
          <p:nvPr/>
        </p:nvPicPr>
        <p:blipFill>
          <a:blip r:embed="rId8"/>
          <a:stretch/>
        </p:blipFill>
        <p:spPr>
          <a:xfrm>
            <a:off x="4429080" y="4500720"/>
            <a:ext cx="1204920" cy="93636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10" descr="C:\Users\Admin\Desktop\raskrashka dlya malyshey malchik1.jpg"/>
          <p:cNvPicPr/>
          <p:nvPr/>
        </p:nvPicPr>
        <p:blipFill>
          <a:blip r:embed="rId9"/>
          <a:stretch/>
        </p:blipFill>
        <p:spPr>
          <a:xfrm>
            <a:off x="4143240" y="5429160"/>
            <a:ext cx="849600" cy="115272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6" descr="C:\Users\Admin\Desktop\1013598691.jpg"/>
          <p:cNvPicPr/>
          <p:nvPr/>
        </p:nvPicPr>
        <p:blipFill>
          <a:blip r:embed="rId10"/>
          <a:stretch/>
        </p:blipFill>
        <p:spPr>
          <a:xfrm>
            <a:off x="4286160" y="3571920"/>
            <a:ext cx="747720" cy="9367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37" descr="DQtYmVjNT"/>
          <p:cNvPicPr/>
          <p:nvPr/>
        </p:nvPicPr>
        <p:blipFill>
          <a:blip r:embed="rId11"/>
          <a:stretch/>
        </p:blipFill>
        <p:spPr>
          <a:xfrm>
            <a:off x="3286080" y="4500720"/>
            <a:ext cx="1003320" cy="936360"/>
          </a:xfrm>
          <a:prstGeom prst="rect">
            <a:avLst/>
          </a:prstGeom>
          <a:ln w="0">
            <a:noFill/>
          </a:ln>
        </p:spPr>
      </p:pic>
      <p:sp>
        <p:nvSpPr>
          <p:cNvPr id="1324" name="Прямая соединительная линия 46"/>
          <p:cNvSpPr/>
          <p:nvPr/>
        </p:nvSpPr>
        <p:spPr>
          <a:xfrm>
            <a:off x="3571920" y="2643120"/>
            <a:ext cx="1800360" cy="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ая соединительная линия 49"/>
          <p:cNvSpPr/>
          <p:nvPr/>
        </p:nvSpPr>
        <p:spPr>
          <a:xfrm>
            <a:off x="4071960" y="5572080"/>
            <a:ext cx="914400" cy="9144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Прямая соединительная линия 51"/>
          <p:cNvSpPr/>
          <p:nvPr/>
        </p:nvSpPr>
        <p:spPr>
          <a:xfrm>
            <a:off x="4214880" y="5572080"/>
            <a:ext cx="914400" cy="9144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Прямая соединительная линия 54"/>
          <p:cNvSpPr/>
          <p:nvPr/>
        </p:nvSpPr>
        <p:spPr>
          <a:xfrm>
            <a:off x="1643040" y="5429160"/>
            <a:ext cx="5904000" cy="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Прямая соединительная линия 57"/>
          <p:cNvSpPr/>
          <p:nvPr/>
        </p:nvSpPr>
        <p:spPr>
          <a:xfrm>
            <a:off x="2286000" y="4500720"/>
            <a:ext cx="4392720" cy="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Прямая соединительная линия 59"/>
          <p:cNvSpPr/>
          <p:nvPr/>
        </p:nvSpPr>
        <p:spPr>
          <a:xfrm>
            <a:off x="4143240" y="5786280"/>
            <a:ext cx="914400" cy="84312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ая соединительная линия 63"/>
          <p:cNvSpPr/>
          <p:nvPr/>
        </p:nvSpPr>
        <p:spPr>
          <a:xfrm flipH="1">
            <a:off x="3071880" y="3500280"/>
            <a:ext cx="2952720" cy="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26"/>
          <p:cNvSpPr/>
          <p:nvPr/>
        </p:nvSpPr>
        <p:spPr>
          <a:xfrm>
            <a:off x="1571760" y="35712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ИНКВЕНА в форме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Прямоугольник 1"/>
          <p:cNvSpPr/>
          <p:nvPr/>
        </p:nvSpPr>
        <p:spPr>
          <a:xfrm>
            <a:off x="61128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 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гробам напрями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рзина, не мет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 веселый снегов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литка шокола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е его 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лочка нарядн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Picture 10" descr="C:\Users\Светлана\Desktop\снеговик\Безымянный2.jpg"/>
          <p:cNvPicPr/>
          <p:nvPr/>
        </p:nvPicPr>
        <p:blipFill>
          <a:blip r:embed="rId1"/>
          <a:stretch/>
        </p:blipFill>
        <p:spPr>
          <a:xfrm>
            <a:off x="971640" y="2205000"/>
            <a:ext cx="2663640" cy="200340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11" descr="C:\Users\Светлана\Desktop\снеговик\Безымянный1.jpg"/>
          <p:cNvPicPr/>
          <p:nvPr/>
        </p:nvPicPr>
        <p:blipFill>
          <a:blip r:embed="rId2"/>
          <a:stretch/>
        </p:blipFill>
        <p:spPr>
          <a:xfrm>
            <a:off x="3586320" y="2203560"/>
            <a:ext cx="2404800" cy="200484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2" descr="C:\Users\Светлана\Desktop\снеговик\Безымянный3.jpg"/>
          <p:cNvPicPr/>
          <p:nvPr/>
        </p:nvPicPr>
        <p:blipFill>
          <a:blip r:embed="rId3"/>
          <a:stretch/>
        </p:blipFill>
        <p:spPr>
          <a:xfrm>
            <a:off x="5867280" y="2203560"/>
            <a:ext cx="2495520" cy="2004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3" descr="C:\Users\Светлана\Desktop\снеговик\Безымянный4.jpg"/>
          <p:cNvPicPr/>
          <p:nvPr/>
        </p:nvPicPr>
        <p:blipFill>
          <a:blip r:embed="rId4"/>
          <a:stretch/>
        </p:blipFill>
        <p:spPr>
          <a:xfrm>
            <a:off x="968400" y="4208400"/>
            <a:ext cx="1954080" cy="200340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14" descr="C:\Users\Светлана\Desktop\снеговик\Безымянный5.jpg"/>
          <p:cNvPicPr/>
          <p:nvPr/>
        </p:nvPicPr>
        <p:blipFill>
          <a:blip r:embed="rId5"/>
          <a:stretch/>
        </p:blipFill>
        <p:spPr>
          <a:xfrm>
            <a:off x="2922480" y="4203720"/>
            <a:ext cx="1995480" cy="201276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15" descr="C:\Users\Светлана\Desktop\снеговик\Безымянный6.jpg"/>
          <p:cNvPicPr/>
          <p:nvPr/>
        </p:nvPicPr>
        <p:blipFill>
          <a:blip r:embed="rId6"/>
          <a:stretch/>
        </p:blipFill>
        <p:spPr>
          <a:xfrm>
            <a:off x="4788000" y="4149720"/>
            <a:ext cx="1735200" cy="206208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16" descr="C:\Users\Светлана\Desktop\снеговик\Безымянный7.jpg"/>
          <p:cNvPicPr/>
          <p:nvPr/>
        </p:nvPicPr>
        <p:blipFill>
          <a:blip r:embed="rId7"/>
          <a:stretch/>
        </p:blipFill>
        <p:spPr>
          <a:xfrm>
            <a:off x="6489720" y="4130640"/>
            <a:ext cx="1873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0" name=""/>
          <p:cNvGraphicFramePr/>
          <p:nvPr/>
        </p:nvGraphicFramePr>
        <p:xfrm>
          <a:off x="684360" y="62064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320"/>
                <a:gridCol w="163224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1" name="Picture 48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755640" y="69228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9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2411280" y="69228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50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4140360" y="69228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51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755640" y="2421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52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2436840" y="244800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53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995640" y="242100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54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755640" y="4221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55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2340000" y="422100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56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4067280" y="4221000"/>
            <a:ext cx="1517400" cy="172728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59" descr="0_d4d58_f99ff131_orig"/>
          <p:cNvPicPr/>
          <p:nvPr/>
        </p:nvPicPr>
        <p:blipFill>
          <a:blip r:embed="rId10"/>
          <a:stretch/>
        </p:blipFill>
        <p:spPr>
          <a:xfrm>
            <a:off x="5940360" y="1700280"/>
            <a:ext cx="2138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entury Gothic"/>
              </a:rPr>
              <a:t>Заучивание чистоговорок, потеше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52" name="Picture 5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90960" cy="272448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6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3835440" cy="26323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7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960720" cy="276876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8" descr="0_d4e6c_ffa7f1ee_orig"/>
          <p:cNvPicPr/>
          <p:nvPr/>
        </p:nvPicPr>
        <p:blipFill>
          <a:blip r:embed="rId4"/>
          <a:stretch/>
        </p:blipFill>
        <p:spPr>
          <a:xfrm rot="223800">
            <a:off x="4849920" y="3311280"/>
            <a:ext cx="39290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Picture 5" descr="getImageCA7B0CJX"/>
          <p:cNvPicPr/>
          <p:nvPr/>
        </p:nvPicPr>
        <p:blipFill>
          <a:blip r:embed="rId1"/>
          <a:stretch/>
        </p:blipFill>
        <p:spPr>
          <a:xfrm>
            <a:off x="847800" y="404640"/>
            <a:ext cx="75834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4"/>
          <p:cNvSpPr/>
          <p:nvPr/>
        </p:nvSpPr>
        <p:spPr>
          <a:xfrm>
            <a:off x="611280" y="222480"/>
            <a:ext cx="8316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 детей увеличивается круг знаний об окружающем ми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является желание пересказывать тексты, придумывать интересные исто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является интерес к заучиванию стихов и потеше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оварный запас выходит на более высокий уров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ти преодолевают робость, застенчивость, учатся свободно держаться перед ауди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5"/>
          <p:cNvSpPr/>
          <p:nvPr/>
        </p:nvSpPr>
        <p:spPr>
          <a:xfrm>
            <a:off x="108000" y="3373920"/>
            <a:ext cx="8856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вод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приемами работы с мнемотаблицами помогает в развитии основных психических процессов - памяти, внимания, образного мышления, а так же сокращает время обучения связной речи детей дошкольного возраста. Мнемотехника помогает сделать процесс запоминания более простым, интересным, творче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605016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ЖЕЛАЮ</a:t>
            </a:r>
            <a:br>
              <a:rPr sz="5400"/>
            </a:b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УДАЧИ!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5" descr="0_ca2e5_39eb4984_orig"/>
          <p:cNvPicPr/>
          <p:nvPr/>
        </p:nvPicPr>
        <p:blipFill>
          <a:blip r:embed="rId1"/>
          <a:stretch/>
        </p:blipFill>
        <p:spPr>
          <a:xfrm>
            <a:off x="5867280" y="260280"/>
            <a:ext cx="2268720" cy="3122640"/>
          </a:xfrm>
          <a:prstGeom prst="rect">
            <a:avLst/>
          </a:prstGeom>
          <a:ln w="0">
            <a:noFill/>
          </a:ln>
        </p:spPr>
      </p:pic>
      <p:sp>
        <p:nvSpPr>
          <p:cNvPr id="1223" name="Прямоугольник 4"/>
          <p:cNvSpPr/>
          <p:nvPr/>
        </p:nvSpPr>
        <p:spPr>
          <a:xfrm>
            <a:off x="1332000" y="1413000"/>
            <a:ext cx="50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Учите ребёнка каким-нибудь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известным ему словам –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будет долго и напрасно мучиться,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 свяжите двадцать таких слов с картинками и он их усвоит на лету»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.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03280" y="609480"/>
            <a:ext cx="7416720" cy="49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Century Gothic"/>
              </a:rPr>
              <a:t>МНЕМОТЕХНИКА</a:t>
            </a:r>
            <a:r>
              <a:rPr b="1" lang="ru-RU" sz="27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2700" spc="-1" strike="noStrike">
                <a:solidFill>
                  <a:srgbClr val="262626"/>
                </a:solidFill>
                <a:latin typeface="Century Gothic"/>
              </a:rPr>
              <a:t>– система специальных приемов, обеспечивающих эффективное запоминание, сохранение и воспроизведение информации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Century Gothic"/>
              </a:rPr>
              <a:t> Мнемотехника</a:t>
            </a:r>
            <a:r>
              <a:rPr b="0" lang="ru-RU" sz="27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ru-RU" sz="2700" spc="-1" strike="noStrike">
                <a:solidFill>
                  <a:srgbClr val="262626"/>
                </a:solidFill>
                <a:latin typeface="Century Gothic"/>
              </a:rPr>
              <a:t> призвана облегчить запоминание и увеличить объем памяти, путем образования дополнительных ассоциаций.</a:t>
            </a:r>
            <a:br>
              <a:rPr sz="4800"/>
            </a:br>
            <a:endParaRPr b="0" lang="en-US" sz="2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2920" y="4354200"/>
            <a:ext cx="659124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Прямоугольник 1"/>
          <p:cNvSpPr/>
          <p:nvPr/>
        </p:nvSpPr>
        <p:spPr>
          <a:xfrm>
            <a:off x="1116000" y="1197000"/>
            <a:ext cx="7416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</a:rPr>
              <a:t>1.Мнемотехника облегчает детям овладение связной реч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</a:rPr>
              <a:t>2. Ребёнок с опорой на образы памяти устанавливает причинно-следственные связи, делает выводы, развивая тем самым логическое мышл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Arial"/>
              </a:rPr>
              <a:t>3. Применения мнемотехники, использование обобщений позволяют ребёнку систематизировать свой непосредственный опы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2"/>
          <p:cNvSpPr/>
          <p:nvPr/>
        </p:nvSpPr>
        <p:spPr>
          <a:xfrm>
            <a:off x="2286000" y="549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КТУАЛЬНОСТ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 txBox="1"/>
          <p:nvPr/>
        </p:nvSpPr>
        <p:spPr>
          <a:xfrm>
            <a:off x="900000" y="907920"/>
            <a:ext cx="79200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немотехнику в дошкольной педагогике называют по- разному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оробьёва В.М. называет эту методику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сенсорно-графическими схемами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Ткаченко Т.А.-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предметно-схематическими моделями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Глухов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.П.-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блоками –квадратами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ольшева Т.В.-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коллажем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Ефименкова Л.Н.-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схемой составления рассказ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4"/>
          <p:cNvSpPr/>
          <p:nvPr/>
        </p:nvSpPr>
        <p:spPr>
          <a:xfrm>
            <a:off x="900000" y="-37080"/>
            <a:ext cx="79930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Развивать умение понимать и рассказывать текст с помощью графической ана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вать у детей умственную активность, сообразительность, наблюдательность, умение сравнивать, выделять существенные при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звивать у детей психические процессы: мышление, внимание, воображение,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одействовать решению изобретательских задач сказочного, игрового, экологического, этиче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бучать детей правильному звукопроизно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оспитывать у детей потребность в речевом общении для лучшей адаптации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66f54"/>
              </a:solidFill>
              <a:latin typeface="Century Gothic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971640" y="980640"/>
            <a:ext cx="75628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Используются для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-обогащения словарного запаса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-при обучении составлению рассказов</a:t>
            </a: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(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о картине и серии картин, описательных рассказов, творческих рассказов)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-при пересказах художественной литературы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-при отгадывании и загадывании загадок,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-при заучивании стихов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23640" y="6597720"/>
            <a:ext cx="1443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71640" y="47592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Предметные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пиктограммы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Глагольные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пиктограмм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0" i="1" lang="ru-RU" sz="2000" spc="-1" strike="noStrike">
                <a:solidFill>
                  <a:srgbClr val="404040"/>
                </a:solidFill>
                <a:latin typeface="Century Gothic"/>
              </a:rPr>
              <a:t>Глаз            Солнце                       Срывать           Бежат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Адъективные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пиктограммы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Наречные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пиктограммы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0" i="1" lang="ru-RU" sz="2000" spc="-1" strike="noStrike">
                <a:solidFill>
                  <a:srgbClr val="404040"/>
                </a:solidFill>
                <a:latin typeface="Century Gothic"/>
              </a:rPr>
              <a:t>Весёлый             Синий                    Внутри          Вокруг    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Century Gothic"/>
              </a:rPr>
              <a:t>            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4" name="Picture 5" descr="глаз"/>
          <p:cNvPicPr/>
          <p:nvPr/>
        </p:nvPicPr>
        <p:blipFill>
          <a:blip r:embed="rId1"/>
          <a:stretch/>
        </p:blipFill>
        <p:spPr>
          <a:xfrm>
            <a:off x="1187280" y="1989000"/>
            <a:ext cx="873360" cy="93672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6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7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1006560" cy="9507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8" descr="бежать"/>
          <p:cNvPicPr/>
          <p:nvPr/>
        </p:nvPicPr>
        <p:blipFill>
          <a:blip r:embed="rId4"/>
          <a:stretch/>
        </p:blipFill>
        <p:spPr>
          <a:xfrm>
            <a:off x="7093080" y="1844640"/>
            <a:ext cx="1079280" cy="90972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9" descr="голубой"/>
          <p:cNvPicPr/>
          <p:nvPr/>
        </p:nvPicPr>
        <p:blipFill>
          <a:blip r:embed="rId5"/>
          <a:stretch/>
        </p:blipFill>
        <p:spPr>
          <a:xfrm>
            <a:off x="3203640" y="4508640"/>
            <a:ext cx="1297080" cy="9363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0" descr="веселый"/>
          <p:cNvPicPr/>
          <p:nvPr/>
        </p:nvPicPr>
        <p:blipFill>
          <a:blip r:embed="rId6"/>
          <a:stretch/>
        </p:blipFill>
        <p:spPr>
          <a:xfrm>
            <a:off x="1332000" y="429264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1" descr="внутри"/>
          <p:cNvPicPr/>
          <p:nvPr/>
        </p:nvPicPr>
        <p:blipFill>
          <a:blip r:embed="rId7"/>
          <a:stretch/>
        </p:blipFill>
        <p:spPr>
          <a:xfrm>
            <a:off x="5292720" y="4581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2" descr="вокруг"/>
          <p:cNvPicPr/>
          <p:nvPr/>
        </p:nvPicPr>
        <p:blipFill>
          <a:blip r:embed="rId8"/>
          <a:stretch/>
        </p:blipFill>
        <p:spPr>
          <a:xfrm>
            <a:off x="7236000" y="4221000"/>
            <a:ext cx="11523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Формирование многословного высказывания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064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Мальчик        смотрит      на         жёлтую      груш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4" name="Picture 11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1014480" cy="10083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0" descr="смотрит"/>
          <p:cNvPicPr/>
          <p:nvPr/>
        </p:nvPicPr>
        <p:blipFill>
          <a:blip r:embed="rId2"/>
          <a:stretch/>
        </p:blipFill>
        <p:spPr>
          <a:xfrm>
            <a:off x="2627280" y="1989000"/>
            <a:ext cx="936720" cy="8654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9" descr="предлог на"/>
          <p:cNvPicPr/>
          <p:nvPr/>
        </p:nvPicPr>
        <p:blipFill>
          <a:blip r:embed="rId3"/>
          <a:stretch/>
        </p:blipFill>
        <p:spPr>
          <a:xfrm>
            <a:off x="3995640" y="1700280"/>
            <a:ext cx="1152720" cy="10065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8" descr="желтый"/>
          <p:cNvPicPr/>
          <p:nvPr/>
        </p:nvPicPr>
        <p:blipFill>
          <a:blip r:embed="rId4"/>
          <a:stretch/>
        </p:blipFill>
        <p:spPr>
          <a:xfrm>
            <a:off x="5219640" y="184464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7" descr=""/>
          <p:cNvPicPr/>
          <p:nvPr/>
        </p:nvPicPr>
        <p:blipFill>
          <a:blip r:embed="rId5"/>
          <a:stretch/>
        </p:blipFill>
        <p:spPr>
          <a:xfrm>
            <a:off x="6732720" y="1844640"/>
            <a:ext cx="1062000" cy="10080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любить"/>
          <p:cNvPicPr/>
          <p:nvPr/>
        </p:nvPicPr>
        <p:blipFill>
          <a:blip r:embed="rId6"/>
          <a:stretch/>
        </p:blipFill>
        <p:spPr>
          <a:xfrm>
            <a:off x="3492360" y="429264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5" descr=""/>
          <p:cNvPicPr/>
          <p:nvPr/>
        </p:nvPicPr>
        <p:blipFill>
          <a:blip r:embed="rId7"/>
          <a:stretch/>
        </p:blipFill>
        <p:spPr>
          <a:xfrm>
            <a:off x="1476360" y="4221000"/>
            <a:ext cx="1295280" cy="100836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4" descr=""/>
          <p:cNvPicPr/>
          <p:nvPr/>
        </p:nvPicPr>
        <p:blipFill>
          <a:blip r:embed="rId8"/>
          <a:stretch/>
        </p:blipFill>
        <p:spPr>
          <a:xfrm>
            <a:off x="5292720" y="4292640"/>
            <a:ext cx="1103400" cy="86508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3"/>
          <p:cNvSpPr/>
          <p:nvPr/>
        </p:nvSpPr>
        <p:spPr>
          <a:xfrm>
            <a:off x="227160" y="5421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4"/>
          <p:cNvSpPr/>
          <p:nvPr/>
        </p:nvSpPr>
        <p:spPr>
          <a:xfrm>
            <a:off x="227160" y="12898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5"/>
          <p:cNvSpPr/>
          <p:nvPr/>
        </p:nvSpPr>
        <p:spPr>
          <a:xfrm>
            <a:off x="227160" y="21423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6"/>
          <p:cNvSpPr/>
          <p:nvPr/>
        </p:nvSpPr>
        <p:spPr>
          <a:xfrm>
            <a:off x="227520" y="301392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228960" y="382824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8"/>
          <p:cNvSpPr/>
          <p:nvPr/>
        </p:nvSpPr>
        <p:spPr>
          <a:xfrm>
            <a:off x="227160" y="46141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9"/>
          <p:cNvSpPr/>
          <p:nvPr/>
        </p:nvSpPr>
        <p:spPr>
          <a:xfrm>
            <a:off x="227520" y="54000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0"/>
          <p:cNvSpPr/>
          <p:nvPr/>
        </p:nvSpPr>
        <p:spPr>
          <a:xfrm>
            <a:off x="227160" y="62618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1547640" y="5444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рывает               любит                   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User</cp:lastModifiedBy>
  <dcterms:modified xsi:type="dcterms:W3CDTF">2021-10-21T07:55:43Z</dcterms:modified>
  <cp:revision>46</cp:revision>
  <dc:subject/>
  <dc:title>Слайд 1</dc:title>
</cp:coreProperties>
</file>