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EA0-6683-499A-961F-B110355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3B0-6220-49D4-8C2A-8B19D18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29F-AF09-42F5-90CD-89724EEA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B84-3FB2-499C-8F26-4C3E5CD7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9A4-B6A7-4C1F-9407-9EF04FF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0AB-93C8-4123-B336-D705CA57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357-F915-4600-B921-8F91735B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6BF-24DC-461D-8F94-EDAEE0B2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923-9763-45B7-9191-08B9877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150-F76C-45A6-9656-3DB9487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EB7-11B8-43E3-A17A-29E5883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BF4-2B1E-4EB1-BA9D-0EC948B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575F-11B0-4E1A-A18A-7571C3601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phonoteka.org/uploads/posts/2021-04/1618939059_12-phonoteka_org-p-detskie-akvarelnie-foni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179280" y="333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РМБ ДОБУ «Центр развития ребенка – д/с «Терем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250920" y="5877000"/>
            <a:ext cx="8642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ементеева Светлана Станислав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f12ae"/>
                </a:solidFill>
                <a:latin typeface="Calibri"/>
              </a:rPr>
              <a:t>Пойковский 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826920" y="1844640"/>
            <a:ext cx="7488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ЛЭПБУК ПО ЦВЕТОВЕД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«М</a:t>
            </a:r>
            <a:r>
              <a:rPr b="0" lang="ru-RU" sz="4000" spc="-1" strike="noStrike">
                <a:solidFill>
                  <a:srgbClr val="e46c0a"/>
                </a:solidFill>
                <a:latin typeface="Arial Black"/>
              </a:rPr>
              <a:t>И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Р </a:t>
            </a:r>
            <a:r>
              <a:rPr b="0" lang="ru-RU" sz="4000" spc="-1" strike="noStrike">
                <a:solidFill>
                  <a:srgbClr val="198614"/>
                </a:solidFill>
                <a:latin typeface="Arial Black"/>
              </a:rPr>
              <a:t>Ц</a:t>
            </a: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В</a:t>
            </a:r>
            <a:r>
              <a:rPr b="0" lang="ru-RU" sz="4000" spc="-1" strike="noStrike">
                <a:solidFill>
                  <a:srgbClr val="3f12ae"/>
                </a:solidFill>
                <a:latin typeface="Arial Black"/>
              </a:rPr>
              <a:t>Е</a:t>
            </a: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Т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А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f12ae"/>
                </a:solidFill>
                <a:latin typeface="Monotype Corsiva"/>
                <a:ea typeface="Times New Roman"/>
              </a:rPr>
              <a:t>для</a:t>
            </a:r>
            <a:r>
              <a:rPr b="1" i="1" lang="ru-RU" sz="4000" spc="-1" strike="noStrike">
                <a:solidFill>
                  <a:srgbClr val="3f12ae"/>
                </a:solidFill>
                <a:latin typeface="Monotype Corsiva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f12ae"/>
                </a:solidFill>
                <a:latin typeface="Monotype Corsiva"/>
                <a:ea typeface="Times New Roman"/>
              </a:rPr>
              <a:t>среднего и старшего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теремок\Desktop\Новая папка (2)\20211021_154318.jpg"/>
          <p:cNvPicPr/>
          <p:nvPr/>
        </p:nvPicPr>
        <p:blipFill>
          <a:blip r:embed="rId2"/>
          <a:stretch/>
        </p:blipFill>
        <p:spPr>
          <a:xfrm>
            <a:off x="841320" y="822240"/>
            <a:ext cx="286704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теремок\Desktop\Новая папка (2)\20211021_154021.jpg"/>
          <p:cNvPicPr/>
          <p:nvPr/>
        </p:nvPicPr>
        <p:blipFill>
          <a:blip r:embed="rId3"/>
          <a:stretch/>
        </p:blipFill>
        <p:spPr>
          <a:xfrm>
            <a:off x="4716360" y="914400"/>
            <a:ext cx="3516480" cy="23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теремок\Desktop\Новая папка (2)\20211021_154200.jpg"/>
          <p:cNvPicPr/>
          <p:nvPr/>
        </p:nvPicPr>
        <p:blipFill>
          <a:blip r:embed="rId4"/>
          <a:stretch/>
        </p:blipFill>
        <p:spPr>
          <a:xfrm>
            <a:off x="857160" y="3978360"/>
            <a:ext cx="2743200" cy="260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Users\теремок\Desktop\Новая папка (2)\20211021_153802.jpg"/>
          <p:cNvPicPr/>
          <p:nvPr/>
        </p:nvPicPr>
        <p:blipFill>
          <a:blip r:embed="rId5"/>
          <a:stretch/>
        </p:blipFill>
        <p:spPr>
          <a:xfrm>
            <a:off x="5072040" y="3914640"/>
            <a:ext cx="2879640" cy="272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4356000" y="3533760"/>
            <a:ext cx="42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«Художник по имени Приро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733320" y="3608280"/>
            <a:ext cx="30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«Цветные пароч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841320" y="47628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« Говорящие цве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4910040" y="476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« Одинаковые и разны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-108000" y="2700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611280" y="450720"/>
            <a:ext cx="77058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Лэпбук представляет большой интерес для детей и они активно обращаются к нему за необходимой информацией, рассматривают, играют, при проведении опытов и экспери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теремок\Desktop\Новая папка (2)\20211021_120239.jpg"/>
          <p:cNvPicPr/>
          <p:nvPr/>
        </p:nvPicPr>
        <p:blipFill>
          <a:blip r:embed="rId2"/>
          <a:stretch/>
        </p:blipFill>
        <p:spPr>
          <a:xfrm>
            <a:off x="4226040" y="2905200"/>
            <a:ext cx="4690800" cy="2836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теремок\Desktop\Новая папка (2)\20211021_120406.jpg"/>
          <p:cNvPicPr/>
          <p:nvPr/>
        </p:nvPicPr>
        <p:blipFill>
          <a:blip r:embed="rId3"/>
          <a:stretch/>
        </p:blipFill>
        <p:spPr>
          <a:xfrm>
            <a:off x="101520" y="1593720"/>
            <a:ext cx="3943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503280" y="3213000"/>
            <a:ext cx="81374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результате работы с данным дидактическим пособием дети умеют применять в художественно – творческой деятельности приобретенные знания: используют в деятельности свойства цвета (теплая, холодная гамма), смешивают краски с целью получения оттенков; самостоятельной творческой деятельностью; у детей развивается творческое воображение, чувство цвета, формируется художественный вку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C:\Users\теремок\Desktop\Новая папка (2)\20211021_120904.jpg"/>
          <p:cNvPicPr/>
          <p:nvPr/>
        </p:nvPicPr>
        <p:blipFill>
          <a:blip r:embed="rId2"/>
          <a:stretch/>
        </p:blipFill>
        <p:spPr>
          <a:xfrm>
            <a:off x="2195640" y="398520"/>
            <a:ext cx="4968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4140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539640" y="333360"/>
            <a:ext cx="81471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5" descr="C:\Users\теремок\Desktop\Новая папка (2)\20211021_142149.jpg"/>
          <p:cNvPicPr/>
          <p:nvPr/>
        </p:nvPicPr>
        <p:blipFill>
          <a:blip r:embed="rId2"/>
          <a:stretch/>
        </p:blipFill>
        <p:spPr>
          <a:xfrm rot="20941200">
            <a:off x="331560" y="3336840"/>
            <a:ext cx="4459320" cy="2949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9"/>
          <p:cNvSpPr/>
          <p:nvPr/>
        </p:nvSpPr>
        <p:spPr>
          <a:xfrm>
            <a:off x="395280" y="836640"/>
            <a:ext cx="8209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ое пособие «Мир цвета» содержит разнообразный занимательный и познавательный материал о цвете по художественно – эстетическому развитию де</a:t>
            </a:r>
            <a:r>
              <a:rPr b="0" lang="ru-RU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тей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Цвет является важным выразительным средством в изобразительном искусстве и способствует становлению эстетического отношения к окружающему миру, реализации самостоятельной творческой деятельности дете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зучение  основ цветоведения ( наука о цвете) расширяет возможности ребенка воспринимать окружающий мир, повышает выразительность детского рисунка, влияет на развитие интереса ребенка к изобразительному творчест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4" descr="C:\Users\теремок\Desktop\Новая папка (2)\20211021_141857.jpg"/>
          <p:cNvPicPr/>
          <p:nvPr/>
        </p:nvPicPr>
        <p:blipFill>
          <a:blip r:embed="rId3"/>
          <a:stretch/>
        </p:blipFill>
        <p:spPr>
          <a:xfrm rot="648000">
            <a:off x="5124600" y="3222360"/>
            <a:ext cx="3703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68200" y="3747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данный лэпбук входят развивающие игры и упражнения для расширения знаний о цвете, стихи, загадки для привлечения внимания детей. А так же сказочные герои «Девочки – краски» для  занятий – сказок, занятий – путешеств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одобранный материал позволяет разнообразить методы и приемы работы, использовать в разных видах деятельности (игровой, изобразительной), обеспечить самостоятельную и совместную деятельность детей.  Содержание лэпбука можно пополнять и усложнять. Данный лэпбук  может быть использован педагогами ДОУ, родителями в качестве пособия по организации досуга детей до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Users\теремок\Desktop\Новая папка (2)\20211021_153210.jpg"/>
          <p:cNvPicPr/>
          <p:nvPr/>
        </p:nvPicPr>
        <p:blipFill>
          <a:blip r:embed="rId2"/>
          <a:stretch/>
        </p:blipFill>
        <p:spPr>
          <a:xfrm>
            <a:off x="163440" y="3059280"/>
            <a:ext cx="4667400" cy="295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:\Users\теремок\Desktop\Новая папка (2)\20211021_153225.jpg"/>
          <p:cNvPicPr/>
          <p:nvPr/>
        </p:nvPicPr>
        <p:blipFill>
          <a:blip r:embed="rId3"/>
          <a:stretch/>
        </p:blipFill>
        <p:spPr>
          <a:xfrm>
            <a:off x="4992840" y="3789360"/>
            <a:ext cx="3989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197160" y="2095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47760" y="255744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детей с классификацией цвета, с основными цветовыми группами: теплого и холодного отт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Формировать умения дифференцировать и обобщать знания о группах цветов: основные и составные цвета, «теплые» и «холодные» цве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учить получать оттенки через смешивание красок и использовать их в живопи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вивать изобразительные способности, творческое воображ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вивать внимание, память, точность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спитывать интерес к изобразительному искус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сширить представления об окружающем ми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1371600"/>
            <a:ext cx="80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000" spc="-1" strike="noStrike">
                <a:solidFill>
                  <a:srgbClr val="3f12ae"/>
                </a:solidFill>
                <a:latin typeface="Times New Roman"/>
                <a:ea typeface="Times New Roman"/>
              </a:rPr>
              <a:t> Формирование  знания основ  цветоведения  у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98520" y="449280"/>
            <a:ext cx="84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ема пособия: </a:t>
            </a:r>
            <a:r>
              <a:rPr b="1" lang="ru-RU" sz="2000" spc="-1" strike="noStrike">
                <a:solidFill>
                  <a:srgbClr val="3f12ae"/>
                </a:solidFill>
                <a:latin typeface="Times New Roman"/>
                <a:ea typeface="Times New Roman"/>
              </a:rPr>
              <a:t>« Мир цве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озраст целевой группы:</a:t>
            </a:r>
            <a:r>
              <a:rPr b="1" lang="ru-RU" sz="2000" spc="-1" strike="noStrike">
                <a:solidFill>
                  <a:srgbClr val="3f12ae"/>
                </a:solidFill>
                <a:latin typeface="Times New Roman"/>
                <a:ea typeface="Times New Roman"/>
              </a:rPr>
              <a:t> средний и старший дошкольный возра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15840" y="-3024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945520" y="219240"/>
            <a:ext cx="3285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11280" y="793800"/>
            <a:ext cx="784836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овьется внимание к цветовому многообразию окружающего мира, наблюдатель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сширится круг сенсорных эталонов цвет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Сформируется понятие о расположении цветов в спектре, о делении их на группы теплых и холод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богатится словарь словами, обозначающие цветовые оттен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овьется более совершенное умение экспериментировать красками на палитре, получать оттен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 передачи действительности будут использовать цветовые соотношения близкие к реальны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чнут использовать в рисунках различные оттен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овьется умение гармонично подбирать фон и крас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Сформируется понятие о связи цвета и настроения, характе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чнут цветом выражать свое отношение создаваемому образу в рисун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C:\Users\теремок\Desktop\Новая папка (2)\20211021_152956.jpg"/>
          <p:cNvPicPr/>
          <p:nvPr/>
        </p:nvPicPr>
        <p:blipFill>
          <a:blip r:embed="rId2"/>
          <a:stretch/>
        </p:blipFill>
        <p:spPr>
          <a:xfrm>
            <a:off x="4869000" y="4411800"/>
            <a:ext cx="2307960" cy="220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теремок\Desktop\Новая папка (2)\20211021_152820.jpg"/>
          <p:cNvPicPr/>
          <p:nvPr/>
        </p:nvPicPr>
        <p:blipFill>
          <a:blip r:embed="rId3"/>
          <a:stretch/>
        </p:blipFill>
        <p:spPr>
          <a:xfrm>
            <a:off x="1476360" y="4417920"/>
            <a:ext cx="229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57200" y="981000"/>
            <a:ext cx="77040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16000" y="274680"/>
            <a:ext cx="871200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ЕРЕЧЕНЬ СОСТАВЛЯЮЩИХ ЭЛЕ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обранная в пособии информация помогает при расширении представлений детей о многообразии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атериалы папки ( стихи, загадки, иллюстрации, дидактические игры используются в процессе совместной деятельности педагога с детьми при  проведении опытов, экспериментов и нетрадиционной изобразительной деятельности. А так же могут быть использованы детьми в самостоя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Загадки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нижка – блокнот   «Стих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Цветовой круг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Основные цве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 Ахроматические и хроматические цве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казочные герои «Девочки – Крас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Веселые крас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 «Собери буке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 «Подбери окошки к доми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Жарко – холод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Говорящие цвет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 Одинаковые и разны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 Цветные пароч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дактическая игра «Художник по имени Приро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358920" y="701640"/>
            <a:ext cx="8426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Calibri"/>
              </a:rPr>
              <a:t>Дидактическая игра «Жарко-холодно»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зраст: старшая, подготовительная группы. Цель игры: закрепить знания детей о холодных и теплых цветах. Ход игры: ведущий предлагает детям картинки с солнышком и снеговиком. Участники игры самостоятельно выбирают кружочки с холодными и теплыми цветами и раскладывают вокруг соответствующих картинок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2" descr="C:\Users\теремок\Desktop\Новая папка (2)\20211021_141443.jpg"/>
          <p:cNvPicPr/>
          <p:nvPr/>
        </p:nvPicPr>
        <p:blipFill>
          <a:blip r:embed="rId2"/>
          <a:stretch/>
        </p:blipFill>
        <p:spPr>
          <a:xfrm>
            <a:off x="4761000" y="1868400"/>
            <a:ext cx="2979720" cy="240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:\Users\теремок\Desktop\Новая папка (2)\20211021_141349.jpg"/>
          <p:cNvPicPr/>
          <p:nvPr/>
        </p:nvPicPr>
        <p:blipFill>
          <a:blip r:embed="rId3"/>
          <a:stretch/>
        </p:blipFill>
        <p:spPr>
          <a:xfrm>
            <a:off x="539640" y="4303800"/>
            <a:ext cx="331164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C:\Users\теремок\Desktop\Новая папка (2)\20211021_143215.jpg"/>
          <p:cNvPicPr/>
          <p:nvPr/>
        </p:nvPicPr>
        <p:blipFill>
          <a:blip r:embed="rId4"/>
          <a:stretch/>
        </p:blipFill>
        <p:spPr>
          <a:xfrm>
            <a:off x="539640" y="2093760"/>
            <a:ext cx="2952720" cy="1868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КОМЕНДУЕМЫЕ ИГРЫ С ЛЭПБУКОМ « МИР ЦВЕТО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356000" y="4367160"/>
            <a:ext cx="376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гра «Загадки»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формировать умение отгадывать загадки, закреплять знания о цветах радуги, способствовать развитию мышления, внимания , памяти, воображения. Взрослый читает загадки, дети их отгадываю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83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теремок\Desktop\Новая папка (2)\20211021_141318.jpg"/>
          <p:cNvPicPr/>
          <p:nvPr/>
        </p:nvPicPr>
        <p:blipFill>
          <a:blip r:embed="rId2"/>
          <a:stretch/>
        </p:blipFill>
        <p:spPr>
          <a:xfrm>
            <a:off x="4578480" y="549360"/>
            <a:ext cx="374472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C:\Users\теремок\Desktop\Новая папка (2)\20211021_141754.jpg"/>
          <p:cNvPicPr/>
          <p:nvPr/>
        </p:nvPicPr>
        <p:blipFill>
          <a:blip r:embed="rId3"/>
          <a:stretch/>
        </p:blipFill>
        <p:spPr>
          <a:xfrm>
            <a:off x="395280" y="3645000"/>
            <a:ext cx="4057560" cy="2968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324000" y="339840"/>
            <a:ext cx="412884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гра  «Подбери окошки  к доми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закреплять знание цв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рудование: изображения домов различных цветов посередине окошко, квадраты таких же цветов по размеру окна до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 игры: Педагог выкладывает на стол домики, ребёнок должен назвать цвет дома и подобрать соответствующее по цвету окно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716360" y="3500280"/>
            <a:ext cx="424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гра «Подбери цвет к предмет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знакомить детей с цветовым спектром, упражнять в умении соотносить цветовые карточки с цветом предм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ы:   карточки с разными цветами, карточки с изображением предме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 игры. Дети берут по одной цветной карточке, каждый ребенок должен из предложенных картинок выбрать изображение того предмета, который соответствует его цве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ptbackgroundstemplates.com/backgrounds/colorful-rainbow-ppt-backgrounds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114800" y="3716280"/>
            <a:ext cx="44640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гра «Собери бук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 игра также поможет познакомить детей с представлениями о холодных и теплых тонах. Для игры вам понадобятся 2 вазы: красная и синяя, а также цветы теплых и холодных оттенков. Взрослый предлагает ребенку собрать 2 букета цветов: один – снежной королеве, другой – солныш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C:\Users\теремок\Desktop\Новая папка (2)\20211021_121547.jpg"/>
          <p:cNvPicPr/>
          <p:nvPr/>
        </p:nvPicPr>
        <p:blipFill>
          <a:blip r:embed="rId2"/>
          <a:stretch/>
        </p:blipFill>
        <p:spPr>
          <a:xfrm>
            <a:off x="430200" y="3524400"/>
            <a:ext cx="2951280" cy="306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C:\Users\теремок\Desktop\Новая папка (2)\20211021_142758.jpg"/>
          <p:cNvPicPr/>
          <p:nvPr/>
        </p:nvPicPr>
        <p:blipFill>
          <a:blip r:embed="rId3"/>
          <a:stretch/>
        </p:blipFill>
        <p:spPr>
          <a:xfrm>
            <a:off x="130320" y="206280"/>
            <a:ext cx="4221000" cy="3071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481640" y="289080"/>
            <a:ext cx="441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гра «Веселые крас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 знакомить детей с основными и составными цветами, принципами смешения цве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: карточки с изображением девочек-красок, знаки «+»,«-», «=», краски, кисти, бумага, палит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д игры: путем смешения красок решать « примеры» типа «красный +желтый = оранжевый», «зеленый – желтый = сини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09:05:06Z</dcterms:created>
  <dc:creator>Tester</dc:creator>
  <dc:description/>
  <dc:language>en-US</dc:language>
  <cp:lastModifiedBy>Пользователь Windows</cp:lastModifiedBy>
  <dcterms:modified xsi:type="dcterms:W3CDTF">2021-10-21T18:57:10Z</dcterms:modified>
  <cp:revision>169</cp:revision>
  <dc:subject/>
  <dc:title>Слайд 1</dc:title>
</cp:coreProperties>
</file>