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17.png" ContentType="image/png"/>
  <Override PartName="/ppt/media/image16.gif" ContentType="image/gif"/>
  <Override PartName="/ppt/media/image15.gif" ContentType="image/gif"/>
  <Override PartName="/ppt/media/image3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5EB-DFD4-438B-B072-1D51100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5D0-EA41-4A56-A881-D84AD18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924-E763-4AC2-A609-78706A4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38A-B875-4E32-96DD-4C329B58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A46-1BB6-47E1-B58D-24ACDEA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951-D6D2-4270-A213-2F56936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416-DE4B-48E6-B489-64FE1A1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847-E8AD-40B2-B6F6-C661424A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B20-0E1E-47D0-8E37-FC833B8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744-1BC2-4A46-9EEF-31DF3ED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298-6754-4C34-B4A3-BB3E144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3F8-2FD6-4B77-84F9-FC71767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93F6-7D1E-47AF-B51B-0028667AA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ntto.narod.ru/photo11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ootball_Formation_-_Pyramid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m1.meta.ua/pic/0/24/6/Cmg3x8kcQQ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rantto.narod.ru/photo06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ae354/Annabellerockz/FOOTBALL/joe-soccer-by-kirk-kennedy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fsgifsgifsgratuits.free.fr/images/gif-gratuit/gif-foot/gif-anime-foot-4-gratuit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1.chitalnya.ru/upload/722/463996438309550272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obilewallpapers.narod.ru/sport/images/football_4.gif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all-blog.de/wp-content/pics/meezAnimatedBodyshot300x400.gif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2/578/22578719_1208019102_foto240x320ru_sport_screensavers_0073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Calibri"/>
              </a:rPr>
              <a:t>Футбо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640" y="2997000"/>
            <a:ext cx="331344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Тактические постро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28960" y="135684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кольку футбол игра командная, на первое место выдвигается взаимопонимание игроков, умение вести грамотные совместные действия. Важное значение при этом имеет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тактическое построен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грок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ой распространенной тактической схемой в современном футболе является игра с четырьмя защитниками, четырьмя полузащитниками и двумя нападающими — 4-4-2. Схем существует великое множество , рассмотрим некоторые из н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grantto.narod.ru/photo1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11160"/>
            <a:ext cx="18576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хема 2-3-5 («пирамида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upload.wikimedia.org/wikipedia/commons/thumb/7/78/Football_Formation_-_Pyramid.png/220px-Football_Formation_-_Pyrami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3400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alibri"/>
              </a:rPr>
              <a:t>Схема с тремя защитниками — 3-2-5 («W-M», либо «дубль-вэ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upload.wikimedia.org/wikipedia/commons/thumb/a/a7/Football_formation_wm_russian.svg/220px-Football_formation_wm_russian.svg.png"/>
          <p:cNvPicPr/>
          <p:nvPr/>
        </p:nvPicPr>
        <p:blipFill>
          <a:blip r:embed="rId1"/>
          <a:stretch/>
        </p:blipFill>
        <p:spPr>
          <a:xfrm>
            <a:off x="2643120" y="1952640"/>
            <a:ext cx="3357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Схема 4-2-4 («бразильская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upload.wikimedia.org/wikipedia/commons/thumb/b/b1/Football_Formation_-_4-2-4.png/150px-Football_Formation_-_4-2-4.png"/>
          <p:cNvPicPr/>
          <p:nvPr/>
        </p:nvPicPr>
        <p:blipFill>
          <a:blip r:embed="rId1"/>
          <a:stretch/>
        </p:blipFill>
        <p:spPr>
          <a:xfrm>
            <a:off x="2500200" y="1714680"/>
            <a:ext cx="371484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Безопас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ходя на футбольное поле , нельзя забывать о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безопас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Футболист должен использовать только ту экипировку, которая обеспечивает ему и остальным игрокам полную безопасность. А это , прежде всего,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футболка ,шорты ,гетры , щитки и удобная обув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Картинка 4 из 36027"/>
          <p:cNvPicPr/>
          <p:nvPr/>
        </p:nvPicPr>
        <p:blipFill>
          <a:blip r:embed="rId1"/>
          <a:stretch/>
        </p:blipFill>
        <p:spPr>
          <a:xfrm>
            <a:off x="1928880" y="4071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Картинка 4 из 261"/>
          <p:cNvPicPr/>
          <p:nvPr/>
        </p:nvPicPr>
        <p:blipFill>
          <a:blip r:embed="rId2"/>
          <a:stretch/>
        </p:blipFill>
        <p:spPr>
          <a:xfrm>
            <a:off x="5715000" y="3905280"/>
            <a:ext cx="2143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720" y="-252936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Что такое футбо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1484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утбо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от англ.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foot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нога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bal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мяч) — командный вид спорта, в котором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цель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является забить мяч в ворота соперника ногами или другими частями тела (кроме рук) большее количество раз, чем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команда соперни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В настоящее время самый популярный и массовый вид спорта в мир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а 11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928880"/>
            <a:ext cx="292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История футб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968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гры, похожие на современный футбол, существовали довольно давно у разных народов, однако первые записанные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правил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тированы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1848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ом. Датой рождения футбола считаетс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1863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год, когда была организована перва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Ассоциация футбол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оставлены правила, похожие на современны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а 12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14720"/>
            <a:ext cx="3137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928960" y="785880"/>
            <a:ext cx="575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футбола началась очень давно. Так, например, и в Египте, и в Германии, и в Китае были игры, похожие на футбол. Самая удачная из них называлась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гарпасту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придумали её итальянцы. Но когда </a:t>
            </a:r>
            <a:r>
              <a:rPr b="0" i="1" lang="ru-RU" sz="3000" spc="-1" strike="noStrike">
                <a:solidFill>
                  <a:srgbClr val="7030a0"/>
                </a:solidFill>
                <a:latin typeface="Calibri"/>
              </a:rPr>
              <a:t>футбо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идумали англичане, они сразу стали популяризировать его во всех странах, включая Росс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2 из 36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14280"/>
            <a:ext cx="2786040" cy="39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428840"/>
            <a:ext cx="52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дельная футбольная игра называется матч, который в свою очередь состоит из двух таймов по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45 мину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Пауза между первым и вторым таймами составляет 15 мину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вратар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ь) может играть руками в штрафной площади у своих ворот, его основной задачей является защита вор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ifsgifsgifsgratuits.free.fr/images/gif-gratuit/gif-foot/gif-anime-foot-4-gratui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1500120"/>
            <a:ext cx="2586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71520" y="857160"/>
            <a:ext cx="56149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тальные игроки также имеют свои задачи и позиции на поле.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Защитни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сполагаются в основном на своей половине поля, их задача — противодействовать нападающим игрокам противоположной коман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Полузащитни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йствуют в середине поля, их роль — помогать защитникам или нападающим в зависимости от игров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Нападающ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сполагаются, преимущественно на половине поля соперника, основная задача — забивать </a:t>
            </a:r>
            <a:r>
              <a:rPr b="0" i="1" lang="ru-RU" sz="2500" spc="-1" strike="noStrike">
                <a:solidFill>
                  <a:srgbClr val="7030a0"/>
                </a:solidFill>
                <a:latin typeface="Calibri"/>
              </a:rPr>
              <a:t>гол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7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14280"/>
            <a:ext cx="2714760" cy="408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480" y="713880"/>
            <a:ext cx="6000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Цель игр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дополнительное врем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ещё два тайма по 15 минут кажд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8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00880" y="178596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499920" y="713880"/>
            <a:ext cx="5186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а 26 из 36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357200"/>
            <a:ext cx="321444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28440"/>
            <a:ext cx="51148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течение дополнительного времени победителя выявить не удаётся, проводится серия </a:t>
            </a:r>
            <a:r>
              <a:rPr b="0" i="1" lang="ru-RU" sz="2700" spc="-1" strike="noStrike">
                <a:solidFill>
                  <a:srgbClr val="7030a0"/>
                </a:solidFill>
                <a:latin typeface="Calibri"/>
              </a:rPr>
              <a:t>послематчевых пенальт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е являющихся частью матча : по воротам противника с расстояния 11 метров пробивается по пять ударов разными игрок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количество забитых пенальти у обеих команд будет равным, тогда пробиваются по одной паре пенальти, пока не будет выявлен победител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87 из 360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86280" y="1428840"/>
            <a:ext cx="300060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0:41:33Z</dcterms:created>
  <dc:creator>Горшков Андрей Александрович</dc:creator>
  <dc:description/>
  <dc:language>en-US</dc:language>
  <cp:lastModifiedBy>Fizruki3</cp:lastModifiedBy>
  <dcterms:modified xsi:type="dcterms:W3CDTF">2021-10-21T06:55:27Z</dcterms:modified>
  <cp:revision>22</cp:revision>
  <dc:subject/>
  <dc:title>Футбол</dc:title>
</cp:coreProperties>
</file>