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C059-10D0-4355-BF61-1CC56EF438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7061-47D3-4174-98FE-C14D0A18B4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23A-1EB0-41CC-BDA7-C9D8E15B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C68-D03E-4FD5-802F-DE175397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801-7F5F-4399-B283-FCC5C597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C9E-53FC-4A36-8603-D16DDC3A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3FE1-7F5E-4311-BBEF-A0DD03AE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8970-9622-4B7D-9979-6A2362D1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B785-3B3F-4C7C-84F7-069B445D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58BD-5AFB-4D45-93F7-68C91DA0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67D0-08E2-4BC8-8303-9BB7CCF3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566F-CC34-414A-A8F5-2C6418A9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F7EF-07EF-4D26-A3CF-3F523AE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88A-F769-44BA-82AB-511FB873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4DE7-2F57-4480-B295-ED9C2382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9A20-E2C1-4578-B53A-2E13A9A1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2322-CB2F-4625-AC12-3FC57856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C556-1809-468D-B627-1D51ED7E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45CF-CE93-4BDA-A2D2-AE8B4FC0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2B9-4575-4CA9-888F-DB5B89E7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45C-88A2-4F61-B060-B0BA2D99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2CA-CE54-4828-A746-B7517D9D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BD2-F2C3-43D4-A36F-BC2FD67E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406-1A56-4B32-A1C6-D8E7C5E5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F42-8DF6-4393-A157-CD93800E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F99-E9B6-4F9D-93A9-87A817ED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6F48-9D61-4F85-AE47-14A2F63CFD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253c57"/>
                      </a:gs>
                      <a:gs pos="100000">
                        <a:srgbClr val="4f81b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253c5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53c57"/>
                    </a:gs>
                    <a:gs pos="100000">
                      <a:srgbClr val="4f81b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253c57"/>
                    </a:gs>
                    <a:gs pos="5000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3CFA-EE80-4794-8DBC-BD0D66EAB5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42920" y="4000320"/>
            <a:ext cx="4219560" cy="22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Автор-составитель Катанова Н.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71880" y="1857240"/>
          <a:ext cx="5786280" cy="155412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УКВА  </a:t>
                      </a:r>
                      <a:r>
                        <a:rPr b="1" lang="ru-RU" sz="96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Ж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1"/>
          <p:cNvSpPr/>
          <p:nvPr/>
        </p:nvSpPr>
        <p:spPr>
          <a:xfrm>
            <a:off x="3830760" y="3427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35280" y="17640"/>
            <a:ext cx="70848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Эта буква широка и похожа на жука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1\Desktop\f_49bfac6b548a7.jpg"/>
          <p:cNvPicPr/>
          <p:nvPr/>
        </p:nvPicPr>
        <p:blipFill>
          <a:blip r:embed="rId2"/>
          <a:stretch/>
        </p:blipFill>
        <p:spPr>
          <a:xfrm>
            <a:off x="2484360" y="692280"/>
            <a:ext cx="58086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ква Ж бывает разная: и маленькая, и большая, и тонкая, и толстая. Посмотрите, какие разные буквы и все они буква Ж.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1"/>
          <a:stretch/>
        </p:blipFill>
        <p:spPr>
          <a:xfrm>
            <a:off x="7023240" y="1487520"/>
            <a:ext cx="1560240" cy="193824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4" descr=""/>
          <p:cNvPicPr/>
          <p:nvPr/>
        </p:nvPicPr>
        <p:blipFill>
          <a:blip r:embed="rId2"/>
          <a:stretch/>
        </p:blipFill>
        <p:spPr>
          <a:xfrm>
            <a:off x="3565440" y="1816200"/>
            <a:ext cx="866880" cy="9270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5" descr=""/>
          <p:cNvPicPr/>
          <p:nvPr/>
        </p:nvPicPr>
        <p:blipFill>
          <a:blip r:embed="rId3"/>
          <a:stretch/>
        </p:blipFill>
        <p:spPr>
          <a:xfrm>
            <a:off x="1981080" y="3024360"/>
            <a:ext cx="2266920" cy="212724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7" descr=""/>
          <p:cNvPicPr/>
          <p:nvPr/>
        </p:nvPicPr>
        <p:blipFill>
          <a:blip r:embed="rId4"/>
          <a:stretch/>
        </p:blipFill>
        <p:spPr>
          <a:xfrm>
            <a:off x="5705640" y="3425760"/>
            <a:ext cx="1029960" cy="132228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8" descr=""/>
          <p:cNvPicPr/>
          <p:nvPr/>
        </p:nvPicPr>
        <p:blipFill>
          <a:blip r:embed="rId5"/>
          <a:stretch/>
        </p:blipFill>
        <p:spPr>
          <a:xfrm>
            <a:off x="3943440" y="5084640"/>
            <a:ext cx="9763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</a:rPr>
              <a:t>Букву Ж можно вылепить из пластилина. Выложить из монет или из счетных палочек. Это очень интересно. Давайте попробуем выложить букву Ж из счетных палочек вместе.</a:t>
            </a:r>
            <a:endParaRPr b="0" lang="en-US" sz="24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13" name="Объект 4" descr=""/>
          <p:cNvPicPr/>
          <p:nvPr/>
        </p:nvPicPr>
        <p:blipFill>
          <a:blip r:embed="rId1"/>
          <a:stretch/>
        </p:blipFill>
        <p:spPr>
          <a:xfrm>
            <a:off x="1835280" y="1755720"/>
            <a:ext cx="3097080" cy="23227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5" descr=""/>
          <p:cNvPicPr/>
          <p:nvPr/>
        </p:nvPicPr>
        <p:blipFill>
          <a:blip r:embed="rId2"/>
          <a:stretch/>
        </p:blipFill>
        <p:spPr>
          <a:xfrm>
            <a:off x="5435640" y="1773360"/>
            <a:ext cx="3073320" cy="230328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"/>
          <p:cNvPicPr/>
          <p:nvPr/>
        </p:nvPicPr>
        <p:blipFill>
          <a:blip r:embed="rId3"/>
          <a:stretch/>
        </p:blipFill>
        <p:spPr>
          <a:xfrm>
            <a:off x="3492360" y="4300560"/>
            <a:ext cx="3268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Ж И Р А Ф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3"/>
          <p:cNvSpPr/>
          <p:nvPr/>
        </p:nvSpPr>
        <p:spPr>
          <a:xfrm>
            <a:off x="3924360" y="4143240"/>
            <a:ext cx="50328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Овал 4"/>
          <p:cNvSpPr/>
          <p:nvPr/>
        </p:nvSpPr>
        <p:spPr>
          <a:xfrm>
            <a:off x="6084720" y="4143240"/>
            <a:ext cx="50328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Овал 5"/>
          <p:cNvSpPr/>
          <p:nvPr/>
        </p:nvSpPr>
        <p:spPr>
          <a:xfrm>
            <a:off x="2700360" y="4173480"/>
            <a:ext cx="503280" cy="50472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Овал 6"/>
          <p:cNvSpPr/>
          <p:nvPr/>
        </p:nvSpPr>
        <p:spPr>
          <a:xfrm>
            <a:off x="7236000" y="4133880"/>
            <a:ext cx="504720" cy="50472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Овал 7"/>
          <p:cNvSpPr/>
          <p:nvPr/>
        </p:nvSpPr>
        <p:spPr>
          <a:xfrm>
            <a:off x="4932360" y="4143240"/>
            <a:ext cx="503280" cy="50328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Круглая лента лицом вверх 5"/>
          <p:cNvSpPr/>
          <p:nvPr/>
        </p:nvSpPr>
        <p:spPr>
          <a:xfrm>
            <a:off x="1571760" y="1571760"/>
            <a:ext cx="7572240" cy="3286080"/>
          </a:xfrm>
          <a:custGeom>
            <a:avLst/>
            <a:gdLst>
              <a:gd name="textAreaLeft" fmla="*/ 1892880 w 7572240"/>
              <a:gd name="textAreaRight" fmla="*/ 5679360 w 7572240"/>
              <a:gd name="textAreaTop" fmla="*/ 97200 h 3286080"/>
              <a:gd name="textAreaBottom" fmla="*/ 246456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4a452a"/>
                </a:solidFill>
                <a:latin typeface="Times New Roman"/>
              </a:rPr>
              <a:t>МОЛОДЦЫ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58:15Z</dcterms:created>
  <dc:creator>1</dc:creator>
  <dc:description/>
  <dc:language>en-US</dc:language>
  <cp:lastModifiedBy>Attracting</cp:lastModifiedBy>
  <dcterms:modified xsi:type="dcterms:W3CDTF">2021-10-21T07:25:27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