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D63-A15D-4D38-A3D0-D3C1D7C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94C-D96D-46DE-8738-09ACE44D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29C-7E5E-4844-85F2-4471417F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809-440D-4AD7-9909-4ED813DD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423-E8F3-4264-A45C-109C98CD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161-1078-48EC-92D0-2AFC5AB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79FF-72E7-489B-B746-6990E6AD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52B-6186-4E55-B4BE-7570898A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706C-70FD-4C95-AB48-E24B912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098-F1C9-4569-BA1C-201E725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D2B6-969E-450C-8E78-274FF4D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66B-FC74-435C-96A5-FA774CD8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BFD-6441-4FB5-80C9-38CD4A2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3DE-6507-45B3-A131-5C1F5F5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9051-B44B-4337-B3EA-A9BB0B6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2F3-DB45-42C6-A8DC-6E785906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55D-B92F-4939-9F48-187F94C5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EDB-8811-4250-ABC6-D1AD05D4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150-6F81-4CEB-B3CD-FE88348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FDF-A24C-4357-AAFA-A3FAEE45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E75-048A-4F0F-9BFE-398D7663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58F-1561-4831-A4F0-10A3216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99F-023F-4C9A-AAD2-41C8903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BC4-16F5-46AF-B2D0-B636557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108-7D0B-42ED-A62B-8F2F8F54627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6D62-5D4C-4BEF-BE52-5A556D5510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61120" y="3291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981000"/>
            <a:ext cx="456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Государственное бюджетное дошкольное образовательное учреждение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етский сад № 61 комбинированного ви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Кировского района Санкт-Петербур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2781360"/>
            <a:ext cx="61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Проект «НЕДЕЛЯ ЗДОРОВЬЯ »</a:t>
            </a: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в 1-й младшей группе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4724280"/>
            <a:ext cx="27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Составила воспитатель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Кравченко Александра Сергеевн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недельник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чистота залог здоровья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южетно-ролевая игра «Семья» (купание малышей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учивание потешки «Водичка, водичка…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1440000" cy="19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6021000">
            <a:off x="6650280" y="4518360"/>
            <a:ext cx="238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торник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здоровое питание, витамины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дактическая игра «разложи овощи и фрукты по корзинкам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5833200">
            <a:off x="476064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Среда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закаляйся – если хочешь быть здоровым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5090400">
            <a:off x="883800" y="2954520"/>
            <a:ext cx="2146320" cy="168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59640" y="3213000"/>
            <a:ext cx="1557360" cy="208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5444640"/>
            <a:ext cx="76932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овое упражнение на развитие дыхания «Мыльные пузыри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5922600">
            <a:off x="3439080" y="2761200"/>
            <a:ext cx="26845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Среда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закаляйся – если хочешь быть здоровым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4955400">
            <a:off x="1481760" y="2558160"/>
            <a:ext cx="2592360" cy="1885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5229000"/>
            <a:ext cx="7693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ждение по дорожкам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массаж «мячиками-ежиками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23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1727280" cy="230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5373720"/>
            <a:ext cx="7693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южетно ролевая игра «Доктор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1463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етверг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я и мое тел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1312600">
            <a:off x="755280" y="2637000"/>
            <a:ext cx="2381400" cy="1785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4941360"/>
            <a:ext cx="76932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огоритмическое упражнение – я и мое те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Д «Расческа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льчиковая гимнастика «Этот пальчик…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687600">
            <a:off x="6370200" y="2577960"/>
            <a:ext cx="2521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етверг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я и мое тел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770640" cy="3724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южетно-ролевая игра «Парикмахерская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 rot="507600">
            <a:off x="6587640" y="4005360"/>
            <a:ext cx="1729080" cy="252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rot="21081000">
            <a:off x="1258920" y="2708280"/>
            <a:ext cx="2108160" cy="28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780000" y="3789360"/>
            <a:ext cx="2307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I Этап - Заключительный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тоговое мероприят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влечение для детей 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У нас в гостях доктор Айболит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 rot="21382800">
            <a:off x="1115640" y="2781000"/>
            <a:ext cx="2793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ятница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Со спортом дружим мы всегд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20917800">
            <a:off x="1258920" y="2997360"/>
            <a:ext cx="1339920" cy="1785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557400">
            <a:off x="7236000" y="3789000"/>
            <a:ext cx="1339560" cy="1785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50800" y="551628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влечение для детей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«У нас в гостях доктор Айболит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4897200">
            <a:off x="2978640" y="28630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rot="1117200">
            <a:off x="5866920" y="2565360"/>
            <a:ext cx="1339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ЗУЛЬТАТЫ РЕАЛИЗАЦИИ ПРОЕК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зданы необходимые условия для организации деятельности по теме проекта (подобраны настольные дидактические игры, наглядный материал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силась двигательная активность де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сился уровень развития культурно-гигиенических навыков, культуры питания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ышено качество работы с родител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аспорт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ид проект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ознавательно-игров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должительность проект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краткосрочный (1 недел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Участники проект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воспитатели, дети 1-й младшей группы и их родител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ктуаль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доровье детей- самая актуальная тема на сегодняшний день. Ведь современное общество нуждается в активных и здоровых людях, поэтому здоровье нужно укреплять как можно раньше. Навыки здорового образа жизни , приобретённые в раннем возрасте, послужат фундаментом для общего развития и сохранят свою значимость в последующие го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ать уровень знаний у детей и обогащать опыт родителей о здоровом образе жизни через взаимоотношение с воспитателями группы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креплять и охранять здоровье де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отребность в соблюдении навыков гигиен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ать представление о ценности здоровья, формировать желание вести здоровый образ жизн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ать представление о пользе витаминов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жидаемые результ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Дети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обогащение двигательного опыта; повышение двигательной активности; укрепление здоровья; развитие культурно- гигиенических навыков, культуры питания; формирование элементарных основ безопасности и сохранения своего здоровь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Родители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обогащение родительского опыта приёмами взаимодействия и сотрудничества с ребёнком в семье; повышение компетентности родителей в вопросах физического воспитания и оздоровления де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АПЫ РЕАЛИЗАЦИ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 Этап - подготовительн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здание развивающей среды: подобрать материалы, игрушки, атрибуты по двигательной, коммуникативной, игровой деятельности детей; дидактические игры, иллюстративный материал, художественную литературы по теме «Здоровь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обрать материал для продуктивной деятельности детей (лепка, рисовани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ставить перспективный  план мероприятий с деть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обрать информацию, разработать план мероприятий с родител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АПЫ РЕАЛИЗАЦИ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 этап – Основной – реализация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Цель - формирование привычки здорового образа жизни у детей и родит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16T09:56:51Z</dcterms:created>
  <dc:creator>NoteBook</dc:creator>
  <dc:description/>
  <dc:language>en-US</dc:language>
  <cp:lastModifiedBy>NoteBook</cp:lastModifiedBy>
  <dcterms:modified xsi:type="dcterms:W3CDTF">2021-10-21T10:07:23Z</dcterms:modified>
  <cp:revision>5</cp:revision>
  <dc:subject/>
  <dc:title>Проект «НЕДЕЛЯ ЗДОРОВЬЯ » в 1-й младшей группе </dc:title>
</cp:coreProperties>
</file>