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9970E-FED6-48DD-9722-4660C41BD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15512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DD159-0F4E-4027-A375-57281AAD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8D531-9EF3-4DF0-A789-D2B20B984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4DE17-6347-4E7A-9FB1-0785B9C76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10631-37FD-4D9D-81E3-02B614FA4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8554-F720-4808-9994-9FF67694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8566-2BBE-49D1-B5C5-5C123F0C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BEAB-8557-4BEA-B606-9F4F3C4F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3016-F328-49AC-BF37-44A4FB28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4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17A47-A9E9-4B43-BB7D-A8969532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4EDC-4F3A-4A25-B43C-87138113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C12FE-1B51-4905-9CD3-5606951E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E0ED-BACD-40BB-AB0A-EAE0DB3B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86DB1-BE14-4244-BC54-994B51B5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15512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D91F-52DA-49BF-984A-DC06087C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9FE5B-CA5A-4E61-BEC1-00C23355C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7EA7-931B-400C-9EFE-94DF8F4EF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CE5C7-CC44-4883-96C6-07632CF0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6757A-2A1B-4052-AD6A-F3F48837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0974F-7107-4A74-AC2B-431138A2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4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024E6-B197-45F1-862A-2F38076D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CEBAF-7061-4D35-8704-018720BB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412C3-E3D6-409C-AC99-1455D72A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7B307-A38F-44D1-816C-0B5DB28C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aa8"/>
            </a:gs>
            <a:gs pos="50000">
              <a:srgbClr val="ffffff"/>
            </a:gs>
            <a:gs pos="100000">
              <a:srgbClr val="bbeaa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0" y="0"/>
            <a:ext cx="9144000" cy="1447920"/>
            <a:chOff x="0" y="0"/>
            <a:chExt cx="9144000" cy="1447920"/>
          </a:xfrm>
        </p:grpSpPr>
        <p:sp>
          <p:nvSpPr>
            <p:cNvPr id="1" name="Rectangle 7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e7f4ce"/>
                </a:gs>
                <a:gs pos="100000">
                  <a:srgbClr val="aad95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8"/>
            <p:cNvSpPr/>
            <p:nvPr/>
          </p:nvSpPr>
          <p:spPr>
            <a:xfrm>
              <a:off x="1981080" y="380880"/>
              <a:ext cx="7162920" cy="762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aa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9"/>
            <p:cNvSpPr/>
            <p:nvPr/>
          </p:nvSpPr>
          <p:spPr>
            <a:xfrm>
              <a:off x="0" y="1143000"/>
              <a:ext cx="9144000" cy="304920"/>
            </a:xfrm>
            <a:prstGeom prst="rect">
              <a:avLst/>
            </a:prstGeom>
            <a:solidFill>
              <a:srgbClr val="559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" name="Picture 26" descr="02"/>
          <p:cNvPicPr/>
          <p:nvPr/>
        </p:nvPicPr>
        <p:blipFill>
          <a:blip r:embed="rId2"/>
          <a:stretch/>
        </p:blipFill>
        <p:spPr>
          <a:xfrm>
            <a:off x="7715160" y="77760"/>
            <a:ext cx="1067040" cy="10476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c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27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3BD8-0E9D-47B9-BEA8-08447014166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24" descr=""/>
          <p:cNvPicPr/>
          <p:nvPr/>
        </p:nvPicPr>
        <p:blipFill>
          <a:blip r:embed="rId3"/>
          <a:stretch/>
        </p:blipFill>
        <p:spPr>
          <a:xfrm>
            <a:off x="8424720" y="95400"/>
            <a:ext cx="673200" cy="56484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25" descr=""/>
          <p:cNvPicPr/>
          <p:nvPr/>
        </p:nvPicPr>
        <p:blipFill>
          <a:blip r:embed="rId4"/>
          <a:srcRect l="0" t="0" r="1014" b="0"/>
          <a:stretch/>
        </p:blipFill>
        <p:spPr>
          <a:xfrm>
            <a:off x="8001000" y="311040"/>
            <a:ext cx="914400" cy="774720"/>
          </a:xfrm>
          <a:prstGeom prst="rect">
            <a:avLst/>
          </a:prstGeom>
          <a:ln w="0">
            <a:noFill/>
          </a:ln>
        </p:spPr>
      </p:pic>
      <p:sp>
        <p:nvSpPr>
          <p:cNvPr id="11" name="PlaceHolder 5"/>
          <p:cNvSpPr>
            <a:spLocks noGrp="1"/>
          </p:cNvSpPr>
          <p:nvPr>
            <p:ph type="ftr" idx="3"/>
          </p:nvPr>
        </p:nvSpPr>
        <p:spPr>
          <a:xfrm>
            <a:off x="456840" y="1143000"/>
            <a:ext cx="845820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a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2514600"/>
            <a:ext cx="9144000" cy="106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aa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aad9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4" descr="02"/>
          <p:cNvPicPr/>
          <p:nvPr/>
        </p:nvPicPr>
        <p:blipFill>
          <a:blip r:embed="rId2"/>
          <a:stretch/>
        </p:blipFill>
        <p:spPr>
          <a:xfrm>
            <a:off x="4800600" y="103320"/>
            <a:ext cx="4162320" cy="40878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0" y="3200400"/>
            <a:ext cx="9144000" cy="3657600"/>
          </a:xfrm>
          <a:prstGeom prst="rect">
            <a:avLst/>
          </a:prstGeom>
          <a:solidFill>
            <a:srgbClr val="559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5" descr="02"/>
          <p:cNvPicPr/>
          <p:nvPr/>
        </p:nvPicPr>
        <p:blipFill>
          <a:blip r:embed="rId3"/>
          <a:stretch/>
        </p:blipFill>
        <p:spPr>
          <a:xfrm>
            <a:off x="1066680" y="3048120"/>
            <a:ext cx="1981440" cy="1946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"/>
          <p:cNvPicPr/>
          <p:nvPr/>
        </p:nvPicPr>
        <p:blipFill>
          <a:blip r:embed="rId4"/>
          <a:srcRect l="0" t="0" r="8662" b="0"/>
          <a:stretch/>
        </p:blipFill>
        <p:spPr>
          <a:xfrm>
            <a:off x="6781680" y="1538280"/>
            <a:ext cx="2057400" cy="1890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1" descr=""/>
          <p:cNvPicPr/>
          <p:nvPr/>
        </p:nvPicPr>
        <p:blipFill>
          <a:blip r:embed="rId5"/>
          <a:srcRect l="0" t="0" r="1011" b="0"/>
          <a:stretch/>
        </p:blipFill>
        <p:spPr>
          <a:xfrm>
            <a:off x="4419720" y="2440080"/>
            <a:ext cx="4495680" cy="3808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6" descr="03"/>
          <p:cNvPicPr/>
          <p:nvPr/>
        </p:nvPicPr>
        <p:blipFill>
          <a:blip r:embed="rId6"/>
          <a:stretch/>
        </p:blipFill>
        <p:spPr>
          <a:xfrm>
            <a:off x="0" y="4876920"/>
            <a:ext cx="1382760" cy="1981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7"/>
          <p:cNvSpPr/>
          <p:nvPr/>
        </p:nvSpPr>
        <p:spPr>
          <a:xfrm>
            <a:off x="8001000" y="641520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/O/G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c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12949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657240" y="6553080"/>
            <a:ext cx="289548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781680" y="6553080"/>
            <a:ext cx="10670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96DF-90C1-478D-B8CC-9660CC49C9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ижний колонтитул 3"/>
          <p:cNvSpPr/>
          <p:nvPr/>
        </p:nvSpPr>
        <p:spPr>
          <a:xfrm>
            <a:off x="457200" y="1143000"/>
            <a:ext cx="8458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4"/>
          <p:cNvSpPr/>
          <p:nvPr/>
        </p:nvSpPr>
        <p:spPr>
          <a:xfrm>
            <a:off x="0" y="0"/>
            <a:ext cx="9144000" cy="2276640"/>
          </a:xfrm>
          <a:prstGeom prst="rect">
            <a:avLst/>
          </a:prstGeom>
          <a:gradFill rotWithShape="0">
            <a:gsLst>
              <a:gs pos="0">
                <a:srgbClr val="e6ffda"/>
              </a:gs>
              <a:gs pos="100000">
                <a:srgbClr val="f7fff3"/>
              </a:gs>
            </a:gsLst>
            <a:lin ang="16200000"/>
          </a:gradFill>
          <a:ln w="9360">
            <a:solidFill>
              <a:srgbClr val="d5e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85480" y="500040"/>
            <a:ext cx="84438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314b"/>
                </a:solidFill>
                <a:latin typeface="Comic Sans MS"/>
              </a:rPr>
              <a:t>Адаптация к школе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– перестройка познавательной, мотивационной и эмоционально-волевой сфер ребенка при переходе к систематическому организованному школьному обуч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6" descr="ucheniki_w450_h468_jpg.jpg"/>
          <p:cNvPicPr/>
          <p:nvPr/>
        </p:nvPicPr>
        <p:blipFill>
          <a:blip r:embed="rId1"/>
          <a:stretch/>
        </p:blipFill>
        <p:spPr>
          <a:xfrm>
            <a:off x="2268360" y="2557440"/>
            <a:ext cx="400068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8400" y="142560"/>
            <a:ext cx="707220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3c60"/>
                </a:solidFill>
                <a:latin typeface="Comic Sans MS"/>
              </a:rPr>
              <a:t>Психологические особенности адаптации первоклассников</a:t>
            </a:r>
            <a:endParaRPr b="1" lang="en-US" sz="32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10920" y="2133360"/>
            <a:ext cx="77058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няется социальная позиция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сходит смена ведуще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няется социальное окружение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сходит сдерживание двигательной ак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4" descr="звонок.jpg"/>
          <p:cNvPicPr/>
          <p:nvPr/>
        </p:nvPicPr>
        <p:blipFill>
          <a:blip r:embed="rId1"/>
          <a:stretch/>
        </p:blipFill>
        <p:spPr>
          <a:xfrm>
            <a:off x="7443720" y="0"/>
            <a:ext cx="170028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400" y="142560"/>
            <a:ext cx="707220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3c60"/>
                </a:solidFill>
                <a:latin typeface="Comic Sans MS"/>
              </a:rPr>
              <a:t>Признаки дезадаптации первоклассника</a:t>
            </a:r>
            <a:endParaRPr b="1" lang="en-US" sz="32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628640"/>
            <a:ext cx="88200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азывается по утрам идти в школ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 удовольствия или со страхом идёт в школ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проявляет интереса к занятия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долго выполняет домашнее зада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выполнении домашнего задания все время отвлекае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 контроля родителей не в состоянии выполнить домашнее зада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осает работу над заданием, столкнувшись с трудност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ишком волнуется по поводу своих успехов в школ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хо засыпа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хо ес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буждён, напряжён, раздражител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авлен, плакси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о боле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алуется на усталость, всевозможные боли, тошнот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4" descr="звонок.jpg"/>
          <p:cNvPicPr/>
          <p:nvPr/>
        </p:nvPicPr>
        <p:blipFill>
          <a:blip r:embed="rId1"/>
          <a:stretch/>
        </p:blipFill>
        <p:spPr>
          <a:xfrm>
            <a:off x="7443720" y="0"/>
            <a:ext cx="170028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05952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63c60"/>
                </a:solidFill>
                <a:latin typeface="Arial"/>
              </a:rPr>
              <a:t>Причины дезадаптации </a:t>
            </a: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4920" y="1700280"/>
            <a:ext cx="85057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Не сформированность внутренней позиции школьн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Слабое развитие произволь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Недостаточное развитие у ребенка учебной мотив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Неумение подчиняться новым правилам школьной жиз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Общение со учител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Слабый уровень физиологического разви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Завышенные требования со стороны родител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4" descr="звонок.jpg"/>
          <p:cNvPicPr/>
          <p:nvPr/>
        </p:nvPicPr>
        <p:blipFill>
          <a:blip r:embed="rId1"/>
          <a:stretch/>
        </p:blipFill>
        <p:spPr>
          <a:xfrm>
            <a:off x="7443720" y="12600"/>
            <a:ext cx="170028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400" y="214200"/>
            <a:ext cx="7072200" cy="88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3c60"/>
                </a:solidFill>
                <a:latin typeface="Arial"/>
              </a:rPr>
              <a:t>Как оказать ребенку помощь в адаптации к школе?</a:t>
            </a:r>
            <a:endParaRPr b="1" lang="en-US" sz="32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14200" y="2060280"/>
            <a:ext cx="7500960" cy="45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делять должное внимание школьным занятиям ребенк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ь ребенка элементарным нормам вежлив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овать четкий распорядок дня и продуманный отд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давать ребенку дополнительных зад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ругать ребенка за испра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ть у ребенка основные школьные навыки, а так же познавательные способ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5" descr="звонок.jpg"/>
          <p:cNvPicPr/>
          <p:nvPr/>
        </p:nvPicPr>
        <p:blipFill>
          <a:blip r:embed="rId1"/>
          <a:stretch/>
        </p:blipFill>
        <p:spPr>
          <a:xfrm>
            <a:off x="7443720" y="0"/>
            <a:ext cx="170028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20:43:12Z</dcterms:created>
  <dc:creator>надя</dc:creator>
  <dc:description/>
  <dc:language>en-US</dc:language>
  <cp:lastModifiedBy>Пользователь</cp:lastModifiedBy>
  <dcterms:modified xsi:type="dcterms:W3CDTF">2021-10-21T05:56:42Z</dcterms:modified>
  <cp:revision>31</cp:revision>
  <dc:subject/>
  <dc:title>Themegallery PowerTemplate</dc:title>
</cp:coreProperties>
</file>