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546-C633-4480-90D0-697E535F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B3D-D054-497E-BBA8-4158E6B0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29E95-F68D-4AD4-B012-DC286BF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AB6A9-4C78-4B18-9644-44534E19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B041D-FB9C-47A1-9C19-EA7ED770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29069-11AC-4087-B22F-4F0F6C2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7CAE8-D60F-42F3-BDF9-C6A1141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A3BC1-86DA-4850-8676-D6CB773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15376-D479-4448-99E6-FAA25B68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3A457-8AFF-4117-B078-8B811254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3937F-3E39-4EB8-822D-F0168536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B10-BA64-47FD-B817-E42A9D05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DB5-DAF3-4DBC-93BA-3F8567C2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7BE0-E071-4A9D-B319-FAB661A3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D467-3AF1-418A-B67F-A27B7A9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1333-915D-4416-A086-2F299158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26CE-18A6-4731-A47C-A649E6C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446-D322-4908-BA8F-F3CF6222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8417-2ABE-4FE9-BB16-900F7DED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D930-19B7-4AD7-B482-65A220F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ABA-0583-4251-BE6C-37A287A4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FBB5-9DF4-4F23-9A87-4BC92DE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1051-3443-4408-9E24-7D8013D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3305-00FC-42B3-B612-7614C733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9C5F-FE52-46D7-BB3E-D6D85728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7036-DE2D-4398-BA9E-41AFDF8E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5F73-083A-458D-95B3-3D09FFD7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A6D42-A044-4F75-9993-3EBF0D9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7F45-B40D-4848-86D8-C0B92381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CC7B-5045-4075-B5F0-535693AD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87EB-9416-46D4-A115-018F2A4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767-8D31-44D3-B785-0CA79D9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65F0-8FB6-4A6D-8EF6-5CAE7B9A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F8A93-365A-4E8E-BFE4-988CA2DD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ECD1-AF00-4E02-8FE9-7C8A30D2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F411-DAA0-44C9-B07D-E9539F6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1F366-4A74-4B67-9624-D1881E05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DCB15-0507-435A-901D-1E7BA01B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6072-B48D-4FFA-8BEF-35EFB5EF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F971-BACB-4AF8-9FDB-FBD1D84C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A3D4-69B5-47E7-9288-E9AF01C2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BED0-6CFA-4892-B5D7-4B782E0E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541-45B3-4C24-8439-3B8B4AF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DF323-8951-40DA-A47F-C295BE3C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D2C6-B757-4260-926B-EFE9DB17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EEC8-7450-4DFA-B623-091BB28E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D4E6-C4DF-4692-92C4-0DA4FD3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CF75-CCC3-4652-A2A0-E330AEEB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8136-E03C-4969-AC71-8D2B12B8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60F9-30A1-449E-B868-1A757E75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310E-276D-4B91-8BF0-FC0C10F4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AE63-BB13-4C74-A03C-A6A7513A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CDC0-03F7-4DF7-9508-2109A777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E32-82F5-4402-AABD-E8ACBA4C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B1B38-30BA-41CD-91BA-EF253316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330B-A99C-4F6F-8604-D29335AE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9272-486B-4CBA-9545-B002CF90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882A-37E6-40D2-A8A6-7F64302E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C06C-79B9-49AE-8FBD-42982583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EF9A1-12B2-446C-847A-90167822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6BEB9-77BE-4D08-9B58-844D60AA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ED84-0906-4DC0-86F2-79F82F8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DE53A-8726-4C44-A850-57F992BC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F9889-CB5D-469A-B046-72059A6D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603-0CB3-4CD4-B28A-38315468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6C71-8C1C-4CA1-94C6-A6AFE2D7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B90D5-5032-49E0-8768-85659797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BD3C-71C1-4B2E-8EC7-AA45F0EA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8FAE2-78A5-4B20-90E0-04ED8725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8C227-C4C2-46BC-BF9E-4F2CE5B9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009D-3100-4F15-81F9-79C4B73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E354-049D-45BB-A01C-F6C6D693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379AB-F21B-4141-B1EA-BDC723F7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E793-0F37-4B3C-B3BD-7BA9D377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68462-120D-4DD5-9EF6-7DA7CB9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E41-BAF9-497B-AE2D-03A691A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ABFDC-5EF4-4E30-A657-79D98AE8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34D98-6DA5-41DD-B662-ACE02C69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5DC99-3569-48C0-97CE-D76839F9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1FC32-3A45-43FE-9974-FA1958B0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F970A-447C-45C5-AD0E-F227D1D9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7A60C-7280-4B80-8946-60FA1C57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1FA6E-109D-4ABC-95D0-877359AA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C03DE-D0A0-421C-8233-885C1B9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A306-4902-488A-98AD-91F2E61C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FE581-4886-4955-AEEA-35DC5A91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AE9-54BA-47E8-A07D-8DC519C2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27B6-447A-4147-8D30-024D0BC2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325FA-914A-48FD-BF6C-8B3DB812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B8AA-DAFB-42B4-B5C2-BC628569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87C8A-8077-42E2-B52D-DE732643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E3D4-91B3-434B-8BA4-DFA27B59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80E3A-6522-4D3B-B497-62884BEC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74F42-34DE-49D9-923C-F5A81D41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B126D-4A51-4D10-B43B-B564114D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CFF28-B3CF-47E5-99D2-E270F2E1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CD243-D6C4-40BE-880F-9CA34709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D7E-3E73-4A99-9875-89FEE61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D4ADC-FF1D-4A2B-A0C4-0ED2E8A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2126F-E09D-44D6-9B2F-389D89F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130E1-6C97-45B4-945C-650BBFB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A409A-0315-422B-8136-AA15766D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1DFD-29E2-4D30-BF64-7786F97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BA14-1F16-4E6A-B3C7-1BCE3D4C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45554-581A-44C2-926D-51C146DE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66E86-3F60-4318-9535-F26FB7E7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F42EC-33F1-4886-BB60-83CC58A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4F4DA-9EDE-4E82-8338-23B8024B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8373-1737-4F07-BAB5-410B2ACC3C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CD5F-5ED5-4D72-9C41-6A240C46D9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C68E-BA31-47B5-862C-89ACC85804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404-E899-4CA1-BB27-5D9563AE87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F52C-C4D7-446C-BFA8-577F02294E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5A54-763F-4A88-87CE-9DACBEA34B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86E-DBAC-4F74-B84E-7F4BA6B58A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3829-BCE5-4298-9D67-D617EB2085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1310-6071-4D82-975B-6F13EA16E0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89040" y="993600"/>
            <a:ext cx="7772400" cy="1730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64646"/>
                </a:solidFill>
                <a:uFillTx/>
                <a:latin typeface="Lucida Sans Unicode"/>
              </a:rPr>
              <a:t>«Театрализованная деятельность, как метод всестороннего развития личности дошкольника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457200" y="228600"/>
          <a:ext cx="8229600" cy="5902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а-новка сказки Ш. Перро «Красная Шапо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игра «Коленька хороший, Коленька пригожий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 с настольными театрами «три поросенка», «Кот в сапогах»,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епить умение детей самостоятельно играть настольным театр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срочный проект «Нарисуем детям сказку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карто-теки иллюстраций к сказка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457200" y="228600"/>
          <a:ext cx="8229600" cy="5902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-ровки сказок«Лиса и заяц», «Три медвед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 «Назови ласково героя», «Скажи словечко», «Кто, как говорит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ровать четкое произношение звуков, тренировать речь, память, в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кетирование родителей «Умеете ли вы организовать досуг ребенка дома?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ор информации для консультации родителей по данному вопрос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457200" y="380880"/>
          <a:ext cx="8229600" cy="5749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7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-драматизации детей с игруш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ь детей  самостоятельно придумывать сюжет, развивать воображение, фантазию, интерес к самостоятельной работ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отчет для родителей о проделанной работе с деть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выста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ы режиссеры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5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57200" y="1143000"/>
          <a:ext cx="8229600" cy="4738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родителя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по проделанной рабо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от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отчета о проделанной работ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стенда с фотограф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ш театр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 родителей «Ваше мнение о продела-нной работе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обудить интерес к предлагаемой деятельности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ивлечь детей к совместной театрализованной деятельности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формировать представление о различных видах театр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звить речь, воображение и мышле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аучить робких и застенчивых детей включаться в театрализованную игр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ир детства , внутренний мир ребёнка- ключ ко многим волнующим проблемам нашей жизни. Раскрыть заветную дверь в мир детского сознания помогает игра. Игра связывает детей между собой, детей с взрослыми в единое целое. И если ребёнок начинает доверять взрослым, верить - значит можно творить, фантазировать, воображать. Вся жизнь насыщена игрой и каждый ребёнок хочет сыграть свою роль. Но как это сделать? Как научить малыша играть, брать на себя роль и действовать? Этому поможет теат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еатр- это волшебный край, в котором ребёнок радуется, играя, а в игре он познаёт мир. Дети любого возраста любят играть. Игра – часть их жизни. Дошкольники очень впечатлительны, они особенно поддаются эмоциональному воздействи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 тема выбрана мною не случайно, так как театрализация дает возможность подходить к работе творчески. Занятия всегда проходят на положительном эмоциональном настрое  и запоминаются детям надолго. А для педагога  открывается масса возможностей для совершенствования навыков в данной области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5def75"/>
                </a:solidFill>
                <a:latin typeface="Times New Roman"/>
              </a:rPr>
              <a:t>Цель моей работы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приобщать детей к театральному искусству, к театрализованной деятельности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Способствовать формированию творческой личности; развивать речь и коммуникативные навыки у дете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Создать условия для развития творческой активности детей в театральной деятельности, обеспечить условия взаимосвязи с другими видами деятельности в целостном педагогическом процессе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ая трудность в работе с детьми младшего дошкольного возраста, это слабое развитие речи детей, нарушение звукопроизношения. Есть дети в группе, которые плохо говорят, не проговаривают слова, звуки. Некоторые дети плохо запоминают. Меня заинтересовала проблема развития речи у детей и пути её реализации. Мне показалась очень интересной организация театральной деятельности детей, то, как дети раскрепощаются, пытаются что-то проговорить, проиграть. Театральная деятельность очень важна в развитии речи детей. Она позволяет решать многие педагогические задачи, касающиеся формирования выразительности речи ребёнка, интеллектуального художественно-эстетического воспитани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атральная деятельность, неисчерпаемый источник развития чувств, переживаний и эмоциональных открытий, способ приобщения к духовному богатству. В результате ребёнок: познаёт мир умом и сердцем, выражая своё отношение к добру и злу; познаёт радость, связанную с преодолением трудностей общения, неуверенности в себе. В этом огромную помощь я считаю, могут оказать театрализованные занятия в ДОУ. Они всегда радуют детей и пользуются у них неизменной любовью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ю используются разнообразные виды театрализованных представлений: театр картинок, театр игрушек. Например: пальчиковые куклы можно одеть на пальчик, они маленькие, мягкие, яркие, не сломаются, не разобьются. Они позволяют одновременно включать в работу несколько анализаторов: зрительный, слуховой, тактильный. Это современно и интересно детям. Кроме того, с этими куклами можно просто играть сидя снижает утомляемость и повышает работоспособность дете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000" spc="-1" strike="noStrike">
                <a:solidFill>
                  <a:srgbClr val="5def75"/>
                </a:solidFill>
                <a:latin typeface="Lucida Sans Unicode"/>
              </a:rPr>
              <a:t>Цель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повышение своего теоретического уровня, профессионального мастерства и компетент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000" spc="-1" strike="noStrike">
                <a:solidFill>
                  <a:srgbClr val="5def75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5def75"/>
                </a:solidFill>
                <a:latin typeface="Lucida Sans Unicode"/>
              </a:rPr>
              <a:t>Задачи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•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буждать интерес к предлагаемой деятельнос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влекать детей к совместной театрализованной деятельнос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ть представление о различных видах театр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вать речь, воображение и мышлен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могать робким и застенчивым детям включаться в театрализованную игр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вать интерес родителей к совместной работе в данном направлен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000" spc="-1" strike="noStrike">
                <a:solidFill>
                  <a:srgbClr val="5def75"/>
                </a:solidFill>
                <a:latin typeface="Lucida Sans Unicode"/>
              </a:rPr>
              <a:t>Срок реализации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 год(2021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022 учебный год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"/>
          <p:cNvGraphicFramePr/>
          <p:nvPr/>
        </p:nvGraphicFramePr>
        <p:xfrm>
          <a:off x="457200" y="1600200"/>
          <a:ext cx="8229600" cy="3968640"/>
        </p:xfrm>
        <a:graphic>
          <a:graphicData uri="http://schemas.openxmlformats.org/drawingml/2006/table">
            <a:tbl>
              <a:tblPr/>
              <a:tblGrid>
                <a:gridCol w="914400"/>
                <a:gridCol w="2378160"/>
                <a:gridCol w="1644480"/>
                <a:gridCol w="1646280"/>
                <a:gridCol w="1646280"/>
              </a:tblGrid>
              <a:tr h="113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родителя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ор и изучение педагогической литературы, чтение русских народных сказок «Репка», «Теремок», «Колобок», «Курочка Ряба», стихотворений, потешек; загадок о героях сказок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ить детей с русскими народными сказ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вать интерес к слушанию произвед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ьтация для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оль театрализованных игр в развитии речи детей дошкольного возраст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местная работа с родителями по оснащению картотеки аудиозаписей русских народных сказ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533520" y="762120"/>
          <a:ext cx="8229600" cy="5410080"/>
        </p:xfrm>
        <a:graphic>
          <a:graphicData uri="http://schemas.openxmlformats.org/drawingml/2006/table">
            <a:tbl>
              <a:tblPr/>
              <a:tblGrid>
                <a:gridCol w="1143000"/>
                <a:gridCol w="2149200"/>
                <a:gridCol w="1644840"/>
                <a:gridCol w="1646280"/>
                <a:gridCol w="164628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ть у детей доброжелательное отношение друг к другу. Развивать фантазию, инициативу. Учить детей находить средства выражения образа в мимике, в жестах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чения родителям по изготовлению пальчиковых теа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лнение театрализова-нного уголка видами пальчиковых теаро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676520" y="762120"/>
          <a:ext cx="2133360" cy="541008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звукозаписей детских сказок – «Волк и семеро козлят», «Колобок», «Репка», «Теремок», «Курочка Ряба», «Кот, петух и лиса», «Три медведя», Театрализованная игра «Зверята»Показ детям сказки «Колобок»Пальчиковая игра «У нашего Гришеньки, под окошком вишен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40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457200" y="685800"/>
          <a:ext cx="8229600" cy="5943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родителя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матривание игрушек и иллюстраций к сказк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 кукольного театра: «Теремок», «Реп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игра «Жил-был зайчик-длинные уш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вать желание участвовать в театрализованной игр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акое значение имеет сказка в жизни вашего ребенк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ьтация «Развитие коммуникативных навыков дошкольников по средствам театрализованной деятельности»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 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ор консультаций по данной тем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533520" y="990720"/>
          <a:ext cx="8229600" cy="510516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51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народная сказка «Заюшкина изб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ованная игра «Что ты видишь, покаж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игра «Этот пальчик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вать положительный эмоциональный настрой. Воспитывать умение общаться без конфликт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ие заданий между родителями (сшить костюмы, связать маски, пополнить уголок различными театрами: настольный, пальчиковый, куколь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к новогоднему утренни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готовление атрибутов к праздник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57200" y="533520"/>
          <a:ext cx="8229600" cy="4919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91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Янв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и-сценка «Таня и мячик» В.И. Миряс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ение поте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Идет коза рогатая…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Лиса по лесу ходила…», «Кисонька-Мурысонька…», «Водичка,водичка, умой мое личико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игра «Ладушки», «Сорока-белобок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ывать доброжелательные отношения между детьми. Развивать воображение и творческую инициативу. Развивать интерес к театрализован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информационного стенда по теме «Игра-драматизация, ее значение в народны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к Рождественскому праздник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ika</dc:creator>
  <dc:description/>
  <dc:language>en-US</dc:language>
  <cp:lastModifiedBy>Пользователь Windows</cp:lastModifiedBy>
  <dcterms:modified xsi:type="dcterms:W3CDTF">2021-10-21T05:44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