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36F-BD1B-4D01-90E5-2C30CE14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079-CC12-4C81-B350-D2ACE2F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E1F-184A-4370-A6BE-6C474550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8840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4988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2692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8840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4988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4E8-1FCF-45B4-81D4-22CB2AD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C4AF-51C5-44DD-85FE-5C5945A9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693-3246-407C-9E97-791CC94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3A40-95CB-47B4-837B-9677A265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68F-C05D-49DE-8949-12A18AFD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DE9-9332-46F4-A1E2-3A937D0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26920" y="333360"/>
            <a:ext cx="7871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75C7-4B79-4722-839D-3A9D7E8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2F11-6D9C-43F1-963A-D64402D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D78-EBE8-4CA9-A542-D3123401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8B62-1017-46FF-A11C-1CC1E06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DFB2-4A61-42B1-A688-AE030057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120-3EF7-467B-A95A-D484C91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F5B1-8F42-462E-9C73-9D339136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8840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988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2692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8840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988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7AE-0A88-40D1-BF20-9C2181A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EA93-88F9-49E0-A3CF-DC4909E6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A158-DA61-4720-A3A3-742663B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D0C0-4E28-449D-BFA0-6C9AFF4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05E3-CBC3-4B92-BE63-DB4C69C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C673-6EBE-4865-BCFE-7E288A5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59F-57BB-473A-B6C4-A1A62013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26920" y="333360"/>
            <a:ext cx="7871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FE7C-56EB-472E-BD17-85F7C42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ECA8-7751-46A7-8215-1A9B8BB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0268-71E7-4426-8D2E-9534391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3962-914C-4222-A3B1-E69E2AB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7537-587A-4103-B028-D842135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A6E7-9B09-48AD-8CAE-C9E9AE67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8840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4988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2692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8840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4988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D618-1150-4A08-B23C-7D56CF3A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E465-97ED-4692-90F4-6B179CD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7BF9-9609-45CB-B24A-C403C3F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211C-6A58-446F-8D03-23B3D4C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558-1E74-46EC-9289-69FB2DC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A1EC-698A-4DF7-B510-72B383D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B2D6-A9CF-4C9E-A87F-C165BC2B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826920" y="333360"/>
            <a:ext cx="7871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E51D-FB16-4592-A495-B1C3DA2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6D51-F649-40D5-90A9-463DCA3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E96B-DA59-43A0-A7A7-E30A20C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51F7-49E3-4D56-A8B3-C00234E5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B6FA-753B-4F58-9024-98544A00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F0ED-1C9E-4638-B97E-86C9AF61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8840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49880" y="98064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2692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48840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49880" y="3682800"/>
            <a:ext cx="25344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F77A-EEE0-4B8B-9576-B4F7A665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1DE-F844-4F4C-A285-599E3D5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6920" y="333360"/>
            <a:ext cx="7871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A63-7534-4AF0-8319-E059302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77D-2DEE-4C56-BA39-AFA048A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60360" y="368280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5BA-5F72-4EA7-914C-4C046771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309600"/>
            <a:ext cx="7871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0360" y="980640"/>
            <a:ext cx="38408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6920" y="3682800"/>
            <a:ext cx="787104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0F6-9078-4A35-BD30-B434088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33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Times New Roman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180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E5E-82AC-41A3-B0F2-9235BEA6B2B4}" type="slidenum">
              <a:rPr b="0" lang="ru-RU" sz="1200" spc="-1" strike="noStrike">
                <a:solidFill>
                  <a:srgbClr val="c1524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250920" y="189000"/>
            <a:ext cx="8713800" cy="6480000"/>
            <a:chOff x="250920" y="189000"/>
            <a:chExt cx="8713800" cy="6480000"/>
          </a:xfrm>
        </p:grpSpPr>
        <p:sp>
          <p:nvSpPr>
            <p:cNvPr id="6" name="Rectangle 4"/>
            <p:cNvSpPr/>
            <p:nvPr/>
          </p:nvSpPr>
          <p:spPr>
            <a:xfrm>
              <a:off x="250920" y="189000"/>
              <a:ext cx="361800" cy="6408720"/>
            </a:xfrm>
            <a:prstGeom prst="rect">
              <a:avLst/>
            </a:prstGeom>
            <a:gradFill rotWithShape="0">
              <a:gsLst>
                <a:gs pos="0">
                  <a:srgbClr val="394f40"/>
                </a:gs>
                <a:gs pos="50000">
                  <a:srgbClr val="9ad6ae"/>
                </a:gs>
                <a:gs pos="100000">
                  <a:srgbClr val="394f4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5"/>
            <p:cNvSpPr/>
            <p:nvPr/>
          </p:nvSpPr>
          <p:spPr>
            <a:xfrm>
              <a:off x="324000" y="6165720"/>
              <a:ext cx="8640720" cy="142920"/>
            </a:xfrm>
            <a:prstGeom prst="rect">
              <a:avLst/>
            </a:prstGeom>
            <a:gradFill rotWithShape="0">
              <a:gsLst>
                <a:gs pos="0">
                  <a:srgbClr val="dda09f"/>
                </a:gs>
                <a:gs pos="100000">
                  <a:srgbClr val="fdf8f8"/>
                </a:gs>
              </a:gsLst>
              <a:lin ang="5400000"/>
            </a:gradFill>
            <a:ln w="19080">
              <a:solidFill>
                <a:srgbClr val="c0504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6"/>
            <p:cNvSpPr/>
            <p:nvPr/>
          </p:nvSpPr>
          <p:spPr>
            <a:xfrm>
              <a:off x="468360" y="836640"/>
              <a:ext cx="216000" cy="5832360"/>
            </a:xfrm>
            <a:prstGeom prst="rect">
              <a:avLst/>
            </a:prstGeom>
            <a:gradFill rotWithShape="0">
              <a:gsLst>
                <a:gs pos="0">
                  <a:srgbClr val="ccdaec"/>
                </a:gs>
                <a:gs pos="100000">
                  <a:srgbClr val="5e656d"/>
                </a:gs>
              </a:gsLst>
              <a:lin ang="0"/>
            </a:gradFill>
            <a:ln w="19080">
              <a:solidFill>
                <a:srgbClr val="1f497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3"/>
          <p:cNvGrpSpPr/>
          <p:nvPr/>
        </p:nvGrpSpPr>
        <p:grpSpPr>
          <a:xfrm>
            <a:off x="7956720" y="6453360"/>
            <a:ext cx="1007640" cy="215640"/>
            <a:chOff x="7956720" y="6453360"/>
            <a:chExt cx="1007640" cy="215640"/>
          </a:xfrm>
        </p:grpSpPr>
        <p:grpSp>
          <p:nvGrpSpPr>
            <p:cNvPr id="10" name="Group 12"/>
            <p:cNvGrpSpPr/>
            <p:nvPr/>
          </p:nvGrpSpPr>
          <p:grpSpPr>
            <a:xfrm>
              <a:off x="7956720" y="6453360"/>
              <a:ext cx="651600" cy="215640"/>
              <a:chOff x="7956720" y="6453360"/>
              <a:chExt cx="651600" cy="215640"/>
            </a:xfrm>
          </p:grpSpPr>
          <p:sp>
            <p:nvSpPr>
              <p:cNvPr id="11" name="AutoShape 9"/>
              <p:cNvSpPr/>
              <p:nvPr/>
            </p:nvSpPr>
            <p:spPr>
              <a:xfrm>
                <a:off x="8253000" y="6453360"/>
                <a:ext cx="355320" cy="215640"/>
              </a:xfrm>
              <a:custGeom>
                <a:avLst/>
                <a:gdLst>
                  <a:gd name="textAreaLeft" fmla="*/ 13680 w 355320"/>
                  <a:gd name="textAreaRight" fmla="*/ 341640 w 355320"/>
                  <a:gd name="textAreaTop" fmla="*/ 13680 h 215640"/>
                  <a:gd name="textAreaBottom" fmla="*/ 201960 h 215640"/>
                </a:gdLst>
                <a:ahLst/>
                <a:rect l="textAreaLeft" t="textAreaTop" r="textAreaRight" b="textAreaBottom"/>
                <a:pathLst>
                  <a:path w="35568" h="21600">
                    <a:moveTo>
                      <a:pt x="0" y="0"/>
                    </a:moveTo>
                    <a:lnTo>
                      <a:pt x="35568" y="0"/>
                    </a:lnTo>
                    <a:lnTo>
                      <a:pt x="35568" y="21600"/>
                    </a:lnTo>
                    <a:lnTo>
                      <a:pt x="0" y="21600"/>
                    </a:lnTo>
                    <a:close/>
                  </a:path>
                  <a:path fill="lightenLess" w="35568" h="21600">
                    <a:moveTo>
                      <a:pt x="0" y="0"/>
                    </a:moveTo>
                    <a:lnTo>
                      <a:pt x="35568" y="0"/>
                    </a:lnTo>
                    <a:lnTo>
                      <a:pt x="34168" y="1400"/>
                    </a:lnTo>
                    <a:lnTo>
                      <a:pt x="1400" y="1400"/>
                    </a:lnTo>
                    <a:close/>
                  </a:path>
                  <a:path fill="darken" w="35568" h="21600">
                    <a:moveTo>
                      <a:pt x="35568" y="0"/>
                    </a:moveTo>
                    <a:lnTo>
                      <a:pt x="35568" y="21600"/>
                    </a:lnTo>
                    <a:lnTo>
                      <a:pt x="34168" y="20200"/>
                    </a:lnTo>
                    <a:lnTo>
                      <a:pt x="34168" y="1400"/>
                    </a:lnTo>
                    <a:close/>
                  </a:path>
                  <a:path fill="darkenLess" w="35568" h="21600">
                    <a:moveTo>
                      <a:pt x="3556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4168" y="20200"/>
                    </a:lnTo>
                    <a:close/>
                  </a:path>
                  <a:path fill="lighten" w="3556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35568" h="21600">
                    <a:moveTo>
                      <a:pt x="17784" y="3837"/>
                    </a:moveTo>
                    <a:lnTo>
                      <a:pt x="20360" y="6448"/>
                    </a:lnTo>
                    <a:lnTo>
                      <a:pt x="20360" y="4707"/>
                    </a:lnTo>
                    <a:lnTo>
                      <a:pt x="22136" y="4707"/>
                    </a:lnTo>
                    <a:lnTo>
                      <a:pt x="22136" y="8224"/>
                    </a:lnTo>
                    <a:lnTo>
                      <a:pt x="24747" y="10800"/>
                    </a:lnTo>
                    <a:lnTo>
                      <a:pt x="23093" y="10800"/>
                    </a:lnTo>
                    <a:lnTo>
                      <a:pt x="23093" y="17989"/>
                    </a:lnTo>
                    <a:lnTo>
                      <a:pt x="12475" y="17989"/>
                    </a:lnTo>
                    <a:lnTo>
                      <a:pt x="12475" y="10800"/>
                    </a:lnTo>
                    <a:lnTo>
                      <a:pt x="10821" y="10800"/>
                    </a:lnTo>
                    <a:close/>
                  </a:path>
                  <a:path fill="darkenLess" w="35568" h="21600">
                    <a:moveTo>
                      <a:pt x="20360" y="6448"/>
                    </a:moveTo>
                    <a:lnTo>
                      <a:pt x="20360" y="4707"/>
                    </a:lnTo>
                    <a:lnTo>
                      <a:pt x="22136" y="4707"/>
                    </a:lnTo>
                    <a:lnTo>
                      <a:pt x="22136" y="8224"/>
                    </a:lnTo>
                    <a:close/>
                  </a:path>
                  <a:path fill="darkenLess" w="35568" h="21600">
                    <a:moveTo>
                      <a:pt x="16861" y="14299"/>
                    </a:moveTo>
                    <a:lnTo>
                      <a:pt x="18707" y="14299"/>
                    </a:lnTo>
                    <a:lnTo>
                      <a:pt x="18707" y="17989"/>
                    </a:lnTo>
                    <a:lnTo>
                      <a:pt x="23093" y="17989"/>
                    </a:lnTo>
                    <a:lnTo>
                      <a:pt x="23093" y="10800"/>
                    </a:lnTo>
                    <a:lnTo>
                      <a:pt x="12475" y="10800"/>
                    </a:lnTo>
                    <a:lnTo>
                      <a:pt x="12475" y="17989"/>
                    </a:lnTo>
                    <a:lnTo>
                      <a:pt x="16861" y="1798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bfbe"/>
                  </a:gs>
                  <a:gs pos="100000">
                    <a:srgbClr val="f1d7d7"/>
                  </a:gs>
                </a:gsLst>
                <a:lin ang="5400000"/>
              </a:gradFill>
              <a:ln w="3240">
                <a:solidFill>
                  <a:srgbClr val="c45b58"/>
                </a:solidFill>
                <a:miter/>
              </a:ln>
              <a:effectLst>
                <a:outerShdw dist="107932" dir="189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AutoShape 10">
                <a:hlinkClick r:id="" action="ppaction://hlinkshowjump?jump=previousslide"/>
              </p:cNvPr>
              <p:cNvSpPr/>
              <p:nvPr/>
            </p:nvSpPr>
            <p:spPr>
              <a:xfrm>
                <a:off x="7956720" y="6453360"/>
                <a:ext cx="296280" cy="215640"/>
              </a:xfrm>
              <a:custGeom>
                <a:avLst/>
                <a:gdLst>
                  <a:gd name="textAreaLeft" fmla="*/ 13680 w 296280"/>
                  <a:gd name="textAreaRight" fmla="*/ 282600 w 296280"/>
                  <a:gd name="textAreaTop" fmla="*/ 13680 h 215640"/>
                  <a:gd name="textAreaBottom" fmla="*/ 201960 h 215640"/>
                </a:gdLst>
                <a:ahLst/>
                <a:rect l="textAreaLeft" t="textAreaTop" r="textAreaRight" b="textAreaBottom"/>
                <a:pathLst>
                  <a:path w="29664" h="21600">
                    <a:moveTo>
                      <a:pt x="0" y="0"/>
                    </a:moveTo>
                    <a:lnTo>
                      <a:pt x="29664" y="0"/>
                    </a:lnTo>
                    <a:lnTo>
                      <a:pt x="29664" y="21600"/>
                    </a:lnTo>
                    <a:lnTo>
                      <a:pt x="0" y="21600"/>
                    </a:lnTo>
                    <a:close/>
                  </a:path>
                  <a:path fill="lightenLess" w="29664" h="21600">
                    <a:moveTo>
                      <a:pt x="0" y="0"/>
                    </a:moveTo>
                    <a:lnTo>
                      <a:pt x="29664" y="0"/>
                    </a:lnTo>
                    <a:lnTo>
                      <a:pt x="28264" y="1400"/>
                    </a:lnTo>
                    <a:lnTo>
                      <a:pt x="1400" y="1400"/>
                    </a:lnTo>
                    <a:close/>
                  </a:path>
                  <a:path fill="darken" w="29664" h="21600">
                    <a:moveTo>
                      <a:pt x="29664" y="0"/>
                    </a:moveTo>
                    <a:lnTo>
                      <a:pt x="29664" y="21600"/>
                    </a:lnTo>
                    <a:lnTo>
                      <a:pt x="28264" y="20200"/>
                    </a:lnTo>
                    <a:lnTo>
                      <a:pt x="28264" y="1400"/>
                    </a:lnTo>
                    <a:close/>
                  </a:path>
                  <a:path fill="darkenLess" w="29664" h="21600">
                    <a:moveTo>
                      <a:pt x="2966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8264" y="20200"/>
                    </a:lnTo>
                    <a:close/>
                  </a:path>
                  <a:path fill="lighten" w="2966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9664" h="21600">
                    <a:moveTo>
                      <a:pt x="7826" y="10800"/>
                    </a:moveTo>
                    <a:lnTo>
                      <a:pt x="21838" y="3794"/>
                    </a:lnTo>
                    <a:lnTo>
                      <a:pt x="21838" y="178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bfbe"/>
                  </a:gs>
                  <a:gs pos="100000">
                    <a:srgbClr val="f1d7d7"/>
                  </a:gs>
                </a:gsLst>
                <a:lin ang="5400000"/>
              </a:gradFill>
              <a:ln w="3240">
                <a:solidFill>
                  <a:srgbClr val="c45b58"/>
                </a:solidFill>
                <a:miter/>
              </a:ln>
              <a:effectLst>
                <a:outerShdw dist="107932" dir="189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AutoShape 11">
              <a:hlinkClick r:id="" action="ppaction://hlinkshowjump?jump=nextslide"/>
            </p:cNvPr>
            <p:cNvSpPr/>
            <p:nvPr/>
          </p:nvSpPr>
          <p:spPr>
            <a:xfrm>
              <a:off x="8608680" y="6453360"/>
              <a:ext cx="355680" cy="215640"/>
            </a:xfrm>
            <a:custGeom>
              <a:avLst/>
              <a:gdLst>
                <a:gd name="textAreaLeft" fmla="*/ 13680 w 355680"/>
                <a:gd name="textAreaRight" fmla="*/ 342000 w 3556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35604" h="21600">
                  <a:moveTo>
                    <a:pt x="0" y="0"/>
                  </a:moveTo>
                  <a:lnTo>
                    <a:pt x="35604" y="0"/>
                  </a:lnTo>
                  <a:lnTo>
                    <a:pt x="35604" y="21600"/>
                  </a:lnTo>
                  <a:lnTo>
                    <a:pt x="0" y="21600"/>
                  </a:lnTo>
                  <a:close/>
                </a:path>
                <a:path fill="lightenLess" w="35604" h="21600">
                  <a:moveTo>
                    <a:pt x="0" y="0"/>
                  </a:moveTo>
                  <a:lnTo>
                    <a:pt x="35604" y="0"/>
                  </a:lnTo>
                  <a:lnTo>
                    <a:pt x="34204" y="1400"/>
                  </a:lnTo>
                  <a:lnTo>
                    <a:pt x="1400" y="1400"/>
                  </a:lnTo>
                  <a:close/>
                </a:path>
                <a:path fill="darken" w="35604" h="21600">
                  <a:moveTo>
                    <a:pt x="35604" y="0"/>
                  </a:moveTo>
                  <a:lnTo>
                    <a:pt x="35604" y="21600"/>
                  </a:lnTo>
                  <a:lnTo>
                    <a:pt x="34204" y="20200"/>
                  </a:lnTo>
                  <a:lnTo>
                    <a:pt x="34204" y="1400"/>
                  </a:lnTo>
                  <a:close/>
                </a:path>
                <a:path fill="darkenLess" w="35604" h="21600">
                  <a:moveTo>
                    <a:pt x="3560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204" y="20200"/>
                  </a:lnTo>
                  <a:close/>
                </a:path>
                <a:path fill="lighten" w="3560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604" h="21600">
                  <a:moveTo>
                    <a:pt x="10796" y="3794"/>
                  </a:moveTo>
                  <a:lnTo>
                    <a:pt x="24808" y="10800"/>
                  </a:lnTo>
                  <a:lnTo>
                    <a:pt x="10796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e8bfbe"/>
                </a:gs>
                <a:gs pos="100000">
                  <a:srgbClr val="f1d7d7"/>
                </a:gs>
              </a:gsLst>
              <a:lin ang="5400000"/>
            </a:gradFill>
            <a:ln w="3240">
              <a:solidFill>
                <a:srgbClr val="c45b58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33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853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Times New Roman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3180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1636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D802-252E-416D-8355-49F8F132E1D4}" type="slidenum">
              <a:rPr b="0" lang="ru-RU" sz="1200" spc="-1" strike="noStrike">
                <a:solidFill>
                  <a:srgbClr val="c1524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250920" y="189000"/>
            <a:ext cx="8713800" cy="6480000"/>
            <a:chOff x="250920" y="189000"/>
            <a:chExt cx="8713800" cy="6480000"/>
          </a:xfrm>
        </p:grpSpPr>
        <p:sp>
          <p:nvSpPr>
            <p:cNvPr id="55" name="Rectangle 4"/>
            <p:cNvSpPr/>
            <p:nvPr/>
          </p:nvSpPr>
          <p:spPr>
            <a:xfrm>
              <a:off x="250920" y="189000"/>
              <a:ext cx="361800" cy="6408720"/>
            </a:xfrm>
            <a:prstGeom prst="rect">
              <a:avLst/>
            </a:prstGeom>
            <a:gradFill rotWithShape="0">
              <a:gsLst>
                <a:gs pos="0">
                  <a:srgbClr val="394f40"/>
                </a:gs>
                <a:gs pos="50000">
                  <a:srgbClr val="9ad6ae"/>
                </a:gs>
                <a:gs pos="100000">
                  <a:srgbClr val="394f4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324000" y="6165720"/>
              <a:ext cx="8640720" cy="142920"/>
            </a:xfrm>
            <a:prstGeom prst="rect">
              <a:avLst/>
            </a:prstGeom>
            <a:gradFill rotWithShape="0">
              <a:gsLst>
                <a:gs pos="0">
                  <a:srgbClr val="dda09f"/>
                </a:gs>
                <a:gs pos="100000">
                  <a:srgbClr val="fdf8f8"/>
                </a:gs>
              </a:gsLst>
              <a:lin ang="5400000"/>
            </a:gradFill>
            <a:ln w="19080">
              <a:solidFill>
                <a:srgbClr val="c0504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468360" y="836640"/>
              <a:ext cx="216000" cy="5832360"/>
            </a:xfrm>
            <a:prstGeom prst="rect">
              <a:avLst/>
            </a:prstGeom>
            <a:gradFill rotWithShape="0">
              <a:gsLst>
                <a:gs pos="0">
                  <a:srgbClr val="ccdaec"/>
                </a:gs>
                <a:gs pos="100000">
                  <a:srgbClr val="5e656d"/>
                </a:gs>
              </a:gsLst>
              <a:lin ang="0"/>
            </a:gradFill>
            <a:ln w="19080">
              <a:solidFill>
                <a:srgbClr val="1f497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6"/>
          <p:cNvGrpSpPr/>
          <p:nvPr/>
        </p:nvGrpSpPr>
        <p:grpSpPr>
          <a:xfrm>
            <a:off x="250920" y="189000"/>
            <a:ext cx="8713800" cy="6480000"/>
            <a:chOff x="250920" y="189000"/>
            <a:chExt cx="8713800" cy="6480000"/>
          </a:xfrm>
        </p:grpSpPr>
        <p:sp>
          <p:nvSpPr>
            <p:cNvPr id="95" name="Rectangle 4"/>
            <p:cNvSpPr/>
            <p:nvPr/>
          </p:nvSpPr>
          <p:spPr>
            <a:xfrm>
              <a:off x="250920" y="189000"/>
              <a:ext cx="361800" cy="6408720"/>
            </a:xfrm>
            <a:prstGeom prst="rect">
              <a:avLst/>
            </a:prstGeom>
            <a:gradFill rotWithShape="0">
              <a:gsLst>
                <a:gs pos="0">
                  <a:srgbClr val="394f40"/>
                </a:gs>
                <a:gs pos="50000">
                  <a:srgbClr val="9ad6ae"/>
                </a:gs>
                <a:gs pos="100000">
                  <a:srgbClr val="394f4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324000" y="6165720"/>
              <a:ext cx="8640720" cy="142920"/>
            </a:xfrm>
            <a:prstGeom prst="rect">
              <a:avLst/>
            </a:prstGeom>
            <a:gradFill rotWithShape="0">
              <a:gsLst>
                <a:gs pos="0">
                  <a:srgbClr val="dda09f"/>
                </a:gs>
                <a:gs pos="100000">
                  <a:srgbClr val="fdf8f8"/>
                </a:gs>
              </a:gsLst>
              <a:lin ang="5400000"/>
            </a:gradFill>
            <a:ln w="19080">
              <a:solidFill>
                <a:srgbClr val="c0504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68360" y="836640"/>
              <a:ext cx="216000" cy="5832360"/>
            </a:xfrm>
            <a:prstGeom prst="rect">
              <a:avLst/>
            </a:prstGeom>
            <a:gradFill rotWithShape="0">
              <a:gsLst>
                <a:gs pos="0">
                  <a:srgbClr val="ccdaec"/>
                </a:gs>
                <a:gs pos="100000">
                  <a:srgbClr val="5e656d"/>
                </a:gs>
              </a:gsLst>
              <a:lin ang="0"/>
            </a:gradFill>
            <a:ln w="19080">
              <a:solidFill>
                <a:srgbClr val="1f497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7"/>
          <p:cNvSpPr/>
          <p:nvPr/>
        </p:nvSpPr>
        <p:spPr>
          <a:xfrm>
            <a:off x="1116000" y="765000"/>
            <a:ext cx="7272360" cy="71640"/>
          </a:xfrm>
          <a:prstGeom prst="rect">
            <a:avLst/>
          </a:prstGeom>
          <a:solidFill>
            <a:srgbClr val="e8bfbe"/>
          </a:solidFill>
          <a:ln w="9360">
            <a:solidFill>
              <a:srgbClr val="efd2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050920" y="907920"/>
            <a:ext cx="633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116000" y="5157720"/>
            <a:ext cx="7272360" cy="71640"/>
          </a:xfrm>
          <a:prstGeom prst="rect">
            <a:avLst/>
          </a:prstGeom>
          <a:solidFill>
            <a:srgbClr val="e8bfbe"/>
          </a:solidFill>
          <a:ln w="9360">
            <a:solidFill>
              <a:srgbClr val="efd2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1763640" y="5013360"/>
            <a:ext cx="633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33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55640" y="638136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Times New Roman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9410-0BD7-4917-9382-A536BBFA2762}" type="slidenum">
              <a:rPr b="0" lang="ru-RU" sz="1200" spc="-1" strike="noStrike">
                <a:solidFill>
                  <a:srgbClr val="c1524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50920" y="189000"/>
            <a:ext cx="8713800" cy="6480000"/>
            <a:chOff x="250920" y="189000"/>
            <a:chExt cx="8713800" cy="6480000"/>
          </a:xfrm>
        </p:grpSpPr>
        <p:sp>
          <p:nvSpPr>
            <p:cNvPr id="144" name="Rectangle 4"/>
            <p:cNvSpPr/>
            <p:nvPr/>
          </p:nvSpPr>
          <p:spPr>
            <a:xfrm>
              <a:off x="250920" y="189000"/>
              <a:ext cx="361800" cy="6408720"/>
            </a:xfrm>
            <a:prstGeom prst="rect">
              <a:avLst/>
            </a:prstGeom>
            <a:gradFill rotWithShape="0">
              <a:gsLst>
                <a:gs pos="0">
                  <a:srgbClr val="394f40"/>
                </a:gs>
                <a:gs pos="50000">
                  <a:srgbClr val="9ad6ae"/>
                </a:gs>
                <a:gs pos="100000">
                  <a:srgbClr val="394f4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324000" y="6165720"/>
              <a:ext cx="8640720" cy="142920"/>
            </a:xfrm>
            <a:prstGeom prst="rect">
              <a:avLst/>
            </a:prstGeom>
            <a:gradFill rotWithShape="0">
              <a:gsLst>
                <a:gs pos="0">
                  <a:srgbClr val="dda09f"/>
                </a:gs>
                <a:gs pos="100000">
                  <a:srgbClr val="fdf8f8"/>
                </a:gs>
              </a:gsLst>
              <a:lin ang="5400000"/>
            </a:gradFill>
            <a:ln w="19080">
              <a:solidFill>
                <a:srgbClr val="c0504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468360" y="836640"/>
              <a:ext cx="216000" cy="5832360"/>
            </a:xfrm>
            <a:prstGeom prst="rect">
              <a:avLst/>
            </a:prstGeom>
            <a:gradFill rotWithShape="0">
              <a:gsLst>
                <a:gs pos="0">
                  <a:srgbClr val="ccdaec"/>
                </a:gs>
                <a:gs pos="100000">
                  <a:srgbClr val="5e656d"/>
                </a:gs>
              </a:gsLst>
              <a:lin ang="0"/>
            </a:gradFill>
            <a:ln w="19080">
              <a:solidFill>
                <a:srgbClr val="1f497d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33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75564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Times New Roman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1524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48EA-66B3-461B-AC53-B6D5224FA635}" type="slidenum">
              <a:rPr b="0" lang="ru-RU" sz="1200" spc="-1" strike="noStrike">
                <a:solidFill>
                  <a:srgbClr val="c1524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ГБПОУ РО «РС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19280" y="2349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«В мире информат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03 апреля 2019 г. прошло заседание городского предметного методического  объединения учителей информатики «Здоровьесберегающие технологии на уроках  информатики и ИКТ»"/>
          <p:cNvPicPr/>
          <p:nvPr/>
        </p:nvPicPr>
        <p:blipFill>
          <a:blip r:embed="rId1"/>
          <a:stretch/>
        </p:blipFill>
        <p:spPr>
          <a:xfrm>
            <a:off x="2411280" y="3141720"/>
            <a:ext cx="48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Когда информацию измеряют, меня всегда применя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Самый страшный враг ПК к нам проник издал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Проекты наши на ПК он сохранит наверня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Что за чудо - рукоятка, кнопки две, курок и хвостик, ну конечно это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Всегда нужно устройство это, когда работаешь с дискет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Чем больше это свойство диска, тем легче нам играть без рис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Динамик нам приятный друг, когда мы слышим чистый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Его провайдер обещает, он что угодно вам скач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Вводим текст с неё в ПК очень медленно по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Переставьте буквы слов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К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получите слово, связанное с информати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853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332"/>
                </a:solidFill>
                <a:latin typeface="Arial"/>
              </a:rPr>
              <a:t>Команда 2</a:t>
            </a:r>
            <a:endParaRPr b="1" lang="en-US" sz="28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765000"/>
            <a:ext cx="8578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 клавишам прыг да скок - Береги ноготок!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-два и готово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укали сло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где пальцам физ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т -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ней записаны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мамы, и для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паковке, как конф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вертится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 компьютеры п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 между соб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ля этого о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штуковина ну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елефону подключил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получи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ь, известная не вс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ля чего же этот ящи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 себя бумагу та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йчас же буквы, точ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ые - строчка к строчк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чатает карт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кий м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йный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3995640" y="765000"/>
            <a:ext cx="2448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есткий диск так назыв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звание отгадает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ятся данные в этом устройстве, Запоминать — его главное свойст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н живет в системном бло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ботает без ток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умный — как профессо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Это пластина, на ней микросхемы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ой компоненты систем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а она! Очень, ребята!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ется она 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толбик черный, как-то стран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егать по экран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монитор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м бег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Не каждый совершить сумеет с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компьютерных программ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это тщательно планиру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процесс зовется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ата 3"/>
          <p:cNvSpPr/>
          <p:nvPr/>
        </p:nvSpPr>
        <p:spPr>
          <a:xfrm>
            <a:off x="6948360" y="765000"/>
            <a:ext cx="1944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На нем компьютерная мыш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т и ползает, глупыш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ть - задача не легк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на столе нет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У людей нашли при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енькие доч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ют строч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ют все, что е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с них компьютер счес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очки­-девочки равны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отличаются 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ом памяти и плать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ом девичье их счаст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ут красавиц просто Стеш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компьютерному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Её должны мы твёрдо знать, чтобы разумно рассуждать, задачи на ПК реша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рыжок курсором совершаем, когда рукой им управля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Когда работу свою на ПК завершаем, на них все файлы сохраня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Отображает на экране всё, что нужно вам в программ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Всё понимает, хранит, что захочешь, но вот в чём беда, выключаешь ПК, и всё забывает о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Переставьте буквы слов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те слово, связанное с информатик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Чтоб текст в ПК с листа вводить, его нам надо подключи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Всю работу свою на ПК мы теряем, когда неправильно его наз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В ПК программы он ломает и без пароля проникае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Свой взор с него почти не сводим, когда мы в Интернет заходи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871040" cy="86364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5.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гадки и ребусы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манд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Дата 3"/>
          <p:cNvSpPr/>
          <p:nvPr/>
        </p:nvSpPr>
        <p:spPr>
          <a:xfrm>
            <a:off x="853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Arial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4" descr=""/>
          <p:cNvPicPr/>
          <p:nvPr/>
        </p:nvPicPr>
        <p:blipFill>
          <a:blip r:embed="rId1"/>
          <a:srcRect l="33451" t="20599" r="42608" b="49625"/>
          <a:stretch/>
        </p:blipFill>
        <p:spPr>
          <a:xfrm>
            <a:off x="1763640" y="177336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2"/>
          <a:srcRect l="32763" t="48994" r="43302" b="6935"/>
          <a:stretch/>
        </p:blipFill>
        <p:spPr>
          <a:xfrm>
            <a:off x="4788000" y="1773360"/>
            <a:ext cx="3160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манда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Дата 3"/>
          <p:cNvSpPr/>
          <p:nvPr/>
        </p:nvSpPr>
        <p:spPr>
          <a:xfrm>
            <a:off x="853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Arial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4" descr=""/>
          <p:cNvPicPr/>
          <p:nvPr/>
        </p:nvPicPr>
        <p:blipFill>
          <a:blip r:embed="rId1"/>
          <a:srcRect l="29731" t="19237" r="46662" b="50681"/>
          <a:stretch/>
        </p:blipFill>
        <p:spPr>
          <a:xfrm>
            <a:off x="1258920" y="1052640"/>
            <a:ext cx="3384360" cy="43923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2"/>
          <a:srcRect l="29731" t="49323" r="46662" b="6710"/>
          <a:stretch/>
        </p:blipFill>
        <p:spPr>
          <a:xfrm>
            <a:off x="4572000" y="1052640"/>
            <a:ext cx="41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871040" cy="129564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6.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«Информатика в профессии».</a:t>
            </a: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1989000"/>
            <a:ext cx="7570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е значение имеет учебная дисциплина «Информатика» в профессии строите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Arial"/>
              </a:rPr>
              <a:t>Дополнительные задания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400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: Рисунок закодирован следующей последовательностью десятичных кодов. На клетчатом поле расставьте 0 и 1. Закрасьте все получившиеся единицы, и вы получите рисун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манд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0000000000000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011100000000111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010010011001001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1000010110100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010000111100001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00100001100001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0001000110001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00100011110001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00111101101111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0000011000000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0000000000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Дата 3"/>
          <p:cNvSpPr/>
          <p:nvPr/>
        </p:nvSpPr>
        <p:spPr>
          <a:xfrm>
            <a:off x="853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524f"/>
                </a:solidFill>
                <a:latin typeface="Arial"/>
              </a:rPr>
              <a:t>20.11.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55280" y="765000"/>
            <a:ext cx="79311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: Рисунок закодирован следующей последовательностью десятичных кодов. На клетчатом поле расставьте 0 и 1. Закрасьте все получившиеся единицы, и вы получите рисун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манда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1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111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1111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1111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111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000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000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000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000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1111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871040" cy="749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15332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3200" spc="-1" strike="noStrike" u="sng">
                <a:solidFill>
                  <a:srgbClr val="215332"/>
                </a:solidFill>
                <a:uFillTx/>
                <a:latin typeface="Times New Roman"/>
                <a:ea typeface="Times New Roman"/>
              </a:rPr>
              <a:t> "Найти слово по диагонали"</a:t>
            </a: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pic>
        <p:nvPicPr>
          <p:cNvPr id="229" name="Содержимое 7" descr="http://www.uroki-sovy.ru/images/200/173/034.jpg"/>
          <p:cNvPicPr/>
          <p:nvPr/>
        </p:nvPicPr>
        <p:blipFill>
          <a:blip r:embed="rId1"/>
          <a:srcRect l="0" t="0" r="0" b="25083"/>
          <a:stretch/>
        </p:blipFill>
        <p:spPr>
          <a:xfrm>
            <a:off x="826920" y="1268280"/>
            <a:ext cx="410544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http://www.uroki-sovy.ru/images/200/173/035.jpg"/>
          <p:cNvPicPr/>
          <p:nvPr/>
        </p:nvPicPr>
        <p:blipFill>
          <a:blip r:embed="rId2"/>
          <a:srcRect l="0" t="0" r="0" b="76217"/>
          <a:stretch/>
        </p:blipFill>
        <p:spPr>
          <a:xfrm>
            <a:off x="826920" y="3213000"/>
            <a:ext cx="4105440" cy="2303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http://www.uroki-sovy.ru/images/200/173/035.jpg"/>
          <p:cNvPicPr/>
          <p:nvPr/>
        </p:nvPicPr>
        <p:blipFill>
          <a:blip r:embed="rId3"/>
          <a:srcRect l="0" t="33160" r="0" b="42376"/>
          <a:stretch/>
        </p:blipFill>
        <p:spPr>
          <a:xfrm>
            <a:off x="4859280" y="1268280"/>
            <a:ext cx="4052880" cy="2017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http://www.uroki-sovy.ru/images/200/173/035.jpg"/>
          <p:cNvPicPr/>
          <p:nvPr/>
        </p:nvPicPr>
        <p:blipFill>
          <a:blip r:embed="rId4"/>
          <a:srcRect l="0" t="67220" r="0" b="10012"/>
          <a:stretch/>
        </p:blipFill>
        <p:spPr>
          <a:xfrm>
            <a:off x="4932360" y="3213000"/>
            <a:ext cx="396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3200" spc="-1" strike="noStrike" u="sng">
                <a:solidFill>
                  <a:srgbClr val="215332"/>
                </a:solidFill>
                <a:uFillTx/>
                <a:latin typeface="Times New Roman"/>
                <a:ea typeface="Times New Roman"/>
              </a:rPr>
              <a:t> "Найти слово по диагонали"</a:t>
            </a: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34" name="Дата 3"/>
          <p:cNvSpPr/>
          <p:nvPr/>
        </p:nvSpPr>
        <p:spPr>
          <a:xfrm>
            <a:off x="853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Содержимое 4" descr="http://www.uroki-sovy.ru/images/200/173/036.jpg"/>
          <p:cNvPicPr/>
          <p:nvPr/>
        </p:nvPicPr>
        <p:blipFill>
          <a:blip r:embed="rId1"/>
          <a:srcRect l="0" t="0" r="0" b="76632"/>
          <a:stretch/>
        </p:blipFill>
        <p:spPr>
          <a:xfrm>
            <a:off x="755640" y="981000"/>
            <a:ext cx="388764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http://www.uroki-sovy.ru/images/200/173/036.jpg"/>
          <p:cNvPicPr/>
          <p:nvPr/>
        </p:nvPicPr>
        <p:blipFill>
          <a:blip r:embed="rId2"/>
          <a:srcRect l="0" t="34614" r="0" b="41384"/>
          <a:stretch/>
        </p:blipFill>
        <p:spPr>
          <a:xfrm>
            <a:off x="755640" y="3141720"/>
            <a:ext cx="3887640" cy="244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http://www.uroki-sovy.ru/images/200/173/036.jpg"/>
          <p:cNvPicPr/>
          <p:nvPr/>
        </p:nvPicPr>
        <p:blipFill>
          <a:blip r:embed="rId3"/>
          <a:srcRect l="0" t="69354" r="0" b="8178"/>
          <a:stretch/>
        </p:blipFill>
        <p:spPr>
          <a:xfrm>
            <a:off x="4572000" y="981000"/>
            <a:ext cx="42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7" descr="http://www.uroki-sovy.ru/images/200/173/037.jpg"/>
          <p:cNvPicPr/>
          <p:nvPr/>
        </p:nvPicPr>
        <p:blipFill>
          <a:blip r:embed="rId4"/>
          <a:srcRect l="0" t="0" r="-7895" b="73552"/>
          <a:stretch/>
        </p:blipFill>
        <p:spPr>
          <a:xfrm>
            <a:off x="4643280" y="3213000"/>
            <a:ext cx="450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94328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1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“Представление команд”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403280" y="39337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332000" y="2997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332"/>
                </a:solidFill>
                <a:latin typeface="Arial"/>
              </a:rPr>
              <a:t>Команда: _______»</a:t>
            </a:r>
            <a:r>
              <a:rPr b="1" lang="ru-RU" sz="2400" spc="-1" strike="noStrike">
                <a:solidFill>
                  <a:srgbClr val="215332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215332"/>
                </a:solidFill>
                <a:latin typeface="Arial"/>
              </a:rPr>
              <a:t>Девиз: _________</a:t>
            </a:r>
            <a:r>
              <a:rPr b="1" lang="ru-RU" sz="2400" spc="-1" strike="noStrike">
                <a:solidFill>
                  <a:srgbClr val="215332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4" descr="http://www.uroki-sovy.ru/images/200/173/037.jpg"/>
          <p:cNvPicPr/>
          <p:nvPr/>
        </p:nvPicPr>
        <p:blipFill>
          <a:blip r:embed="rId1"/>
          <a:srcRect l="0" t="37024" r="47" b="34706"/>
          <a:stretch/>
        </p:blipFill>
        <p:spPr>
          <a:xfrm>
            <a:off x="755640" y="981000"/>
            <a:ext cx="4464000" cy="2016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3200" spc="-1" strike="noStrike" u="sng">
                <a:solidFill>
                  <a:srgbClr val="215332"/>
                </a:solidFill>
                <a:uFillTx/>
                <a:latin typeface="Times New Roman"/>
                <a:ea typeface="Times New Roman"/>
              </a:rPr>
              <a:t> "Найти слово по диагонали"</a:t>
            </a: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pic>
        <p:nvPicPr>
          <p:cNvPr id="241" name="Рисунок 6" descr="http://www.uroki-sovy.ru/images/200/173/037.jpg"/>
          <p:cNvPicPr/>
          <p:nvPr/>
        </p:nvPicPr>
        <p:blipFill>
          <a:blip r:embed="rId2"/>
          <a:srcRect l="0" t="71373" r="0" b="0"/>
          <a:stretch/>
        </p:blipFill>
        <p:spPr>
          <a:xfrm>
            <a:off x="755640" y="2852640"/>
            <a:ext cx="4464000" cy="2521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http://www.uroki-sovy.ru/images/200/173/038.jpg"/>
          <p:cNvPicPr/>
          <p:nvPr/>
        </p:nvPicPr>
        <p:blipFill>
          <a:blip r:embed="rId3"/>
          <a:srcRect l="0" t="10873" r="0" b="57936"/>
          <a:stretch/>
        </p:blipFill>
        <p:spPr>
          <a:xfrm>
            <a:off x="5219640" y="98100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http://www.uroki-sovy.ru/images/200/173/038.jpg"/>
          <p:cNvPicPr/>
          <p:nvPr/>
        </p:nvPicPr>
        <p:blipFill>
          <a:blip r:embed="rId4"/>
          <a:srcRect l="0" t="56734" r="0" b="11763"/>
          <a:stretch/>
        </p:blipFill>
        <p:spPr>
          <a:xfrm>
            <a:off x="5148360" y="3068640"/>
            <a:ext cx="38718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Arial"/>
              </a:rPr>
              <a:t>Опознай пословицу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5332"/>
                </a:solidFill>
                <a:latin typeface="Calibri"/>
              </a:rPr>
              <a:t>1.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Компьютер – лучший дру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Скажи мне, какой у тебя компьютер, и я скажу, кто 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. Без компьютера жить, только небо копт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На дисплей неча пенять, коли видеокарта кри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5. Без винчестера – полсироты, а без материнской платы – и вся сиро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омпьютер без программы – что фонарь без свеч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7. Компьютер не принадлежит человеку, а человек принадлежит компьюте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Не смейся над старыми компьютерами, и твой будет ста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9.Компьютер памятью не испортиш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 Компьютер на столе не для одних только иг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11. По ноутбуку встречают, по уму провожаю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 На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PC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блоки» не расту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13. Дарёному компьютеру в системный блок не заглядыва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 Силиконовую долину со своим компьютером не ездя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15.Кто БЭСМ (быстродействующая электронно-счетная машина) вспомянет, тому глаз во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Не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ом единым жив процессорный ми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17. Мал микропроцессор (или ноутбук), да доро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 Всякий кабель своё гнездо люб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19.Семь раз подумай – один раз апгрейдиру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 Утопающий за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» хватае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21. </a:t>
            </a:r>
            <a:r>
              <a:rPr b="1" lang="en-US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DOS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– всему нач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5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00000" y="404280"/>
            <a:ext cx="7786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5332"/>
                </a:solidFill>
                <a:latin typeface="Calibri"/>
              </a:rPr>
              <a:t>22.</a:t>
            </a:r>
            <a:r>
              <a:rPr b="1" lang="en-US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DOS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-матушка - </a:t>
            </a:r>
            <a:r>
              <a:rPr b="1" lang="en-US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WINDOWS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а бабу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 Не всё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вис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24.Семь бед – один «</a:t>
            </a:r>
            <a:r>
              <a:rPr b="1" lang="en-US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Reset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 Ищущий ОС без изъяна останется без О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26.Плоха та мышка, которая одну кнопку име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Бит байт бережё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28. </a:t>
            </a:r>
            <a:r>
              <a:rPr b="1" i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не воробей, а пара бай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 Отформатировать винчестер – секунда, а восстановить – 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0.Не клавиатура печатает, а у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Не идентификатор красит файл, а файл идентификато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2.Два раза подумай, один раз уда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3. Удаляй по файлику, наберёшь Корзи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 Наудалял с три Корзин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5.  Что из Корзины удалено, то проп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. Винчестер – зеркало души пользовате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37. Хороший процессор – холодный процесс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. Бейсику (Паскалю, Си) учиться всегда пригоди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71040" cy="53352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РЕФЛЕКСИЯ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выполнял задани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чувствовал, чт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риобрел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меня получилось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смог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пробую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ня удивил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дал мне для жизн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26920" y="980640"/>
            <a:ext cx="7871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Придумать загадки,  ребусы, кроссворды  по Инфор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Источник: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871040" cy="107964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2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“Разминка”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асть клавиатуры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Небольшая программа, которая может приписывать себя к другим программам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Оно есть как у файла, так и у человека. 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Материальный объект для хранения информации 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Исправление ошибок в тексте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Список, из которого можно выбрать команду </a:t>
            </a:r>
            <a:br>
              <a:rPr sz="2000"/>
            </a:b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казатель позиции на экране диспле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.Как называется главная плата компьютера? 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9.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долго хранится информация в оперативной памяти компьютера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0.Сколько времени вам потребуется для создания изображения в простейшем музыкальном редакторе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1.Как долго хранится информация в постоянной памяти компьютера?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.И военный, и строительный, и системный в персональном компьютер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18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3.И семейный, и военный, и файловый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.И место для стоянки и разгрузки судов, и точка подключения внешних устройств к шине компью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.Значок на экране, щелкнув мышью на котором можно открыть некоторую программу, документ или пап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.Запись числа 15 в 16-ричной системе счис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7.Не имеющий физического воплощения, а созданный на экране монитора компьют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8.Образное представление схемы организации на диске файлов и каталогов (папок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.Фирма, предоставляющая услуги по пользованию Интерне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.Размер шриф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.Многократно повторяющаяся часть алгоритма (программы)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2.Человек – фанат компьютерных иг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3.Назовите  "антипод" для слова  «клиент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4.Сколько байт в 40 бита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.Минимальная единица измерения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6.Как называется объект – заместитель оригинал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7. Книгу по какому языку программирования химики называют книгой  про ионы мед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8.Аппаратные и программные средства, обеспечивающие объединение на компьютере текста, графики, анимации и зву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.Состояние, при котором включенный компьютер не реагирует на действия пользовате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.Изобретатель системы кодирования информации, использующий два символа: точку и т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1.Перечисление всех папок (каталогов), в которые вложен фай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2.Запись числа 8 в 8-ричной системе счис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3.Элемент печатающей головки матричного прин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.Текст, содержащий связи с текстом других доку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.Минимальный элемент изображения на экране мони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.Главный компьютер многоранговой локальной се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7.Начинающий пользовате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8.Процедура «альтернатива», как ее можно назвать инач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9.Назовите  "антипод" для слова  «констант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0.Сколько бит в 3 байта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Последовательность действий, направленная для достижения конкретной це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2.Что общего между папирусом, берестяной грамотой, книгой и дискетой?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3.Специальные правила, определяющие принцип построения слов и предложений в языке программир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.Как называются программы, предназначенные для просмотра страниц Интернет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15400" cy="151128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3.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 “ Составление слов, связанных с информатикой”</a:t>
            </a:r>
            <a:br>
              <a:rPr sz="3200"/>
            </a:b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835280" y="1700280"/>
          <a:ext cx="5735520" cy="4489560"/>
        </p:xfrm>
        <a:graphic>
          <a:graphicData uri="http://schemas.openxmlformats.org/drawingml/2006/table">
            <a:tbl>
              <a:tblPr/>
              <a:tblGrid>
                <a:gridCol w="2868480"/>
                <a:gridCol w="2867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Тиром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Ро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Россоцер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Заба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Скойдж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Вуз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Шак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Менту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Террип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Тай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Алатувик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Урс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Тьмап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Лай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Мом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Мароп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Овод, ди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Кол, к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Миф, нота, ик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Грамм,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Ель, пи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5332"/>
                          </a:solidFill>
                          <a:latin typeface="Times New Roman"/>
                          <a:ea typeface="Times New Roman"/>
                        </a:rPr>
                        <a:t>Бег, май, 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870680" cy="89388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4.</a:t>
            </a:r>
            <a:br>
              <a:rPr sz="3200"/>
            </a:br>
            <a:r>
              <a:rPr b="1" lang="ru-RU" sz="32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Информационный артистизм </a:t>
            </a:r>
            <a:endParaRPr b="1" lang="en-US" sz="32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коман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Клавиатура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Компьютер зави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Компьютерный вир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 коман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Компьютерная мышь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Два студента, играющих в компьютерную иг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Антивирусное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871040" cy="865080"/>
          </a:xfrm>
          <a:prstGeom prst="rect">
            <a:avLst/>
          </a:prstGeom>
          <a:gradFill rotWithShape="0">
            <a:gsLst>
              <a:gs pos="0">
                <a:srgbClr val="5e656d"/>
              </a:gs>
              <a:gs pos="50000">
                <a:srgbClr val="ccdaf6"/>
              </a:gs>
              <a:gs pos="100000">
                <a:srgbClr val="5e656d"/>
              </a:gs>
            </a:gsLst>
            <a:lin ang="5400000"/>
          </a:gradFill>
          <a:ln w="9360">
            <a:solidFill>
              <a:srgbClr val="dda09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нкурс 5.Загадки и ребусы</a:t>
            </a:r>
            <a:br>
              <a:rPr sz="2800"/>
            </a:br>
            <a:r>
              <a:rPr b="1" lang="ru-RU" sz="2800" spc="-1" strike="noStrike">
                <a:solidFill>
                  <a:srgbClr val="215332"/>
                </a:solidFill>
                <a:latin typeface="Times New Roman"/>
                <a:ea typeface="Times New Roman"/>
              </a:rPr>
              <a:t>Команда 1</a:t>
            </a:r>
            <a:endParaRPr b="1" lang="en-US" sz="2800" spc="-1" strike="noStrike">
              <a:solidFill>
                <a:srgbClr val="215332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000" y="119664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ромный серый колоб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й тонкий про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на коробк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или три кно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опарке есть зайчи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пьютера есть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А теперь, друзья, загад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: рукоят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опки две, курок и хвости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конечно, эт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ловно смелый капита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нем - горит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й радугой он дыши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нем компьютер пиш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исует без зап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зможные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машины в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ся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Дата 3"/>
          <p:cNvSpPr/>
          <p:nvPr/>
        </p:nvSpPr>
        <p:spPr>
          <a:xfrm>
            <a:off x="3203640" y="1197000"/>
            <a:ext cx="244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коло дисплея - главный бл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бежит электр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ым важным микросхем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блок зовут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 это отключи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мпьютер замолчит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ухий, как медведь —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сможет спе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200" spc="-1" strike="noStrike">
                <a:solidFill>
                  <a:srgbClr val="c1524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он перед нам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го направлен взор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яется программ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я 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 помощью такого устройств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опировать книгу можно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ы, картинки любые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ут с ним цифров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Что за друг такой? — Железн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й и полез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скучно, нет ую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ключен 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лавиатуру изучаю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буквы, я запоминаю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уверенно и робко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набирал и жал на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Дата 3"/>
          <p:cNvSpPr/>
          <p:nvPr/>
        </p:nvSpPr>
        <p:spPr>
          <a:xfrm>
            <a:off x="5940360" y="1197000"/>
            <a:ext cx="2448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Это программа, с ней все вы знако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и найдете у каждого дом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й мы вступаем в процесс игров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азывается просто -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В памяти компьютер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живает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т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помогает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осигна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нитора превращает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ее узнал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как ее называю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7:19:11Z</dcterms:created>
  <dc:creator>Неумоина</dc:creator>
  <dc:description/>
  <dc:language>en-US</dc:language>
  <cp:lastModifiedBy>Артем Арутюнян</cp:lastModifiedBy>
  <dcterms:modified xsi:type="dcterms:W3CDTF">2021-10-22T18:44:09Z</dcterms:modified>
  <cp:revision>93</cp:revision>
  <dc:subject/>
  <dc:title>Понятие информационной системы Классификация</dc:title>
</cp:coreProperties>
</file>