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DE2A-26BE-4BFF-A899-2F07941AF1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F63D-2D63-4895-81EA-A1BA3651AB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0E20-24CB-4E5B-90C6-D960417D4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06EF-02DF-4E05-B5D0-B82BE6D84C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F559-1F7B-487E-8638-FD2AF3D59E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151A-9E65-40E0-9E3B-D8E37D5667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6061-7E5B-4A07-8FB1-EF26D88274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EDBE-2426-44FF-8B2B-547CA5A3AF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CC1D-E34C-4750-9AC8-9DE3655A16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5340-A1A4-4D1B-9BF4-065BB5155C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4D1-FA50-4238-8E77-B1B8111752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2E13-0896-42CC-9556-05F288909D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BC58-32AB-414D-988E-0874D61CE8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9C37-9BF7-4C8E-A4AF-114AA1458D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8F57-8BD6-4859-BE80-C8758897F6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185-28A0-4236-9FCE-1AA395CD0F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B5AE-6452-44A0-92E8-62D6A73DC4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CB0E-B85A-46C6-9762-DFC1A6CEAD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31B0-199B-40DF-A453-675B4646AE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FDA5-A53B-4D3E-B181-A844E10F32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274-0BAD-4116-9A3A-1AF89190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590-2610-4B23-8469-90FD252B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94A-F899-47F0-BDA6-5B05B598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5A1-0454-4A0B-A53A-1E01DFCC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912-BD3E-476C-8119-0BE2ACE2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143-67C9-4945-9855-69B42243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C2B-8263-4343-A829-81F441FB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BAF-0956-42F4-8B0F-917FA83D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4DC-F9BD-4EB2-AA05-48503FA1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BAD-58F5-4136-AC04-68A6BABB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FF5-F304-4A01-B911-1E518E3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CBD-4882-4634-85B2-0518B63C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9555-3E85-4761-865B-C3E073050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ибернетическая модель упра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6215040" y="357120"/>
            <a:ext cx="23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6827-2549-4C09-A7A9-AE44C5A08F30}" type="datetime">
              <a:rPr b="0" lang="ru-RU" sz="2800" spc="-1" strike="noStrike">
                <a:solidFill>
                  <a:srgbClr val="c00000"/>
                </a:solidFill>
                <a:latin typeface="Calibri"/>
              </a:rPr>
              <a:t>30.07.26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ShockwaveFlash1"/>
          <p:cNvGraphicFramePr/>
          <p:nvPr/>
        </p:nvGraphicFramePr>
        <p:xfrm>
          <a:off x="179280" y="189000"/>
          <a:ext cx="8712360" cy="65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712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обратная связь в процессе управл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структуру имеет управляющий алгоритм при наличии обратной связ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ShockwaveFlash1"/>
          <p:cNvGraphicFramePr/>
          <p:nvPr/>
        </p:nvGraphicFramePr>
        <p:xfrm>
          <a:off x="252360" y="101520"/>
          <a:ext cx="8712360" cy="655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01520"/>
                    <a:ext cx="8712360" cy="65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765d797_1"/>
          <p:cNvPicPr/>
          <p:nvPr/>
        </p:nvPicPr>
        <p:blipFill>
          <a:blip r:embed="rId1"/>
          <a:stretch/>
        </p:blipFill>
        <p:spPr>
          <a:xfrm>
            <a:off x="642960" y="3643200"/>
            <a:ext cx="3457440" cy="2640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611280" y="16430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чем отдать очередную команду человек смотрит на состояние объекта управления, на результат выполнения предыдущей коман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43280" y="335772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человек не нашел нужную передачу на данном канале, то он переключат телевизор на следующий кан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ведите примеры систем с обратной связь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ная последовательность команд –линейный алгорит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24000" y="620640"/>
            <a:ext cx="8351640" cy="1242000"/>
            <a:chOff x="324000" y="620640"/>
            <a:chExt cx="8351640" cy="1242000"/>
          </a:xfrm>
        </p:grpSpPr>
        <p:sp>
          <p:nvSpPr>
            <p:cNvPr id="97" name="Text Box 5"/>
            <p:cNvSpPr/>
            <p:nvPr/>
          </p:nvSpPr>
          <p:spPr>
            <a:xfrm>
              <a:off x="3348000" y="620640"/>
              <a:ext cx="237672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Управляюще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оздействи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324000" y="693360"/>
              <a:ext cx="2808360" cy="116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Управляющий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объек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5867640" y="693360"/>
              <a:ext cx="2808000" cy="116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Управляемый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объек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3275280" y="10537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9"/>
          <p:cNvGrpSpPr/>
          <p:nvPr/>
        </p:nvGrpSpPr>
        <p:grpSpPr>
          <a:xfrm>
            <a:off x="539640" y="3357720"/>
            <a:ext cx="8351640" cy="1861920"/>
            <a:chOff x="539640" y="3357720"/>
            <a:chExt cx="8351640" cy="1861920"/>
          </a:xfrm>
        </p:grpSpPr>
        <p:grpSp>
          <p:nvGrpSpPr>
            <p:cNvPr id="102" name="Group 9"/>
            <p:cNvGrpSpPr/>
            <p:nvPr/>
          </p:nvGrpSpPr>
          <p:grpSpPr>
            <a:xfrm>
              <a:off x="539640" y="3357720"/>
              <a:ext cx="8351640" cy="1242000"/>
              <a:chOff x="539640" y="3357720"/>
              <a:chExt cx="8351640" cy="1242000"/>
            </a:xfrm>
          </p:grpSpPr>
          <p:sp>
            <p:nvSpPr>
              <p:cNvPr id="103" name="Text Box 10"/>
              <p:cNvSpPr/>
              <p:nvPr/>
            </p:nvSpPr>
            <p:spPr>
              <a:xfrm>
                <a:off x="3563640" y="3357720"/>
                <a:ext cx="237672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Управляющее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воздействие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Text Box 11"/>
              <p:cNvSpPr/>
              <p:nvPr/>
            </p:nvSpPr>
            <p:spPr>
              <a:xfrm>
                <a:off x="539640" y="3430440"/>
                <a:ext cx="2808360" cy="116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Управляющий 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объек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Text Box 12"/>
              <p:cNvSpPr/>
              <p:nvPr/>
            </p:nvSpPr>
            <p:spPr>
              <a:xfrm>
                <a:off x="6083280" y="3430440"/>
                <a:ext cx="2808000" cy="116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Управляемый 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объек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13"/>
              <p:cNvSpPr/>
              <p:nvPr/>
            </p:nvSpPr>
            <p:spPr>
              <a:xfrm>
                <a:off x="3490920" y="3790800"/>
                <a:ext cx="24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Group 14"/>
            <p:cNvGrpSpPr/>
            <p:nvPr/>
          </p:nvGrpSpPr>
          <p:grpSpPr>
            <a:xfrm>
              <a:off x="1979640" y="4571640"/>
              <a:ext cx="5545080" cy="648000"/>
              <a:chOff x="1979640" y="4571640"/>
              <a:chExt cx="5545080" cy="648000"/>
            </a:xfrm>
          </p:grpSpPr>
          <p:sp>
            <p:nvSpPr>
              <p:cNvPr id="108" name="Line 15"/>
              <p:cNvSpPr/>
              <p:nvPr/>
            </p:nvSpPr>
            <p:spPr>
              <a:xfrm>
                <a:off x="1979640" y="5219640"/>
                <a:ext cx="554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7524720" y="457200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17"/>
              <p:cNvSpPr/>
              <p:nvPr/>
            </p:nvSpPr>
            <p:spPr>
              <a:xfrm flipV="1">
                <a:off x="1979640" y="457164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Text Box 18"/>
            <p:cNvSpPr/>
            <p:nvPr/>
          </p:nvSpPr>
          <p:spPr>
            <a:xfrm>
              <a:off x="3274920" y="4508640"/>
              <a:ext cx="32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Обратная связ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Rectangle 20"/>
          <p:cNvSpPr/>
          <p:nvPr/>
        </p:nvSpPr>
        <p:spPr>
          <a:xfrm>
            <a:off x="571680" y="528624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горитм, допускающий ветвления и повт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3500280" y="3857760"/>
            <a:ext cx="540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горитм называется ветвящимся, если в нем по определенному условию происходит выбор одного из двух 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492360" y="28584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горитм называется циклическим, если в нем содержится указание на повторение одних и тех же действий по некоторому услов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6" descr="300px-%D0%A0%D0%B5%D0%B3%D1%83%D0%BB%D0%B8%D1%80%D0%BE%D0%B2%D1%89%D0%B8%D0%BA"/>
          <p:cNvPicPr/>
          <p:nvPr/>
        </p:nvPicPr>
        <p:blipFill>
          <a:blip r:embed="rId1"/>
          <a:stretch/>
        </p:blipFill>
        <p:spPr>
          <a:xfrm>
            <a:off x="785880" y="3929040"/>
            <a:ext cx="2520720" cy="168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"/>
          <p:cNvPicPr/>
          <p:nvPr/>
        </p:nvPicPr>
        <p:blipFill>
          <a:blip r:embed="rId2"/>
          <a:stretch/>
        </p:blipFill>
        <p:spPr>
          <a:xfrm>
            <a:off x="714240" y="642960"/>
            <a:ext cx="25210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система с программным управлени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2960" y="2285640"/>
            <a:ext cx="778176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ы, в которых роль управляющего объекта поручается компьютеру, называю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томатическими системами с программным управлени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651640" y="4581360"/>
            <a:ext cx="1768320" cy="1471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Pcclone2"/>
          <p:cNvPicPr/>
          <p:nvPr/>
        </p:nvPicPr>
        <p:blipFill>
          <a:blip r:embed="rId2"/>
          <a:stretch/>
        </p:blipFill>
        <p:spPr>
          <a:xfrm>
            <a:off x="1332000" y="4653000"/>
            <a:ext cx="1523880" cy="1374840"/>
          </a:xfrm>
          <a:prstGeom prst="rect">
            <a:avLst/>
          </a:prstGeom>
          <a:ln w="0">
            <a:noFill/>
          </a:ln>
        </p:spPr>
      </p:pic>
      <p:sp>
        <p:nvSpPr>
          <p:cNvPr id="121" name="Line 6"/>
          <p:cNvSpPr/>
          <p:nvPr/>
        </p:nvSpPr>
        <p:spPr>
          <a:xfrm>
            <a:off x="2843280" y="5300640"/>
            <a:ext cx="26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news_7881_1_MD"/>
          <p:cNvPicPr/>
          <p:nvPr/>
        </p:nvPicPr>
        <p:blipFill>
          <a:blip r:embed="rId1"/>
          <a:srcRect l="0" t="0" r="0" b="5387"/>
          <a:stretch/>
        </p:blipFill>
        <p:spPr>
          <a:xfrm>
            <a:off x="324000" y="3444840"/>
            <a:ext cx="4287600" cy="2341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50920" y="1773360"/>
            <a:ext cx="32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пилот в самоле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0" descr="lhctunnel_600"/>
          <p:cNvPicPr/>
          <p:nvPr/>
        </p:nvPicPr>
        <p:blipFill>
          <a:blip r:embed="rId2"/>
          <a:stretch/>
        </p:blipFill>
        <p:spPr>
          <a:xfrm>
            <a:off x="5143680" y="3357720"/>
            <a:ext cx="3619440" cy="2357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4716360" y="1773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коритель элементарных части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ведите примеры систе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 программным управл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image007"/>
          <p:cNvPicPr/>
          <p:nvPr/>
        </p:nvPicPr>
        <p:blipFill>
          <a:blip r:embed="rId1"/>
          <a:stretch/>
        </p:blipFill>
        <p:spPr>
          <a:xfrm>
            <a:off x="428760" y="3562200"/>
            <a:ext cx="3936960" cy="2581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0" y="2347920"/>
            <a:ext cx="42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матические линии на за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" descr="fizika45"/>
          <p:cNvPicPr/>
          <p:nvPr/>
        </p:nvPicPr>
        <p:blipFill>
          <a:blip r:embed="rId2"/>
          <a:stretch/>
        </p:blipFill>
        <p:spPr>
          <a:xfrm>
            <a:off x="5540400" y="3500280"/>
            <a:ext cx="3036960" cy="2635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4284720" y="228600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томный реактор на электроста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ведите примеры систе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 программным управл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§ 25 (5 и 6 письменно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§ 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780000" y="549000"/>
            <a:ext cx="5045040" cy="60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948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ду в США и Европе вышла книга Винера 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ибернетика или Управление и связь в животном и маши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, ознаменовавшая своим появлением рождение нового научного направления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ибернети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ибернети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наука об управлении и связях в живых организмах и технических устройств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WINER-P.JPG (10518 bytes)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95200" y="476280"/>
            <a:ext cx="3141720" cy="3313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00000" y="4076640"/>
            <a:ext cx="25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26.11.1894 - 196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управл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редставляет собой управляющее воздействие с точки зрения киберн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алгоритм управл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ShockwaveFlash1"/>
          <p:cNvGraphicFramePr/>
          <p:nvPr/>
        </p:nvGraphicFramePr>
        <p:xfrm>
          <a:off x="250920" y="189000"/>
          <a:ext cx="8604000" cy="64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604000" cy="64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765d797_1"/>
          <p:cNvPicPr/>
          <p:nvPr/>
        </p:nvPicPr>
        <p:blipFill>
          <a:blip r:embed="rId1"/>
          <a:stretch/>
        </p:blipFill>
        <p:spPr>
          <a:xfrm>
            <a:off x="250920" y="3495600"/>
            <a:ext cx="2665440" cy="2036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409680" y="221472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и телевиз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164040" y="2214720"/>
            <a:ext cx="24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зяин и соб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" descr="dressura3"/>
          <p:cNvPicPr/>
          <p:nvPr/>
        </p:nvPicPr>
        <p:blipFill>
          <a:blip r:embed="rId2"/>
          <a:stretch/>
        </p:blipFill>
        <p:spPr>
          <a:xfrm>
            <a:off x="3348000" y="3495600"/>
            <a:ext cx="2305080" cy="202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940360" y="3495600"/>
            <a:ext cx="2952720" cy="2025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116760" y="22147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фор и автомоби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ведите примеры управляющего воз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d765d797_1"/>
          <p:cNvPicPr/>
          <p:nvPr/>
        </p:nvPicPr>
        <p:blipFill>
          <a:blip r:embed="rId1"/>
          <a:stretch/>
        </p:blipFill>
        <p:spPr>
          <a:xfrm>
            <a:off x="357120" y="2581200"/>
            <a:ext cx="3600360" cy="2751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28760" y="56181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анды передаются через пульт упр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143240" y="2475000"/>
            <a:ext cx="4572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ключить/выключи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ереключить канал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увеличить/уменьшить громкос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систем управления назовите команды управления и скажите, в какой форме они перед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7"/>
          <p:cNvSpPr/>
          <p:nvPr/>
        </p:nvSpPr>
        <p:spPr>
          <a:xfrm>
            <a:off x="571680" y="56894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зяин команды собаке передает голос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8" descr="dressura3"/>
          <p:cNvPicPr/>
          <p:nvPr/>
        </p:nvPicPr>
        <p:blipFill>
          <a:blip r:embed="rId1"/>
          <a:stretch/>
        </p:blipFill>
        <p:spPr>
          <a:xfrm>
            <a:off x="785880" y="2617920"/>
            <a:ext cx="3214800" cy="2820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5000760" y="2546280"/>
            <a:ext cx="3000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идеть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жать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зять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систем управления назовите команды управления и скажите, в какой форме они перед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428760" y="2690640"/>
            <a:ext cx="3227400" cy="2214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428760" y="5405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вые сигналы светоф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786120" y="2905200"/>
            <a:ext cx="4929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сный- «стоя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еленый- «еха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тый-«приготовитьс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систем управления назовите команды управления и скажите, в какой форме они перед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ям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цесс передачи команд управления от управляющего объекта к управляем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d765d797_1"/>
          <p:cNvPicPr/>
          <p:nvPr/>
        </p:nvPicPr>
        <p:blipFill>
          <a:blip r:embed="rId1"/>
          <a:stretch/>
        </p:blipFill>
        <p:spPr>
          <a:xfrm>
            <a:off x="358920" y="4535640"/>
            <a:ext cx="2665440" cy="2036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480960" y="32544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и телевиз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271680" y="32544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зяин и соб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9" descr="dressura3"/>
          <p:cNvPicPr/>
          <p:nvPr/>
        </p:nvPicPr>
        <p:blipFill>
          <a:blip r:embed="rId2"/>
          <a:stretch/>
        </p:blipFill>
        <p:spPr>
          <a:xfrm>
            <a:off x="3456000" y="4535640"/>
            <a:ext cx="2305080" cy="202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6048360" y="4535640"/>
            <a:ext cx="2952720" cy="2025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224760" y="32544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фор и автомоби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20:31:21Z</dcterms:created>
  <dc:creator>Admin</dc:creator>
  <dc:description/>
  <dc:language>en-US</dc:language>
  <cp:lastModifiedBy>Admin</cp:lastModifiedBy>
  <dcterms:modified xsi:type="dcterms:W3CDTF">2013-03-04T21:07:12Z</dcterms:modified>
  <cp:revision>20</cp:revision>
  <dc:subject/>
  <dc:title>Кибернетическая модель управления</dc:title>
</cp:coreProperties>
</file>