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AC8-0075-43E9-97B1-28BE7788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6CE-1858-4159-9C4E-F4C79CA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8A1-806D-43AA-9560-5FC93F0C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E03-D80B-437C-A1E8-FD40F7B1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0C9A-5860-4660-9CCF-F6F4B3E6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C70-517F-46EE-8276-A7878A3A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F28-C98B-46C6-8DFB-32209BF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928-94B7-4DD1-BAF9-559170E8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7134-A437-4C9B-ABE8-78EC96E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91EC-5C2E-4848-9D58-C934CC7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8A5-2FE1-4AE6-AF1C-98341B67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E56-8210-4B03-8112-F1ACB7C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2F5-33CB-4DC9-AC9D-36FAFB9B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9D42-CB1E-4289-B00C-3729E1F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6885-D506-4F72-AF86-180C1130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2631-213F-43B3-9521-D7E6A0CA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47AA-CB2D-4BE7-BC8E-4802C82C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0860-CE4F-40EA-ABDF-66ED3781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674A-300B-4DF9-B36D-80F96ED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F4B3-8AA6-40E4-99D7-A3FAB85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7327-6137-40DE-BC3A-34B9D509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0C02-8C02-4156-B05B-72B2C4B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D3F-09D0-402D-9D00-F01A5437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8DB3-0DCD-4906-BB8F-AE46AB5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976B-CD08-43CF-BAFA-FEFDE6D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CF1C-8313-44B9-95E8-FABFEC9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8365-4AA5-4C55-BE60-66D6A5C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FC4C-ED90-45B0-8403-1219F37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34F4-241D-4DAC-AB2D-95FD5E6A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90FA-D8E7-4AE5-AEF9-D6802696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08E12-7CD4-4134-893C-BED7BF56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FBA3-7496-460E-AEBD-7FF875B9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63BD-C0C7-45D7-BE75-4378E50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516-D550-47E1-8E73-319BCC0A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357C-0321-496D-9FB2-81082D3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A245-5B2A-4B3B-873A-6B9CEFC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DF13-441A-4A46-A0E6-05C8C9C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F964-9D0C-4C4C-8DA0-F37112E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CE69-1E3F-4987-94C4-10810A5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0F60-0A73-4604-A56B-4561CAA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0CA1-DF8B-4281-9962-0719E88A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BDC4-9DAF-41C9-BC79-FB02280E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93A8-0316-49B5-8B15-CEF7BA4A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781D-F892-48D3-9546-18651D70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976-97AF-472B-8D7F-EED7ECE0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2F7A-7B11-48AB-BA06-8B6AB43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30C2-0680-4C51-9A89-34F53D0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F00E-F6FA-4BC0-8C05-E2CEFEA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3A12-C798-4C34-8173-1A54D11D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0D47-ACAF-4237-936E-8ED11266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5D0E-7788-45FC-B141-FA75A41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8C18-446E-497D-98E6-FF809EE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9D6A-F080-434F-8277-BC977C0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FE2A-3F79-45A7-AB21-FB8F9D4A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1295-DB41-4DD7-AEBA-EA03E2EA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B03-CE1E-42A7-BC09-1338C20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E286-B30A-4ED2-8ECA-D6D5A20C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9A8-55DF-4583-A9E7-315714F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A6D-3FED-40FD-9C0D-1C30F19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152-BE52-4749-8A56-6E18C3B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68D-448F-448A-BE06-702CB68FC6ED}" type="datetime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C4D4-6245-4AF8-BBD1-68E79321A13D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A04-9B8A-4489-B8AE-529B74201205}" type="datetime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E31-0590-42BD-9257-C099D8CC25E0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8EE-CA4C-4FAB-A985-D081FB7EFD82}" type="datetime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013E-2C63-4297-A7CB-CAAC57081E78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9D1-D518-4503-90BE-183E681EA216}" type="datetime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58C-65AD-4F09-8FD7-0AABBB6C4F10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6C1-AE56-4632-8507-1DBF523A80AC}" type="datetime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37AB-8E75-40A5-B1A4-3A6C6143CF18}" type="slidenum">
              <a:rPr b="0" lang="ru-R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428760"/>
            <a:ext cx="7407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SCHOOL UNIFORM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IN DIFFERENT COUNTRIES</a:t>
            </a:r>
            <a:endParaRPr b="0" lang="en-US" sz="4000" spc="-1" strike="noStrike">
              <a:solidFill>
                <a:srgbClr val="5f688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28840" y="3500280"/>
            <a:ext cx="7407360" cy="2857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 Кубанова Светлана Игорев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ГБОУ школы №4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70c0"/>
                </a:solidFill>
                <a:latin typeface="Times New Roman"/>
              </a:rPr>
              <a:t>                                         </a:t>
            </a:r>
            <a:r>
              <a:rPr b="1" i="1" lang="ru-RU" sz="900" spc="-1" strike="noStrike">
                <a:solidFill>
                  <a:srgbClr val="0070c0"/>
                </a:solidFill>
                <a:latin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Times New Roman"/>
              </a:rPr>
              <a:t>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Oman- the most ethnic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76" name="Picture 2" descr="C:\Users\user\Desktop\school uniform\6004115662_6da5628982.jpg"/>
          <p:cNvPicPr/>
          <p:nvPr/>
        </p:nvPicPr>
        <p:blipFill>
          <a:blip r:embed="rId1"/>
          <a:stretch/>
        </p:blipFill>
        <p:spPr>
          <a:xfrm>
            <a:off x="2000160" y="1357200"/>
            <a:ext cx="6215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Malaysia- the most conservative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78" name="Picture 2" descr="C:\Users\user\Desktop\school uniform\6003570625_fc9bcac371.jpg"/>
          <p:cNvPicPr/>
          <p:nvPr/>
        </p:nvPicPr>
        <p:blipFill>
          <a:blip r:embed="rId1"/>
          <a:stretch/>
        </p:blipFill>
        <p:spPr>
          <a:xfrm>
            <a:off x="1714680" y="1714680"/>
            <a:ext cx="6786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Australia- the most unified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80" name="Picture 2" descr="C:\Users\user\Desktop\school uniform\6004116138_db215620f8.jpg"/>
          <p:cNvPicPr/>
          <p:nvPr/>
        </p:nvPicPr>
        <p:blipFill>
          <a:blip r:embed="rId1"/>
          <a:stretch/>
        </p:blipFill>
        <p:spPr>
          <a:xfrm>
            <a:off x="3143160" y="1285920"/>
            <a:ext cx="4143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user\Desktop\school uniform\Colours3.jpg"/>
          <p:cNvPicPr/>
          <p:nvPr/>
        </p:nvPicPr>
        <p:blipFill>
          <a:blip r:embed="rId1"/>
          <a:stretch/>
        </p:blipFill>
        <p:spPr>
          <a:xfrm>
            <a:off x="1214280" y="500040"/>
            <a:ext cx="7715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70c0"/>
                </a:solidFill>
                <a:latin typeface="Calibri"/>
              </a:rPr>
              <a:t>Great Britain- the most traditional</a:t>
            </a:r>
            <a:endParaRPr b="0" lang="en-US" sz="39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61" name="Picture 4" descr="C:\Users\user\Desktop\6003569227_fbc4b21e32.jpg"/>
          <p:cNvPicPr/>
          <p:nvPr/>
        </p:nvPicPr>
        <p:blipFill>
          <a:blip r:embed="rId1"/>
          <a:stretch/>
        </p:blipFill>
        <p:spPr>
          <a:xfrm>
            <a:off x="2714760" y="1214280"/>
            <a:ext cx="414324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Calibri"/>
              </a:rPr>
              <a:t>The USA- the most uncontrolled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63" name="Picture 4" descr="C:\Users\user\Desktop\school uniform\6003571177_9f3cb1b211.jpg"/>
          <p:cNvPicPr/>
          <p:nvPr/>
        </p:nvPicPr>
        <p:blipFill>
          <a:blip r:embed="rId1"/>
          <a:stretch/>
        </p:blipFill>
        <p:spPr>
          <a:xfrm>
            <a:off x="1714680" y="1428840"/>
            <a:ext cx="7000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Japan- the cutes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65" name="Picture 2" descr="C:\Users\user\Desktop\school uniform\6003569847_efd52db783.jpg"/>
          <p:cNvPicPr/>
          <p:nvPr/>
        </p:nvPicPr>
        <p:blipFill>
          <a:blip r:embed="rId1"/>
          <a:stretch/>
        </p:blipFill>
        <p:spPr>
          <a:xfrm>
            <a:off x="2357280" y="1428840"/>
            <a:ext cx="5643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Bhutan- the most practical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67" name="Picture 2" descr="C:\Users\user\Desktop\school uniform\6004116362_299feb21d5.jpg"/>
          <p:cNvPicPr/>
          <p:nvPr/>
        </p:nvPicPr>
        <p:blipFill>
          <a:blip r:embed="rId1"/>
          <a:stretch/>
        </p:blipFill>
        <p:spPr>
          <a:xfrm>
            <a:off x="3071880" y="1571760"/>
            <a:ext cx="4286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China- the most sportive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69" name="Picture 2" descr="C:\Users\user\Desktop\school uniform\6003568697_9379067298.jpg"/>
          <p:cNvPicPr/>
          <p:nvPr/>
        </p:nvPicPr>
        <p:blipFill>
          <a:blip r:embed="rId1"/>
          <a:stretch/>
        </p:blipFill>
        <p:spPr>
          <a:xfrm>
            <a:off x="2813040" y="1733400"/>
            <a:ext cx="47433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alibri"/>
              </a:rPr>
              <a:t>Thailand- the shortest</a:t>
            </a:r>
            <a:endParaRPr b="0" lang="en-US" sz="43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Users\user\Desktop\school uniform\6003568911_ae460852e0.jpg"/>
          <p:cNvPicPr/>
          <p:nvPr/>
        </p:nvPicPr>
        <p:blipFill>
          <a:blip r:embed="rId2"/>
          <a:stretch/>
        </p:blipFill>
        <p:spPr>
          <a:xfrm>
            <a:off x="3429000" y="1428840"/>
            <a:ext cx="3786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Calibri"/>
              </a:rPr>
              <a:t>South Korea-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Calibri"/>
              </a:rPr>
              <a:t>the gentle womanliest </a:t>
            </a:r>
            <a:endParaRPr b="0" lang="en-US" sz="3900" spc="-1" strike="noStrike">
              <a:solidFill>
                <a:srgbClr val="5f688b"/>
              </a:solidFill>
              <a:latin typeface="Calibri"/>
            </a:endParaRPr>
          </a:p>
        </p:txBody>
      </p:sp>
      <p:pic>
        <p:nvPicPr>
          <p:cNvPr id="274" name="Picture 2" descr="C:\Users\user\Desktop\school uniform\6003569055_a41821f710.jpg"/>
          <p:cNvPicPr/>
          <p:nvPr/>
        </p:nvPicPr>
        <p:blipFill>
          <a:blip r:embed="rId1"/>
          <a:stretch/>
        </p:blipFill>
        <p:spPr>
          <a:xfrm>
            <a:off x="2643120" y="1500120"/>
            <a:ext cx="5429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4:04:27Z</dcterms:created>
  <dc:creator>Кристина</dc:creator>
  <dc:description/>
  <dc:language>en-US</dc:language>
  <cp:lastModifiedBy>ната</cp:lastModifiedBy>
  <dcterms:modified xsi:type="dcterms:W3CDTF">2021-08-21T12:19:15Z</dcterms:modified>
  <cp:revision>65</cp:revision>
  <dc:subject/>
  <dc:title>МБОУ Донская СОШ</dc:title>
</cp:coreProperties>
</file>