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DF9-F033-4E25-B409-13B8EE25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533-8ECF-41F1-9A0E-CF589E52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6987F-A1E7-4D64-AB4B-7402D8CE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FE7FD-49FA-4DB6-A853-6FBDF5FB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D962C-E28F-4814-9962-991B76D2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1BD52-97E1-4D86-AAFF-13561002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DBA2E-2F95-442D-B5D2-F5445F28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1CC39-2E30-4D27-AA1B-2B137760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439FC-9314-4DFE-B3BF-BAB1096A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4708F-7785-49E5-BCEE-EC8A773E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208A2-C319-4ACF-AACC-39764ACD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840-D1CC-4BBC-8866-EE252BAA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DE7-DD88-42D6-9EF6-4E9701B1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B002-BDBB-44BC-883D-FD840EC2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8314-F39C-4771-9909-D5973133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82D2-A807-43EF-B395-335B8ADD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57A2-0B3E-4A39-8BFD-452F8147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EDC8-918B-4A9E-A1EB-EE9F54FC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66D7-8984-4868-B77C-06FDB8A1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4771-9BCB-4C33-9085-1D3EDEB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05B-E07C-41F8-ABDD-D6B57189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6521-4A59-4456-B108-F1C37E0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DAA8-B9EA-4473-9719-28CD1CD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07E0-0215-41B5-8388-987F3BBB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5368-E84B-4892-89A7-644F5F26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216C-5B1F-4CC4-A4ED-E44A2198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1FCE-63F3-4477-9728-D38457F5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F6EE2-7EC9-4558-AA7B-70E226F8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E2DB4-FCBE-4605-854C-FB909871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D0AAA-B3FD-428C-A8B0-02F47362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66EE3-FDFF-4615-BF59-4DCD729C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599-11DC-4788-9A95-29BCE18F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A2F03-5016-4521-9967-CB98B26A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3AC5D-5F9A-48AC-B301-D7ADA7A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B2B0-7A1E-463D-A965-27DB095E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193D-3B33-4931-A9CD-DF91A365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12FDE-448D-473E-91A0-D5A52522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F870-97A1-4778-876E-A6DA1077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B2CD-56F9-4EB9-AD95-90F330A6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DCB51-645D-4749-BCD1-C8E9FB75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B852-540D-4D1B-8925-0A5E4E51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1C5FE-A330-490E-A1C8-FBE03222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03E-64DB-4ADE-A501-EAA15BA9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1643E-1BCE-44BC-A001-45F226FD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E06C1-76B5-4926-8EB5-EA39915F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2472C-7F49-4A83-B98B-7ACA47E7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8E50A-BA3D-4640-921C-D840C501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53D6D-1A63-46BD-83AD-8C7EA377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9719-8AB3-49E2-A91E-207A23A0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10E8E-5B5D-41EE-8C39-CADDAE5A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0DC30-A1B9-4E39-B692-31D139F8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E0BB5-D88E-43AD-B065-A01FCBFE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77E79-B1F7-4FE4-8BD8-4E359302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6CD-822C-4D3F-80F4-3E55B67A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7861E-0E5C-44E1-AD96-1C5C2A01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CC00-9298-43C3-B5BB-D9769DD6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623E0-8820-43C3-B7A2-8AC0D9B3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CF6F9-C00F-412D-93ED-C89A96B3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2F24F-8F0D-4344-9D84-080969A7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CF44D-EEC1-4007-ADFC-35ECBEE6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F40EC-FD02-4825-9331-571B2A72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9FD8F-12B7-4A09-A621-D6D7331D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6A22F-1DCF-4A14-83E7-96937B88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61D7D-C63C-400D-8A0C-8468F215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48C-11C1-4E5C-ABD5-6569FCC8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D52BE-763E-4C48-A598-5EB01813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1B26B-66C0-47B4-8C70-3836DEDC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139FC-8B3F-4649-B48D-CB18FCFA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AA6EC-BBF9-4BF4-B28F-4AAC590E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00AF6-448F-443E-8433-09E19CBE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44921-D940-4309-8657-F04D2F99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9C01E-3DC7-4FA3-A189-CACD019B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EF874-246C-4D40-9A30-D6BFF20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FFB35-2B57-43C5-8D8F-DAD97D68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3C0CA-8613-4C24-BB5E-FFBB3AAE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223-9A18-4A59-9148-B88CBE77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6EC85-E4E9-4243-B7B5-63F0DC19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D0D18-3830-447E-A8D9-755A4953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6EA0A-B041-41EA-8E59-EDCDBE6E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2D1A0-F425-4728-948F-21442A59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60024-CD4C-4C6B-A488-3CCEE09F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D445B-ED35-484A-B08B-FD83BEC1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46144-0DDC-4D64-9BA7-ED2ECFFF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1E4C8-CD40-4DDE-914A-18A65085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196FF-93AA-41AC-861D-2377C794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8652A-57B1-4002-B414-8519A4CD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850-954E-4F76-BB01-A2125155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63FC5-19F9-41F7-A624-C1B2A1C4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45A35-7EE6-47E1-96EA-7BFCE6C1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9A19B-892D-4B6F-AE9E-03DC495B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866E6-AE57-42B9-A9BE-C54B5589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68217-3B9F-4470-B549-854BB278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90E17-7A11-4636-BC84-118D7F4B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9BCD3-A490-484F-8C8D-CEC88ACF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13DD7-A9CC-4736-AB58-F566C79C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438A4-F564-4E54-9A6B-BAB25105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32CE6-23A6-4082-BF0B-6502C862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7CA-FF47-4B84-9616-84669EED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16A3C-0294-44D9-B69B-BACB7ADB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2BC7D-7BD0-4DCF-9A73-9125851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318EA-CC8A-4A9C-A49D-4C4E04EC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0A25E-F396-4057-BC76-8926B31E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D1F6B-CC7C-49F0-8A3D-16B7FD4D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F977E-A516-465A-9C83-C0AFB1B9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069DB-D2CE-490D-BF93-3A28B5D8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FB72C-4679-4099-86CE-3357289E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F5CBB-FD0E-4014-81C3-39053F54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E9472-23EE-4B20-8F6F-B9D9098C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04DD-FB30-4F05-944E-57E5E2E02DF2}" type="slidenum"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674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674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A79A-65FB-4BFD-B6E6-3ECE6DF5B79C}" type="slidenum"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674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2BFB-4EF3-4D8F-84D0-D21AF6084C48}" type="slidenum"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674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23FC-968B-474E-AF32-EBC32C163DD8}" type="slidenum"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674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4C40-AD65-4414-B764-212A9A64A562}" type="slidenum"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674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BE7E-FB22-4A15-8951-FE21578AF22E}" type="slidenum"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674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F3EB-5598-4B0F-BBDE-C1D56D3F8CEF}" type="slidenum"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674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2C7E-F498-44BD-8ED3-C026D404F630}" type="slidenum"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674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674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674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C3C5-EFB9-4E1C-8864-165D0F30CD15}" type="slidenum">
              <a:rPr b="0" lang="en-US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04920" y="1987560"/>
            <a:ext cx="8461080" cy="1498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униципальное казенное общеобразовательное учреждение </a:t>
            </a:r>
            <a:endParaRPr b="0" lang="en-US" sz="1800" spc="-1" strike="noStrike">
              <a:solidFill>
                <a:srgbClr val="07674d"/>
              </a:solidFill>
              <a:latin typeface="Franklin Gothic Boo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Лахденпохская средняя общеобразовательная школа»</a:t>
            </a:r>
            <a:endParaRPr b="0" lang="en-US" sz="1800" spc="-1" strike="noStrike">
              <a:solidFill>
                <a:srgbClr val="07674d"/>
              </a:solidFill>
              <a:latin typeface="Franklin Gothic 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роектно-исследовательская работа</a:t>
            </a:r>
            <a:endParaRPr b="0" lang="en-US" sz="2400" spc="-1" strike="noStrike">
              <a:solidFill>
                <a:srgbClr val="07674d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5715000" y="380988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Выполнил: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ученик 1 «в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Сениче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Дроздюк И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837720"/>
            <a:ext cx="8686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Цель проекта: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– выяснить, что такое грибы-паразиты и могут ли они быть полезны.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Задачи проекта: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marL="332640" indent="-332640" algn="just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обрать и проанализировать информацию о грибах-паразитах;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marL="332640" indent="-332640" algn="just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ыяснить, где могут пригодиться грибы-паразиты.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Гипотеза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екоторые грибы-паразиты могут быть полезны.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257640" cy="5790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3962520" y="762120"/>
            <a:ext cx="50925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560" y="609120"/>
            <a:ext cx="4190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Гриб–паразит обитает на других растениях, чаще всего, на деревьях. </a:t>
            </a:r>
            <a:endParaRPr b="0" lang="en-US" sz="2800" spc="-1" strike="noStrike">
              <a:solidFill>
                <a:srgbClr val="07674d"/>
              </a:solidFill>
              <a:latin typeface="Franklin Gothic Book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Такая связь имеет пагубные последствия – растение-хозяин со временем разрушается и погибает. Грибы-паразиты можно назвать хищниками.</a:t>
            </a:r>
            <a:endParaRPr b="0" lang="en-US" sz="2800" spc="-1" strike="noStrike">
              <a:solidFill>
                <a:srgbClr val="07674d"/>
              </a:solidFill>
              <a:latin typeface="Franklin Gothic Book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5334120" y="363600"/>
            <a:ext cx="335268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6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411" name="Содержимое 4" descr=""/>
          <p:cNvPicPr/>
          <p:nvPr/>
        </p:nvPicPr>
        <p:blipFill>
          <a:blip r:embed="rId2"/>
          <a:stretch/>
        </p:blipFill>
        <p:spPr>
          <a:xfrm>
            <a:off x="1187280" y="1298520"/>
            <a:ext cx="6931080" cy="472140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646600" y="1525320"/>
            <a:ext cx="2286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6201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Я узнал, что: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росты на деревьях называют грибы-паразиты;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рибы-паразиты можно назвать хищниками;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акие грибы паразиты, как чага, могут быть полезны;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з несъедобных грибов-паразитов можно сделать красивые поделки.</a:t>
            </a: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674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2T09:11:40Z</dcterms:created>
  <dc:creator>админ</dc:creator>
  <dc:description/>
  <dc:language>en-US</dc:language>
  <cp:lastModifiedBy>Ирина</cp:lastModifiedBy>
  <dcterms:modified xsi:type="dcterms:W3CDTF">2021-10-23T06:37:14Z</dcterms:modified>
  <cp:revision>28</cp:revision>
  <dc:subject/>
  <dc:title>Грибы - паразиты</dc:title>
</cp:coreProperties>
</file>