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FC1-2486-4703-AFB6-06107D78A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2C60-7351-4F63-9CF7-A25798E841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6EB-8547-4EB1-B1A5-B6C3E6AF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8E4-CEB4-477C-BA6D-2089679C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C6C-5883-4AFA-97AF-4301E55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90B-A7DB-46C6-B6E8-7C2287E9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7D5-E35D-4D80-A9DF-2E63EDB7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006-906C-4358-A4C0-1A01286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D16D-1333-409D-9FBB-61DE1FE2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846-1BBB-4476-8085-471F63E6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B75-B4E3-4919-8CB5-12F77962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8283-EDC7-4576-B5A3-CD271BA8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1D8-1F72-414D-802C-3653A50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BF4-CE0F-45B8-A91D-0707964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A5BE-56DA-48BE-AE83-30D7AA2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34A4-72D7-4974-9F52-E6C28A6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C88-1AE2-4922-A087-B2D893C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73B-6755-4418-9894-2A659193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431-5329-41AF-868E-D6A8D495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8B9A-CFF5-47D7-BFDF-9F68330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2DC6-A159-47BA-BB28-A46A17C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E694-57B9-4D58-96BD-633E489A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22D8-4090-4025-BDAD-570260B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9824-D385-4314-88E0-2E34C64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CBD-5A07-4516-BEC1-B0C0CF4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1FFA-6032-4CBD-B04B-89EE6FEC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DF07-597A-4B30-B68B-A72C974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0A32-C063-489B-ADE0-BC533C9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886E-AE5E-40F5-9CB8-272E4B6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1A2F-C0E2-4F55-829C-86C79DF3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877B-92D8-4E81-9443-5CA9A97C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EC6C-AAE7-41CE-81D2-84E04C7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485A-6C64-41C0-AFE8-6122752F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6B90-043D-4F0E-826C-61BF9BBF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D5EE-1AE4-4120-91E8-82CCC6E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B9-309F-4DCF-B84F-C46BED9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A31A-39DB-4A15-8AB0-219FB26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4800-3BBB-4E3F-A399-7CEE149E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37F4-8EAA-4062-8C2F-A1F9405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8BA8-032E-4B8A-8064-C2800A6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7F48-D725-46B6-BE7C-D81E2FE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5AAF-4FE4-480C-A6E2-229E22A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999A-CD4D-4951-9150-2F1117C4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17C1-5EC4-4CF8-959F-30E5A525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5C7C-3169-4613-855A-2168A9FC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04AF-FF08-419A-AF0A-3262DBDC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336-73D9-4282-A109-5115CD8A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CA71-03D6-4C07-8AF4-8799606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D888-DD23-4C0F-B543-FA09E3B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B625-F5EA-4355-87AA-210819C8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22DA-16F5-4112-B73B-FBD3B83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5C53-24E7-4821-865E-13FDE23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05E5-EC92-4645-8C7C-7CD68D9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CC7AD-4E6C-4BBB-825A-381B71A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6092-FFA2-4F0C-97AC-173280D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12C0-2E9C-47FB-8A43-6D09FB10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E32F-1194-45F6-A3E9-170CBFD7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266-E468-4D52-8EA5-5370C7F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00EA-A05B-4515-A86C-9B495734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0FAE-DA67-40B4-8E19-83A4543F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33E37-E43D-4E01-B1F9-B33E13F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4310-FA69-4FF0-83F4-B1230BA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B633-C016-42E2-8CF0-BAFD946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BEBB4-8C4D-436D-8F70-3AF851DD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AFFA-A953-4DC5-9837-5EF56F19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3E52-1DBA-4B31-B33E-BD85EDA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9E2CA-33EC-4989-83CC-F31330E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E336D-375D-41C7-A858-8FFDB12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ED6-6A33-494A-AA21-560759A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4662F-7F4D-4CA0-93EB-999BCCC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231FB-5167-4628-8935-7E076C2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7450-8567-4A1E-9451-0AAF64F5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9AA8-97C4-4F2E-AA39-27BF83D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E4A6-7FE1-419C-8309-A23BA12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4010-2D4E-480F-A4CA-2FC2C331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D4834-14CD-4D3B-A739-BF3377CD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F28AF-B874-4345-992C-8FD6658D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BEBA-BE4A-46E5-98B8-D652CC4D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50792-7F67-4EC1-9611-D81D8EE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634-AC9E-438C-8150-3383CE1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E8D2B-5925-410E-A25A-2554739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F972-2675-46EA-B136-613CD16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4BCA-69C8-45D8-BF2D-33D1567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AD1E-DD8E-4980-A19E-9FFEC2F0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C72E-6FF1-4BFB-8822-FD5C0B57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DA21-AB6A-45AD-9C58-88702E05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8448-E1E1-4198-856D-DC0CB03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E793-90FB-4F49-9A41-983B5FC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A6143-B9A8-4445-AD97-7C535E17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2076-8B17-4BA9-B6A7-D56B204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78-FBB9-4A95-AD41-434708E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03DE3-2CEC-4D01-98B7-6A00576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9A57-A298-4E15-94C7-E51FF9C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C8F1-3243-4B00-AB83-926FAD4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9C3B-DFDE-4E7E-8D20-5E5940A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B504-6D6C-4FAC-9353-70DB0E39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6378-AC47-4AB7-B2E7-EED63969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F824-AA11-475A-A641-5F564612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6752-79AC-4B0F-98F4-404126F3A4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B5E-B0EC-4F96-B923-EFA8F84A03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B1D-1FE8-42CE-8DED-F00D709F51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957A-CFF0-487D-8AB7-9874628A7D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DBA-95BB-420F-9CE0-DC9A68E042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04B-076C-458D-8E6B-027DD7CCD9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8971-B1B1-4407-9616-6B020EB66F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B024-3B26-4ECE-A32E-8ED90067DC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96720" y="1523880"/>
            <a:ext cx="84981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 Наблюдени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 Проверка ошибочности понимания. Учитель намеренно дает учащимся типичные ошибочные понятия и просит учащихся высказать свое согласие или несогласи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3. Мини – тест, математический диктант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4. Формативный тест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5. Формативный опрос. Это форма проверки, следующая сразу за презентацией материала или за каким-либо видом деятельности на уроке. Учитель задает дополнительные уточняющие вопросы: «Почему? Каким образом? Как?…»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5840" y="214200"/>
            <a:ext cx="81439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НСТРУМЕНТЫ ОБРАТНОЙ СВЯЗ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ующее оценивание – это бесконечный поток обратной связи учителя с учащимися и внесение корректив в деятельность учителя и учащихся с целью улучшения процесса обуч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Письменные комментарии учител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блюдени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Фронтальный опро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Устная обратная связ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Самооценивание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– один из видов оценочной деятельности, связанный не только с выставлением себе отметок, а с процедурой оценивания. Самооценивание – это не только оценивание своей работы учеником, но и самостоятельное определение проблем и путей их реше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Взаимооценивание.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Взаимооценивание способствует не только формированию умения контролировать, но и воспитывает такие качества, как честность и правдивость, коллективизм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1" i="1" lang="ru-RU" sz="2500" spc="-1" strike="noStrike">
                <a:solidFill>
                  <a:srgbClr val="000000"/>
                </a:solidFill>
                <a:latin typeface="Lucida Sans Unicode"/>
              </a:rPr>
              <a:t> Тема геометрическая прогресс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се знают задачу о создателе шахмат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 преданию, индийский принц Сирам, восхищённый игрой, призвал к себе её создателя, учёного Сету, и сказал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Я желаю достойно наградить тебя за прекрасную игру. Я достаточно богат, чтобы исполнить любое твоё желани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ета попросил принца положить на первую клетку шахматной доски 1 зерно, на вторую 2 зерна, на третью 4 зерна и т.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оздалась проблемная ситуация: смог ли принц Сирам выполнить желание Сеты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Тема «Прямоугольный параллелепипед» можно предложить школьникам следующую задачу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улон обоев имеет ширину 60 см и длину 10 м. Необходимо оклеить стены в комнате, размер которой 3*4*2,5 м. Общая площадь окна и двери 4 м2. Сколько рулонов обоев нужно купи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Урок по теме “Признаки делимости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инать урок можно так: «А знаете, ребята, я могу себя назвать мудрецом. Я могу мгновенно ответить вам: делится ли ваше названное число на 2,3,4,5,6,9,10, не выполняя деления в столбик или на калькуляторе. Хотите проверить? Напишите у себя число и определите делится ли оно на какое-нибудь из названных чисел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ующее оценивание это самый эффективный способ повысить образовательные достижения каждого ученика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ение формирующего оценивания на уроках математики позволяет  оценивать не только знания, но и видеть развитие каждого учащегос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истемное, планомерное формирование оценочной самостоятельности учащихся дает свои результаты. Они отличаются активностью, стремлением к достижению успеха  в учебной деятельности, максимальной самостоятельностью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28400" y="928800"/>
            <a:ext cx="83581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Как решить проблему низкой познавательной активности учащихся? Как научить детей думать, рассуждать на уроке, слушать учителя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42600" y="213840"/>
            <a:ext cx="7467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ждый учитель стремиться  организовать учебную деятельность на уроке, направленную на развитие познавательной активности учащихся, на развитие стремления учащегося к познанию и саморазвити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знавательная активность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 –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нова развития обучающихся в образовательном процессе.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знавательная актив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- инициативное, действенное отношение учащихся к усвоению знаний, а также проявление интереса, самостоятельности и волевых усилий в обуче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В педагогической практике используются различные пути активизации познавательной деятельности, основные среди них – разнообразие форм, методов, средств обучения, выбор таких их сочетаний, которые в возникших ситуациях стимулируют активность и самостоятельность учащих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Lucida Sans Unicode"/>
              </a:rPr>
              <a:t>Одним из методов, повышающих познавательную активность, является технология </a:t>
            </a:r>
            <a:r>
              <a:rPr b="1" lang="ru-RU" sz="4700" spc="-1" strike="noStrike">
                <a:solidFill>
                  <a:srgbClr val="000000"/>
                </a:solidFill>
                <a:latin typeface="Lucida Sans Unicode"/>
              </a:rPr>
              <a:t>формирующего оценивания</a:t>
            </a:r>
            <a:endParaRPr b="0" lang="en-US" sz="4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дной из целей оценивания является формирование и поддержание мотивации учащихся к целенаправленному учению.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Формирующее оценива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- это оценивание в ходе обучения, когда анализируются знания, умения, ценностные установки. Формирующее оценивание призвано выявить пробелы в освоении знаний  учащимис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нение формирующего оценивания играет важную роль в формировании навыков самостоятельного обучения, т.е. умения учить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Постановка цели урока для ученика означае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вступление в действие компонента формирующего оценивания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5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7467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. Учитель регулярно обеспечивает обратную связь, предоставляя учащимся комментарии по поводу их деятельност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2. Учащиеся принимают активное участие в организации процесса собственного обуч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3. Учитель меняет техники и технологии обучения в зависимости от изменения результатов обуч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4. Учитель осознает, что оценивание посредством отметки резко снижает мотивацию и самооценку учащихс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5. Учитель осознает необходимость научить учащихся принципам самооценки и способам улучшения собственных результат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19:38Z</dcterms:created>
  <dc:creator>Екатерина</dc:creator>
  <dc:description/>
  <dc:language>en-US</dc:language>
  <cp:lastModifiedBy>Windows User</cp:lastModifiedBy>
  <dcterms:modified xsi:type="dcterms:W3CDTF">2021-10-23T15:14:01Z</dcterms:modified>
  <cp:revision>118</cp:revision>
  <dc:subject/>
  <dc:title>Кредиты. Решение задач о кредитах в новой версии ЕГЭ. Кредиты в практической деятельности человека.</dc:title>
</cp:coreProperties>
</file>