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6FFE09-273F-44EC-9720-707DDD6FD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94AA25-AFC0-437F-826C-9270307CE7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008-9765-4D1B-A42B-2F21AD35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D50-F5A9-46ED-924B-8BE454E0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E92-AEDD-4C78-A152-C75A2466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70A-0511-4D5B-A2BF-4F032A8B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CED-4D9C-4096-9B65-A4F03052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CC4-8C9C-4343-BAD9-8A1C70B7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B97-900F-4741-A318-7470BA75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9AB-6814-4A89-A38E-FD30FA1A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675-BABD-4B74-AA73-D69F9C84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154-D146-441F-8366-C09AF61E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A62-2C3A-4C32-B465-47233455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C34-FBBB-4921-8D18-EDA90111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4FF79D-8DA4-4B1D-8A18-013668BF514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28680"/>
            <a:ext cx="77724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571680" y="1000080"/>
            <a:ext cx="78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2021 год - Год озера Байк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-979920" y="428760"/>
            <a:ext cx="108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Monotype Corsiva"/>
                <a:ea typeface="Times New Roman"/>
              </a:rPr>
              <a:t>МБОУ «Хоринская средняя школа № 1 им. Д.Ж. Жанаев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-439560" y="2286000"/>
            <a:ext cx="81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47ffd1"/>
                </a:solidFill>
                <a:latin typeface="Monotype Corsiva"/>
              </a:rPr>
              <a:t>Образовательное событи</a:t>
            </a:r>
            <a:r>
              <a:rPr b="0" lang="ru-RU" sz="4400" spc="-1" strike="noStrike">
                <a:solidFill>
                  <a:srgbClr val="47ffd1"/>
                </a:solidFill>
                <a:latin typeface="Monotype Corsiva"/>
              </a:rPr>
              <a:t>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avatars.mds.yandex.net/get-zen_doc/3472576/pub_5ee5a72b790ceb604892404c_5ee5a7577641122779a4c358/scale_1200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s://calendariki.ru/upload/iblock/dec/dec4ae7891713ac5dc39dc809ed5e443.jpg"/>
          <p:cNvPicPr/>
          <p:nvPr/>
        </p:nvPicPr>
        <p:blipFill>
          <a:blip r:embed="rId2"/>
          <a:srcRect l="1068" t="82829" r="85042" b="933"/>
          <a:stretch/>
        </p:blipFill>
        <p:spPr>
          <a:xfrm>
            <a:off x="6000840" y="285840"/>
            <a:ext cx="31431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А ИНФОРМ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1-04-14T11:16:2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