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3A1-4E82-4194-85BA-26759CF8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CF5-E344-428F-9335-7740ABB2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B7C-5514-4867-9719-07B58080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627-AB31-4EDE-BC94-18C32DCC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2E6-32C4-46D1-A9DE-FF3E92B5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C64-6FFE-407C-8497-C11D5F3B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2EE-2FB8-41C8-ABEF-69C35ACA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E75-5DFB-426E-B809-AA0C3407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3B3-DD61-419C-ACBC-DF1BF197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31B-E365-47B7-84AA-C44D277C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361-6A1B-453C-8560-FAEEFC7F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AFA-3C1E-478F-A64B-B5C1063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DEDC-4916-4C6E-B352-31304D033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3504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нсультация для педагогов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Проект </a:t>
            </a:r>
            <a:br>
              <a:rPr sz="3600"/>
            </a:b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развивающей </a:t>
            </a:r>
            <a:br>
              <a:rPr sz="3600"/>
            </a:b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предметно-пространственной среды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4572000"/>
            <a:ext cx="8300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По теме: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Я расту здоровым!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(старшая групп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3520" y="228600"/>
            <a:ext cx="8453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детский сад № 2 «Солнышко» с. Богуч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10760" cy="761760"/>
          </a:xfrm>
          <a:prstGeom prst="rect">
            <a:avLst/>
          </a:prstGeom>
          <a:solidFill>
            <a:srgbClr val="ffda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Оснащение центр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ма, стол, стул, мягкие модули. корз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атериал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овый аппарат, таблетки, калькулятор, халат белый, ценники, надпись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кольные принадлежности (книжка. тетрадка, карандаши, линейка и т.д.), детские игрушки-животные, картинки съедобные 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202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нтр: строительно-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онструктивных игр</a:t>
            </a: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материал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й конструктор, мягкие модули, картинки с изображением стадиона, спортивной площ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25520"/>
          </a:xfrm>
          <a:prstGeom prst="rect">
            <a:avLst/>
          </a:prstGeom>
          <a:solidFill>
            <a:srgbClr val="f7ecb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Речевое развитие</a:t>
            </a: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нтр: развития речи «А,Б,В,Г, Дейка»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82" name="Picture 6" descr="2014-04-09_200902"/>
          <p:cNvPicPr/>
          <p:nvPr/>
        </p:nvPicPr>
        <p:blipFill>
          <a:blip r:embed="rId1"/>
          <a:stretch/>
        </p:blipFill>
        <p:spPr>
          <a:xfrm>
            <a:off x="2286000" y="205740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83" name="Рамка 7"/>
          <p:cNvSpPr/>
          <p:nvPr/>
        </p:nvSpPr>
        <p:spPr>
          <a:xfrm>
            <a:off x="2209680" y="1905120"/>
            <a:ext cx="3505320" cy="3352680"/>
          </a:xfrm>
          <a:custGeom>
            <a:avLst/>
            <a:gdLst/>
            <a:ahLst/>
            <a:rect l="l" t="t" r="r" b="b"/>
            <a:pathLst>
              <a:path w="3505200" h="3352800">
                <a:moveTo>
                  <a:pt x="0" y="0"/>
                </a:moveTo>
                <a:lnTo>
                  <a:pt x="3505200" y="0"/>
                </a:lnTo>
                <a:lnTo>
                  <a:pt x="3505200" y="3352800"/>
                </a:lnTo>
                <a:lnTo>
                  <a:pt x="0" y="3352800"/>
                </a:lnTo>
                <a:lnTo>
                  <a:pt x="0" y="0"/>
                </a:lnTo>
                <a:close/>
                <a:moveTo>
                  <a:pt x="163248" y="163248"/>
                </a:moveTo>
                <a:lnTo>
                  <a:pt x="163248" y="3189552"/>
                </a:lnTo>
                <a:lnTo>
                  <a:pt x="3341952" y="3189552"/>
                </a:lnTo>
                <a:lnTo>
                  <a:pt x="3341952" y="163248"/>
                </a:lnTo>
                <a:lnTo>
                  <a:pt x="163248" y="163248"/>
                </a:lnTo>
                <a:close/>
              </a:path>
            </a:pathLst>
          </a:custGeom>
          <a:solidFill>
            <a:srgbClr val="2cb843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снащение центра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ff"/>
                </a:solidFill>
                <a:latin typeface="Times New Roman"/>
              </a:rPr>
              <a:t>Оборудование</a:t>
            </a:r>
            <a:r>
              <a:rPr b="1" lang="ru-RU" sz="2300" spc="-1" strike="noStrike">
                <a:solidFill>
                  <a:srgbClr val="3333ff"/>
                </a:solidFill>
                <a:latin typeface="Times New Roman"/>
              </a:rPr>
              <a:t>: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фланелеграф или магнитная дос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ff"/>
                </a:solidFill>
                <a:latin typeface="Times New Roman"/>
              </a:rPr>
              <a:t>Материалы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южетные картинки о сохранении здоровья, сюжетные картинки на тему «Правила вежливости» и т.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fbee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ff"/>
                </a:solidFill>
                <a:latin typeface="Times New Roman"/>
              </a:rPr>
              <a:t>Речевое развитие</a:t>
            </a: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Центр: Мини- библиотека «Книжкин дом»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Рамка 7"/>
          <p:cNvSpPr/>
          <p:nvPr/>
        </p:nvSpPr>
        <p:spPr>
          <a:xfrm>
            <a:off x="2362320" y="1905120"/>
            <a:ext cx="3581280" cy="3581280"/>
          </a:xfrm>
          <a:custGeom>
            <a:avLst/>
            <a:gdLst/>
            <a:ahLst/>
            <a:rect l="l" t="t" r="r" b="b"/>
            <a:pathLst>
              <a:path w="3581400" h="3581400">
                <a:moveTo>
                  <a:pt x="0" y="0"/>
                </a:moveTo>
                <a:lnTo>
                  <a:pt x="3581400" y="0"/>
                </a:lnTo>
                <a:lnTo>
                  <a:pt x="3581400" y="3581400"/>
                </a:lnTo>
                <a:lnTo>
                  <a:pt x="0" y="3581400"/>
                </a:lnTo>
                <a:lnTo>
                  <a:pt x="0" y="0"/>
                </a:lnTo>
                <a:close/>
                <a:moveTo>
                  <a:pt x="176348" y="176348"/>
                </a:moveTo>
                <a:lnTo>
                  <a:pt x="176348" y="3405052"/>
                </a:lnTo>
                <a:lnTo>
                  <a:pt x="3405052" y="3405052"/>
                </a:lnTo>
                <a:lnTo>
                  <a:pt x="3405052" y="176348"/>
                </a:lnTo>
                <a:lnTo>
                  <a:pt x="176348" y="176348"/>
                </a:lnTo>
                <a:close/>
              </a:path>
            </a:pathLst>
          </a:custGeom>
          <a:solidFill>
            <a:srgbClr val="2cb843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Объект 4" descr="C:\Users\User\Desktop\img10.jpg"/>
          <p:cNvPicPr/>
          <p:nvPr/>
        </p:nvPicPr>
        <p:blipFill>
          <a:blip r:embed="rId1"/>
          <a:srcRect l="11543" t="3423" r="17520" b="9690"/>
          <a:stretch/>
        </p:blipFill>
        <p:spPr>
          <a:xfrm>
            <a:off x="2552760" y="209556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снащение центра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9140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Оборудов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ллажи, расположенные на разном уровне, стол, ст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Материал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 Синявский «Сказка про лекарственные растения», стихотворение «Боюсь врачей» автор неизвестен, Л. Соколова «Сказка про маленькую чумазку», стихи о здоровом образе жизни, К. Чуковский «Мойдоды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43000"/>
          </a:xfrm>
          <a:prstGeom prst="rect">
            <a:avLst/>
          </a:prstGeom>
          <a:solidFill>
            <a:srgbClr val="fbee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imes New Roman"/>
              </a:rPr>
              <a:t>Художественно- эстетическое развитие</a:t>
            </a: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Центр музыки и театра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Рамка 7"/>
          <p:cNvSpPr/>
          <p:nvPr/>
        </p:nvSpPr>
        <p:spPr>
          <a:xfrm>
            <a:off x="2057400" y="2133720"/>
            <a:ext cx="4267080" cy="3047760"/>
          </a:xfrm>
          <a:custGeom>
            <a:avLst/>
            <a:gdLst/>
            <a:ahLst/>
            <a:rect l="l" t="t" r="r" b="b"/>
            <a:pathLst>
              <a:path w="4267200" h="3048000">
                <a:moveTo>
                  <a:pt x="0" y="0"/>
                </a:moveTo>
                <a:lnTo>
                  <a:pt x="4267200" y="0"/>
                </a:lnTo>
                <a:lnTo>
                  <a:pt x="4267200" y="3048000"/>
                </a:lnTo>
                <a:lnTo>
                  <a:pt x="0" y="3048000"/>
                </a:lnTo>
                <a:lnTo>
                  <a:pt x="0" y="0"/>
                </a:lnTo>
                <a:close/>
                <a:moveTo>
                  <a:pt x="144932" y="144932"/>
                </a:moveTo>
                <a:lnTo>
                  <a:pt x="144932" y="2903068"/>
                </a:lnTo>
                <a:lnTo>
                  <a:pt x="4122268" y="2903068"/>
                </a:lnTo>
                <a:lnTo>
                  <a:pt x="4122268" y="144932"/>
                </a:lnTo>
                <a:lnTo>
                  <a:pt x="144932" y="144932"/>
                </a:lnTo>
                <a:close/>
              </a:path>
            </a:pathLst>
          </a:custGeom>
          <a:solidFill>
            <a:srgbClr val="2cb843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бъект 2" descr=""/>
          <p:cNvPicPr/>
          <p:nvPr/>
        </p:nvPicPr>
        <p:blipFill>
          <a:blip r:embed="rId1"/>
          <a:stretch/>
        </p:blipFill>
        <p:spPr>
          <a:xfrm>
            <a:off x="2190600" y="2316240"/>
            <a:ext cx="39657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711360"/>
          </a:xfrm>
          <a:prstGeom prst="rect">
            <a:avLst/>
          </a:prstGeom>
          <a:solidFill>
            <a:srgbClr val="ffda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снащение центра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302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ьная полка, магнито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Материал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рет композитора Д. Шостоковича, запись музыкального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fbee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imes New Roman"/>
              </a:rPr>
              <a:t>Художественно- эстетическое развитие</a:t>
            </a: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Центр творчества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3440" y="1911240"/>
            <a:ext cx="3527640" cy="3733920"/>
          </a:xfrm>
          <a:prstGeom prst="rect">
            <a:avLst/>
          </a:prstGeom>
          <a:ln w="0">
            <a:noFill/>
          </a:ln>
        </p:spPr>
      </p:pic>
      <p:sp>
        <p:nvSpPr>
          <p:cNvPr id="98" name="Рамка 7"/>
          <p:cNvSpPr/>
          <p:nvPr/>
        </p:nvSpPr>
        <p:spPr>
          <a:xfrm>
            <a:off x="2438280" y="1797120"/>
            <a:ext cx="3657600" cy="3962160"/>
          </a:xfrm>
          <a:custGeom>
            <a:avLst/>
            <a:gdLst/>
            <a:ahLst/>
            <a:rect l="l" t="t" r="r" b="b"/>
            <a:pathLst>
              <a:path w="3657600" h="3962400">
                <a:moveTo>
                  <a:pt x="0" y="0"/>
                </a:moveTo>
                <a:lnTo>
                  <a:pt x="3657600" y="0"/>
                </a:lnTo>
                <a:lnTo>
                  <a:pt x="3657600" y="3962400"/>
                </a:lnTo>
                <a:lnTo>
                  <a:pt x="0" y="3962400"/>
                </a:lnTo>
                <a:lnTo>
                  <a:pt x="0" y="0"/>
                </a:lnTo>
                <a:close/>
                <a:moveTo>
                  <a:pt x="161593" y="161593"/>
                </a:moveTo>
                <a:lnTo>
                  <a:pt x="161593" y="3800807"/>
                </a:lnTo>
                <a:lnTo>
                  <a:pt x="3496007" y="3800807"/>
                </a:lnTo>
                <a:lnTo>
                  <a:pt x="3496007" y="161593"/>
                </a:lnTo>
                <a:lnTo>
                  <a:pt x="161593" y="161593"/>
                </a:lnTo>
                <a:close/>
              </a:path>
            </a:pathLst>
          </a:custGeom>
          <a:solidFill>
            <a:srgbClr val="2cb843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снащение центра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орудов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ка,  магнитная доска, стол, 3 ст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различные по форме, цвету, фактуре. Альбомы, кисточки, краски акварельные, мелки, цветные карандаши, губки, тряпочки, салфетки, цветная бумага трафареты фруктов, овощей. Ватман, клей, нож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5" name="Рисунок 11" descr="C:\Users\Admin\Desktop\DSC06373.JPG"/>
          <p:cNvPicPr/>
          <p:nvPr/>
        </p:nvPicPr>
        <p:blipFill>
          <a:blip r:embed="rId1"/>
          <a:stretch/>
        </p:blipFill>
        <p:spPr>
          <a:xfrm>
            <a:off x="2355840" y="382680"/>
            <a:ext cx="396864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fbee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imes New Roman"/>
              </a:rPr>
              <a:t>Итоговые мероприятия по теме: </a:t>
            </a:r>
            <a:br>
              <a:rPr sz="2800"/>
            </a:br>
            <a:r>
              <a:rPr b="1" lang="ru-RU" sz="2800" spc="-1" strike="noStrike">
                <a:solidFill>
                  <a:srgbClr val="3333ff"/>
                </a:solidFill>
                <a:latin typeface="Times New Roman"/>
              </a:rPr>
              <a:t>«Я расту здоровым!»</a:t>
            </a:r>
            <a:br>
              <a:rPr sz="2800"/>
            </a:b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аж «Что полезно и что не полезно для здоровья челове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ртивное развлечение «Веселые стар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сультация для родителей «Мой режим дня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457200"/>
            <a:ext cx="4648320" cy="1295280"/>
          </a:xfrm>
          <a:prstGeom prst="rect">
            <a:avLst/>
          </a:prstGeom>
          <a:solidFill>
            <a:srgbClr val="fbee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Успехов в работе!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Рамка 5"/>
          <p:cNvSpPr/>
          <p:nvPr/>
        </p:nvSpPr>
        <p:spPr>
          <a:xfrm>
            <a:off x="2590920" y="2362320"/>
            <a:ext cx="4038480" cy="3657600"/>
          </a:xfrm>
          <a:custGeom>
            <a:avLst/>
            <a:gdLst/>
            <a:ahLst/>
            <a:rect l="l" t="t" r="r" b="b"/>
            <a:pathLst>
              <a:path w="4038600" h="3657600">
                <a:moveTo>
                  <a:pt x="0" y="0"/>
                </a:moveTo>
                <a:lnTo>
                  <a:pt x="4038600" y="0"/>
                </a:lnTo>
                <a:lnTo>
                  <a:pt x="4038600" y="3657600"/>
                </a:lnTo>
                <a:lnTo>
                  <a:pt x="0" y="3657600"/>
                </a:lnTo>
                <a:lnTo>
                  <a:pt x="0" y="0"/>
                </a:lnTo>
                <a:close/>
                <a:moveTo>
                  <a:pt x="104095" y="104095"/>
                </a:moveTo>
                <a:lnTo>
                  <a:pt x="104095" y="3553505"/>
                </a:lnTo>
                <a:lnTo>
                  <a:pt x="3934505" y="3553505"/>
                </a:lnTo>
                <a:lnTo>
                  <a:pt x="3934505" y="104095"/>
                </a:lnTo>
                <a:lnTo>
                  <a:pt x="104095" y="104095"/>
                </a:lnTo>
                <a:close/>
              </a:path>
            </a:pathLst>
          </a:custGeom>
          <a:solidFill>
            <a:srgbClr val="2cb843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u6nrbpetgch3pfdu7-e35svsev"/>
          <p:cNvPicPr/>
          <p:nvPr/>
        </p:nvPicPr>
        <p:blipFill>
          <a:blip r:embed="rId1"/>
          <a:stretch/>
        </p:blipFill>
        <p:spPr>
          <a:xfrm>
            <a:off x="3657600" y="2666880"/>
            <a:ext cx="1990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152280" y="2281320"/>
            <a:ext cx="3618000" cy="19573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Times New Roman"/>
              </a:rPr>
              <a:t>Художественно-эсте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нтр: музыки и теа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нтр: ИЗО и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4038480" y="2133720"/>
            <a:ext cx="167652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Я 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Verdana"/>
              </a:rPr>
              <a:t>здоро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80880" y="4649760"/>
            <a:ext cx="3733920" cy="19033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Times New Roman"/>
              </a:rPr>
              <a:t>Познаватель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нтр: логико-матема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1,2,3,4, 5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4383000" y="4836960"/>
            <a:ext cx="4648320" cy="1028880"/>
          </a:xfrm>
          <a:prstGeom prst="flowChartProcess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</a:rPr>
              <a:t>Физ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изкультурно-оздоровительны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Планета спор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151680" y="2143080"/>
            <a:ext cx="2819160" cy="220968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Times New Roman"/>
              </a:rPr>
              <a:t>Речев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н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тия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А,Б,В,Г,Дейк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ини-библиот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Книжкин д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 flipH="1">
            <a:off x="2590920" y="204840"/>
            <a:ext cx="4495680" cy="16333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Times New Roman"/>
              </a:rPr>
              <a:t>Социально-коммуник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нтр: сюжетно-ролев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Игрот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нтр: строите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онструктивн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Самодел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"/>
          <p:cNvSpPr/>
          <p:nvPr/>
        </p:nvSpPr>
        <p:spPr>
          <a:xfrm flipH="1">
            <a:off x="3809520" y="3657600"/>
            <a:ext cx="685800" cy="914400"/>
          </a:xfrm>
          <a:prstGeom prst="line">
            <a:avLst/>
          </a:prstGeom>
          <a:ln w="92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6"/>
          <p:cNvSpPr/>
          <p:nvPr/>
        </p:nvSpPr>
        <p:spPr>
          <a:xfrm>
            <a:off x="5410080" y="3657600"/>
            <a:ext cx="45720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Рамка 14"/>
          <p:cNvSpPr/>
          <p:nvPr/>
        </p:nvSpPr>
        <p:spPr>
          <a:xfrm>
            <a:off x="2362320" y="0"/>
            <a:ext cx="5105160" cy="2076480"/>
          </a:xfrm>
          <a:custGeom>
            <a:avLst/>
            <a:gdLst/>
            <a:ahLst/>
            <a:rect l="l" t="t" r="r" b="b"/>
            <a:pathLst>
              <a:path w="5105400" h="2076450">
                <a:moveTo>
                  <a:pt x="0" y="0"/>
                </a:moveTo>
                <a:lnTo>
                  <a:pt x="5105400" y="0"/>
                </a:lnTo>
                <a:lnTo>
                  <a:pt x="5105400" y="2076450"/>
                </a:lnTo>
                <a:lnTo>
                  <a:pt x="0" y="2076450"/>
                </a:lnTo>
                <a:lnTo>
                  <a:pt x="0" y="0"/>
                </a:lnTo>
                <a:close/>
                <a:moveTo>
                  <a:pt x="217612" y="217612"/>
                </a:moveTo>
                <a:lnTo>
                  <a:pt x="217612" y="1858838"/>
                </a:lnTo>
                <a:lnTo>
                  <a:pt x="4887788" y="1858838"/>
                </a:lnTo>
                <a:lnTo>
                  <a:pt x="4887788" y="217612"/>
                </a:lnTo>
                <a:lnTo>
                  <a:pt x="217612" y="217612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Рамка 15"/>
          <p:cNvSpPr/>
          <p:nvPr/>
        </p:nvSpPr>
        <p:spPr>
          <a:xfrm>
            <a:off x="38160" y="2209680"/>
            <a:ext cx="3809880" cy="2057400"/>
          </a:xfrm>
          <a:custGeom>
            <a:avLst/>
            <a:gdLst/>
            <a:ahLst/>
            <a:rect l="l" t="t" r="r" b="b"/>
            <a:pathLst>
              <a:path w="3810000" h="2057400">
                <a:moveTo>
                  <a:pt x="0" y="0"/>
                </a:moveTo>
                <a:lnTo>
                  <a:pt x="3810000" y="0"/>
                </a:lnTo>
                <a:lnTo>
                  <a:pt x="3810000" y="2057400"/>
                </a:lnTo>
                <a:lnTo>
                  <a:pt x="0" y="2057400"/>
                </a:lnTo>
                <a:lnTo>
                  <a:pt x="0" y="0"/>
                </a:lnTo>
                <a:close/>
                <a:moveTo>
                  <a:pt x="114556" y="114556"/>
                </a:moveTo>
                <a:lnTo>
                  <a:pt x="114556" y="1942844"/>
                </a:lnTo>
                <a:lnTo>
                  <a:pt x="3695444" y="1942844"/>
                </a:lnTo>
                <a:lnTo>
                  <a:pt x="3695444" y="114556"/>
                </a:lnTo>
                <a:lnTo>
                  <a:pt x="114556" y="114556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Рамка 17"/>
          <p:cNvSpPr/>
          <p:nvPr/>
        </p:nvSpPr>
        <p:spPr>
          <a:xfrm>
            <a:off x="4383000" y="4724280"/>
            <a:ext cx="4761000" cy="1219320"/>
          </a:xfrm>
          <a:custGeom>
            <a:avLst/>
            <a:gdLst/>
            <a:ahLst/>
            <a:rect l="l" t="t" r="r" b="b"/>
            <a:pathLst>
              <a:path w="4760912" h="1219200">
                <a:moveTo>
                  <a:pt x="0" y="0"/>
                </a:moveTo>
                <a:lnTo>
                  <a:pt x="4760912" y="0"/>
                </a:lnTo>
                <a:lnTo>
                  <a:pt x="4760912" y="1219200"/>
                </a:lnTo>
                <a:lnTo>
                  <a:pt x="0" y="1219200"/>
                </a:lnTo>
                <a:lnTo>
                  <a:pt x="0" y="0"/>
                </a:lnTo>
                <a:close/>
                <a:moveTo>
                  <a:pt x="62630" y="62630"/>
                </a:moveTo>
                <a:lnTo>
                  <a:pt x="62630" y="1156570"/>
                </a:lnTo>
                <a:lnTo>
                  <a:pt x="4698282" y="1156570"/>
                </a:lnTo>
                <a:lnTo>
                  <a:pt x="4698282" y="62630"/>
                </a:lnTo>
                <a:lnTo>
                  <a:pt x="62630" y="626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мка 18"/>
          <p:cNvSpPr/>
          <p:nvPr/>
        </p:nvSpPr>
        <p:spPr>
          <a:xfrm>
            <a:off x="228600" y="4572000"/>
            <a:ext cx="4038480" cy="2057400"/>
          </a:xfrm>
          <a:custGeom>
            <a:avLst/>
            <a:gdLst/>
            <a:ahLst/>
            <a:rect l="l" t="t" r="r" b="b"/>
            <a:pathLst>
              <a:path w="4038600" h="2057400">
                <a:moveTo>
                  <a:pt x="0" y="0"/>
                </a:moveTo>
                <a:lnTo>
                  <a:pt x="4038600" y="0"/>
                </a:lnTo>
                <a:lnTo>
                  <a:pt x="4038600" y="2057400"/>
                </a:lnTo>
                <a:lnTo>
                  <a:pt x="0" y="2057400"/>
                </a:lnTo>
                <a:lnTo>
                  <a:pt x="0" y="0"/>
                </a:lnTo>
                <a:close/>
                <a:moveTo>
                  <a:pt x="157432" y="157432"/>
                </a:moveTo>
                <a:lnTo>
                  <a:pt x="157432" y="1899968"/>
                </a:lnTo>
                <a:lnTo>
                  <a:pt x="3881168" y="1899968"/>
                </a:lnTo>
                <a:lnTo>
                  <a:pt x="3881168" y="157432"/>
                </a:lnTo>
                <a:lnTo>
                  <a:pt x="157432" y="157432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 flipV="1">
            <a:off x="3601800" y="2381400"/>
            <a:ext cx="664920" cy="56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 flipV="1">
            <a:off x="5181480" y="1676160"/>
            <a:ext cx="609840" cy="685800"/>
          </a:xfrm>
          <a:prstGeom prst="line">
            <a:avLst/>
          </a:prstGeom>
          <a:ln w="92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Рамка 16"/>
          <p:cNvSpPr/>
          <p:nvPr/>
        </p:nvSpPr>
        <p:spPr>
          <a:xfrm>
            <a:off x="6151680" y="2085840"/>
            <a:ext cx="2896920" cy="2324160"/>
          </a:xfrm>
          <a:custGeom>
            <a:avLst/>
            <a:gdLst/>
            <a:ahLst/>
            <a:rect l="l" t="t" r="r" b="b"/>
            <a:pathLst>
              <a:path w="2897187" h="2324100">
                <a:moveTo>
                  <a:pt x="0" y="0"/>
                </a:moveTo>
                <a:lnTo>
                  <a:pt x="2897187" y="0"/>
                </a:lnTo>
                <a:lnTo>
                  <a:pt x="2897187" y="2324100"/>
                </a:lnTo>
                <a:lnTo>
                  <a:pt x="0" y="2324100"/>
                </a:lnTo>
                <a:lnTo>
                  <a:pt x="0" y="0"/>
                </a:lnTo>
                <a:close/>
                <a:moveTo>
                  <a:pt x="165290" y="165290"/>
                </a:moveTo>
                <a:lnTo>
                  <a:pt x="165290" y="2158810"/>
                </a:lnTo>
                <a:lnTo>
                  <a:pt x="2731897" y="2158810"/>
                </a:lnTo>
                <a:lnTo>
                  <a:pt x="2731897" y="165290"/>
                </a:lnTo>
                <a:lnTo>
                  <a:pt x="165290" y="16529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5638680" y="3048120"/>
            <a:ext cx="6098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fbee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Общие правила для групп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 схемы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говаривайся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ждой вещи - свое место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умай, размышля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fbee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ff"/>
                </a:solidFill>
                <a:latin typeface="Times New Roman"/>
              </a:rPr>
              <a:t>Физическое развитие</a:t>
            </a:r>
            <a:br>
              <a:rPr sz="3600"/>
            </a:br>
            <a:r>
              <a:rPr b="1" lang="ru-RU" sz="3200" spc="-1" strike="noStrike">
                <a:solidFill>
                  <a:srgbClr val="e42b00"/>
                </a:solidFill>
                <a:latin typeface="Times New Roman"/>
              </a:rPr>
              <a:t>Физкультурно-оздоровительный центр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65" name="Рисунок 7" descr="C:\Users\User\Desktop\a96ac65d57ba2bce027922b8def1522b_big.jpg"/>
          <p:cNvPicPr/>
          <p:nvPr/>
        </p:nvPicPr>
        <p:blipFill>
          <a:blip r:embed="rId1"/>
          <a:stretch/>
        </p:blipFill>
        <p:spPr>
          <a:xfrm>
            <a:off x="2057400" y="1676520"/>
            <a:ext cx="5364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Оснащение центр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263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нелеграф, различное  спортивное оборудование, гимнастические коврики, необходимые атрибуты для с/р игр (Апт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южетные картинки о соблюдении режима дня, выполнение гигиенических процедур, аудиозапись ритмичной музыки, вырезанные из картона кирпичики с рисунками (фрукты, спорт, закаливание, воздушные процедуры, спящий ребенок, прогулка в парке, полный ребенок который ест много сладостей, ребенок у телевизора, компьютера, сборник детских поэтических произведений, сюжетные картинки на тему «Режим дня». «Виды спор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2880" y="380520"/>
            <a:ext cx="7977240" cy="1249560"/>
          </a:xfrm>
          <a:prstGeom prst="rect">
            <a:avLst/>
          </a:prstGeom>
          <a:solidFill>
            <a:srgbClr val="fbee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ff"/>
                </a:solidFill>
                <a:latin typeface="Times New Roman"/>
              </a:rPr>
              <a:t>Познавательное развитие</a:t>
            </a:r>
            <a:br>
              <a:rPr sz="3600"/>
            </a:br>
            <a:r>
              <a:rPr b="0" lang="ru-RU" sz="3200" spc="-1" strike="noStrike">
                <a:solidFill>
                  <a:srgbClr val="e42b00"/>
                </a:solidFill>
                <a:latin typeface="Times New Roman"/>
              </a:rPr>
              <a:t>Логико-математический центр </a:t>
            </a:r>
            <a:br>
              <a:rPr sz="3200"/>
            </a:br>
            <a:r>
              <a:rPr b="0" lang="ru-RU" sz="3200" spc="-1" strike="noStrike">
                <a:solidFill>
                  <a:srgbClr val="e42b00"/>
                </a:solidFill>
                <a:latin typeface="Times New Roman"/>
              </a:rPr>
              <a:t>«1, 2, 3, 4, 5»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57680" y="5257440"/>
            <a:ext cx="7524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http://im4-tub-ru.yandex.net/i?id=103757050-35-72&amp;n=21"/>
          <p:cNvPicPr/>
          <p:nvPr/>
        </p:nvPicPr>
        <p:blipFill>
          <a:blip r:embed="rId1"/>
          <a:stretch/>
        </p:blipFill>
        <p:spPr>
          <a:xfrm>
            <a:off x="3048120" y="2062080"/>
            <a:ext cx="2743200" cy="4037040"/>
          </a:xfrm>
          <a:prstGeom prst="rect">
            <a:avLst/>
          </a:prstGeom>
          <a:ln w="0">
            <a:noFill/>
          </a:ln>
        </p:spPr>
      </p:pic>
      <p:sp>
        <p:nvSpPr>
          <p:cNvPr id="71" name="Рамка 7"/>
          <p:cNvSpPr/>
          <p:nvPr/>
        </p:nvSpPr>
        <p:spPr>
          <a:xfrm>
            <a:off x="3063960" y="2062080"/>
            <a:ext cx="2819160" cy="4038840"/>
          </a:xfrm>
          <a:custGeom>
            <a:avLst/>
            <a:gdLst/>
            <a:ahLst/>
            <a:rect l="l" t="t" r="r" b="b"/>
            <a:pathLst>
              <a:path w="2819400" h="4038600">
                <a:moveTo>
                  <a:pt x="0" y="0"/>
                </a:moveTo>
                <a:lnTo>
                  <a:pt x="2819400" y="0"/>
                </a:lnTo>
                <a:lnTo>
                  <a:pt x="2819400" y="4038600"/>
                </a:lnTo>
                <a:lnTo>
                  <a:pt x="0" y="4038600"/>
                </a:lnTo>
                <a:lnTo>
                  <a:pt x="0" y="0"/>
                </a:lnTo>
                <a:close/>
                <a:moveTo>
                  <a:pt x="231360" y="231360"/>
                </a:moveTo>
                <a:lnTo>
                  <a:pt x="231360" y="3807240"/>
                </a:lnTo>
                <a:lnTo>
                  <a:pt x="2588040" y="3807240"/>
                </a:lnTo>
                <a:lnTo>
                  <a:pt x="2588040" y="231360"/>
                </a:lnTo>
                <a:lnTo>
                  <a:pt x="231360" y="231360"/>
                </a:lnTo>
                <a:close/>
              </a:path>
            </a:pathLst>
          </a:custGeom>
          <a:solidFill>
            <a:srgbClr val="2cb843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Оснащение центр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26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фланелеграф,  магнитная доска, две  корзи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атериалы: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ный материал(нарисованные на картоне фрукты): Различные предметы: вилки, ложки. Тряпичные носовые платочки, тетрадка, ножницы, тарелка, шарфик. Стаканчики пластмассовые, различные игрушки, кусочек ваты, резиновый мячик, шерстяная варежка, губ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с изображением различных продуктов: фруктов, овощей. Каш, супов, чипсов, газированного лимонада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10400" cy="1600200"/>
          </a:xfrm>
          <a:prstGeom prst="rect">
            <a:avLst/>
          </a:prstGeom>
          <a:solidFill>
            <a:srgbClr val="fbee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ff"/>
                </a:solidFill>
                <a:latin typeface="Times New Roman"/>
              </a:rPr>
              <a:t>Социально-коммуникативное развитие</a:t>
            </a:r>
            <a:br>
              <a:rPr sz="3600"/>
            </a:br>
            <a:r>
              <a:rPr b="1" lang="ru-RU" sz="3600" spc="-1" strike="noStrike">
                <a:solidFill>
                  <a:srgbClr val="e42b00"/>
                </a:solidFill>
                <a:latin typeface="Times New Roman"/>
              </a:rPr>
              <a:t>Центр: сюжетно – ролевых игр</a:t>
            </a:r>
            <a:br>
              <a:rPr sz="3600"/>
            </a:br>
            <a:r>
              <a:rPr b="1" lang="ru-RU" sz="3600" spc="-1" strike="noStrike">
                <a:solidFill>
                  <a:srgbClr val="e42b00"/>
                </a:solidFill>
                <a:latin typeface="Times New Roman"/>
              </a:rPr>
              <a:t>«Игротека»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5" name="Рамка 9"/>
          <p:cNvSpPr/>
          <p:nvPr/>
        </p:nvSpPr>
        <p:spPr>
          <a:xfrm>
            <a:off x="2438280" y="2286000"/>
            <a:ext cx="3657600" cy="3809880"/>
          </a:xfrm>
          <a:custGeom>
            <a:avLst/>
            <a:gdLst/>
            <a:ahLst/>
            <a:rect l="l" t="t" r="r" b="b"/>
            <a:pathLst>
              <a:path w="3657600" h="3810000">
                <a:moveTo>
                  <a:pt x="0" y="0"/>
                </a:moveTo>
                <a:lnTo>
                  <a:pt x="3657600" y="0"/>
                </a:lnTo>
                <a:lnTo>
                  <a:pt x="3657600" y="3810000"/>
                </a:lnTo>
                <a:lnTo>
                  <a:pt x="0" y="3810000"/>
                </a:lnTo>
                <a:lnTo>
                  <a:pt x="0" y="0"/>
                </a:lnTo>
                <a:close/>
                <a:moveTo>
                  <a:pt x="166238" y="166238"/>
                </a:moveTo>
                <a:lnTo>
                  <a:pt x="166238" y="3643762"/>
                </a:lnTo>
                <a:lnTo>
                  <a:pt x="3491362" y="3643762"/>
                </a:lnTo>
                <a:lnTo>
                  <a:pt x="3491362" y="166238"/>
                </a:lnTo>
                <a:lnTo>
                  <a:pt x="166238" y="166238"/>
                </a:lnTo>
                <a:close/>
              </a:path>
            </a:pathLst>
          </a:custGeom>
          <a:solidFill>
            <a:srgbClr val="2cb843"/>
          </a:solidFill>
          <a:ln w="25560">
            <a:solidFill>
              <a:srgbClr val="b9a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Объект 5" descr="C:\Users\User\Desktop\Слайд5 — копия.JPG"/>
          <p:cNvPicPr/>
          <p:nvPr/>
        </p:nvPicPr>
        <p:blipFill>
          <a:blip r:embed="rId1"/>
          <a:srcRect l="27323" t="33181" r="45610" b="39454"/>
          <a:stretch/>
        </p:blipFill>
        <p:spPr>
          <a:xfrm>
            <a:off x="2590920" y="2552760"/>
            <a:ext cx="3352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est_user</dc:creator>
  <dc:description/>
  <dc:language>en-US</dc:language>
  <cp:lastModifiedBy>User</cp:lastModifiedBy>
  <dcterms:modified xsi:type="dcterms:W3CDTF">2021-10-24T02:38:21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