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8CF-FE9C-4F8C-9427-CC78FE0A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5F7-1304-43D7-805B-10FC86D8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284-4E9E-4DBF-BA42-2DB4AC4F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CC6-B8D4-4173-B74D-FF768DB5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2EA4-AD64-4A6E-B3DB-A37EC0EF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FAD6-13D9-4AF1-A0B1-EFB9B4AA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B6F0-E514-4E8C-8B0B-2E481618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FE97-C09F-4F56-A644-970EEEDF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ABC7-030B-4617-9B7B-C64EEE89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79D3-4748-409A-8C02-D5763C14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2044-B44A-46D9-9068-6AF7387A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2EE-24E9-49E2-8123-69063C62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B828-96F6-4496-A695-F4C22DB6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3F6F-774A-4C9D-BCF5-9E4F8419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F836-2EB4-406E-ABA4-119CF84D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8DB3-59A9-43D0-8B56-80D0FCD2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F21B-6EFA-4781-8E1D-37DE7182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B8A9-69E9-45ED-ACAE-50904D16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F8DFF-8A21-420A-B0C1-6331567B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E5B68-530B-4128-95D1-C1FC6E63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B599-65BF-4D0A-8F1D-F408D22E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68035-2C4C-4930-ABF4-52E6EC9F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79A-3F0D-4039-8F18-E43D850C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A2CEC-CDF8-4C20-B8C6-58CCF2B4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2669D-96F6-4513-8FFF-31755FB7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3EE7-878B-4981-AD5E-42FFB144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61ECC-A261-47A2-8D03-B7786410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DBFFB-29D5-4474-AF2B-428DF313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0242-20EB-4A08-9618-CCE816DF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7513A-0295-445C-BD15-CAE0E74A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D1F-40E4-4457-A068-024D2064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E07-6EA9-4994-8202-8FF2C73E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5E5-9505-4225-939B-B254C88E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00B-EBD3-4983-B572-1CD1658A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2FBE-37AD-4774-957E-6BB1B1F6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89B-087E-493D-B8CC-362C22BD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81E4-759D-4A21-8263-106F64547E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3251-D721-491B-B2D2-2B2E200B84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E6E4-BE2A-43DE-B520-AAD297A808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51ca0"/>
                </a:solidFill>
                <a:latin typeface="Times New Roman"/>
                <a:ea typeface="Times New Roman"/>
              </a:rPr>
              <a:t>Мы рисуем мор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26920" y="4437000"/>
            <a:ext cx="8229600" cy="13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Вайчик С.Н., воспитатель ГП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гимназии № 159 Калинин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1ca0"/>
                </a:solidFill>
                <a:latin typeface="Times New Roman"/>
                <a:ea typeface="Times New Roman"/>
              </a:rPr>
              <a:t>Каких морских обитателей </a:t>
            </a:r>
            <a:br>
              <a:rPr sz="4400"/>
            </a:br>
            <a:r>
              <a:rPr b="1" lang="ru-RU" sz="4400" spc="-1" strike="noStrike">
                <a:solidFill>
                  <a:srgbClr val="351ca0"/>
                </a:solidFill>
                <a:latin typeface="Times New Roman"/>
                <a:ea typeface="Times New Roman"/>
              </a:rPr>
              <a:t>знаете в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8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1ca0"/>
                </a:solidFill>
                <a:latin typeface="Times New Roman"/>
                <a:ea typeface="Times New Roman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Объект 2"/>
          <p:cNvSpPr/>
          <p:nvPr/>
        </p:nvSpPr>
        <p:spPr>
          <a:xfrm>
            <a:off x="755640" y="1346040"/>
            <a:ext cx="490680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волной дугою взвилс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нкой чёрной заискрил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о Гагр плывёт… Афин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брюхий кт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4438800" y="285264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лешнями щиплет боль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ричит: «С меня довольно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стал. Я вам не раб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угал соседей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684360" y="44226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се под водой они живут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И плавать могут там и ту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Красивые, отважные таки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Бывают даже золотые.</a:t>
            </a: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1ca0"/>
                </a:solidFill>
                <a:latin typeface="Times New Roman"/>
                <a:ea typeface="Times New Roman"/>
              </a:rPr>
              <a:t>«Морские рыб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2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1755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1ca0"/>
                </a:solidFill>
                <a:latin typeface="Times New Roman"/>
                <a:ea typeface="Times New Roman"/>
              </a:rPr>
              <a:t>Рисуем мо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1116000" y="1722600"/>
            <a:ext cx="69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200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Какого цвета вода в море, каким цветом ее можно рисов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200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А что еще кроме воды можно нарисовать в мор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го начинаем рисовать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ем потом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аканчиваем работ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8" descr=""/>
          <p:cNvPicPr/>
          <p:nvPr/>
        </p:nvPicPr>
        <p:blipFill>
          <a:blip r:embed="rId1"/>
          <a:stretch/>
        </p:blipFill>
        <p:spPr>
          <a:xfrm rot="1077000">
            <a:off x="5605560" y="3879360"/>
            <a:ext cx="1815840" cy="18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1ca0"/>
                </a:solidFill>
                <a:latin typeface="Times New Roman"/>
                <a:ea typeface="Times New Roman"/>
              </a:rPr>
              <a:t>Наши рисун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863640" y="1434960"/>
            <a:ext cx="3240000" cy="1898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7" name="Рисунок 2" descr=""/>
          <p:cNvPicPr/>
          <p:nvPr/>
        </p:nvPicPr>
        <p:blipFill>
          <a:blip r:embed="rId2"/>
          <a:stretch/>
        </p:blipFill>
        <p:spPr>
          <a:xfrm>
            <a:off x="4795920" y="1398600"/>
            <a:ext cx="3224160" cy="2185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8" name="Picture 6" descr="SAM_1276"/>
          <p:cNvPicPr/>
          <p:nvPr/>
        </p:nvPicPr>
        <p:blipFill>
          <a:blip r:embed="rId3"/>
          <a:stretch/>
        </p:blipFill>
        <p:spPr>
          <a:xfrm>
            <a:off x="863640" y="3789360"/>
            <a:ext cx="3263760" cy="2257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9" name="Picture 10" descr="SAM_1344"/>
          <p:cNvPicPr/>
          <p:nvPr/>
        </p:nvPicPr>
        <p:blipFill>
          <a:blip r:embed="rId4"/>
          <a:stretch/>
        </p:blipFill>
        <p:spPr>
          <a:xfrm>
            <a:off x="4716360" y="3789360"/>
            <a:ext cx="323388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86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51ca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4" descr=""/>
          <p:cNvPicPr/>
          <p:nvPr/>
        </p:nvPicPr>
        <p:blipFill>
          <a:blip r:embed="rId1"/>
          <a:stretch/>
        </p:blipFill>
        <p:spPr>
          <a:xfrm>
            <a:off x="2340000" y="2411280"/>
            <a:ext cx="42084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1:22:36Z</dcterms:created>
  <dc:creator>Natasha</dc:creator>
  <dc:description/>
  <dc:language>en-US</dc:language>
  <cp:lastModifiedBy>Натали</cp:lastModifiedBy>
  <dcterms:modified xsi:type="dcterms:W3CDTF">2021-10-24T08:58:10Z</dcterms:modified>
  <cp:revision>29</cp:revision>
  <dc:subject/>
  <dc:title>Презентация PowerPoint</dc:title>
</cp:coreProperties>
</file>