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B12-4B58-4F9B-8985-3F9E2032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C77-BD2F-4922-87F5-F2A18902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8D086-7B0D-49EC-9214-BC57CB2C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CF5BC-C183-4300-90B5-7AD93C5C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BBD65-BE32-4092-9507-A8A46CD6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7C6C7-9B3B-481F-8A22-20D58504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89975-094F-43DB-A14F-39294BB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2868F-D39E-4EB0-B310-27B17D8B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8D6D9-D384-41FA-9DF7-01887957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6A392-7267-43FB-9036-1D99719C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2C3F0-E0DC-4DB1-8574-6CF40F65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9CBB3-64B4-4AF2-B5B0-32E2D747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4AE-2837-4198-AF0B-88E3BE8B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E1AFB-C5A6-467B-AC65-B3698E95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245B3-6380-4509-A2A4-ADBD3AF5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3DCA4-8F75-4B26-BA62-3066B3EA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8753D-B8F0-49CE-8691-8345A648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850C1-F032-4717-8682-843EA4D7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E4941-98E5-48DD-B39D-A3429F26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AB2DF-BE8B-4A1B-9813-C25F1E96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37143-15B3-4338-B523-D0DF252E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386D2-DAE7-4934-BA82-EE2B1D3F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5E7FD-1300-4CD7-8A75-FF5E9FB2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BE5-45DC-4E75-B395-D617CEE5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F2144-99E9-4438-B3D2-9EF82322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17EF5-3969-4836-BDA8-FD680443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141A3-3FB0-4927-BC3C-797C5762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BCC51-055C-47D3-8848-7C9B0244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BBF7D-5C15-4E99-8F10-2F4D88BD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EA5BD-7AB6-49C5-988D-E7728D7D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26C9B-D60F-4F8E-A60A-EF4C0D8D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5912C-5A93-4DF5-95B2-57F0C4F3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63ABA-D797-453C-97E2-92A43CE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2858F-93A3-4D28-9DCB-F3A08A84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968D-DE18-4DC0-A287-1430EC7E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B3C49-02D2-449A-A14C-0CBC704F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C550D-6350-4096-8E67-66EA1BAC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81FD4-ED94-435B-B900-C8C9C661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7DDC5-F465-4070-BF26-12AC925D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20E39-E753-4B40-82DE-C247A673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9DFC4-7609-47A9-9263-DFDFACB6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B59A3-0372-4A91-80D1-44600842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85286-AE60-4F8B-8AB4-4FB60D3B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E286F-F377-4797-9BC1-DE61F6E7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3F18A-3222-413F-8BB4-30BBB27D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14BC-E153-4E40-A90B-0D92A0F2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BDED4-8D03-4641-86ED-28FA8170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08771-79D4-4B02-AFB1-F7D02278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74D4A-5223-4533-A609-986ECA05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EE49F-037C-4580-B6C9-7FDDB533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887A3-88EC-4A6F-930D-EF530097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851F-AE68-4DA5-9E3F-7F362AC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4B44-8EA9-47AA-8952-FD449476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E287-3ADA-4A3B-BFAC-CCE36A48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822F-74A4-421B-B221-D9B5CCE8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1207-3938-4F00-9148-3D487E1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92D-B3BC-4FA7-9148-080AA3C4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DA82-82F1-4C6F-9138-EBE5A277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C71D-A06C-4440-884E-60CD2C69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ED0D-D983-4EBE-A92A-CAFA7C23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CFD3-77A1-4764-98F3-E4CB208F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8467-F969-42CF-9D04-5AF2486B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1A58-6E1B-426C-B1AD-5D437BF0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03E9-F7BB-4003-A08E-9313AE8D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18B7-0DA7-4DFB-B47F-E10060F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82D4-77E4-4C5B-BD93-4434E632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DBDD-8A3F-4D71-8A21-A584D664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344-AC02-4EE4-89BF-130D6E2E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C3375-A3AF-4D71-972B-6715A0C2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ACE8D-5754-4EBE-BBBD-DF6E3074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A46F-2F0A-4DB9-8FEA-47E92D1C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0F0CF-5A48-440A-8D40-C2D533DD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530F-117F-4F7B-B3F8-1046527F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07F5-F845-42F9-9344-DE414C12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36F4-7991-4E4F-B0D5-DA773582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41467-06FC-4DA8-8A87-5DA428C6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1470-9265-4EAE-AEC9-6C074615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36307-90F3-4083-9B80-BE33BB19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41C-5D4B-4C58-A9F5-C625E51B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1CAD8-FF42-4544-8956-41E0CAB4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3A213-FB73-4BDE-BB80-FA48A0F3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CC977-B189-40C0-8408-A189D1C3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99C7B-28F3-4451-A194-CDC43C07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938C-8F1C-4A61-9918-1F3B012D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C5FE-91F5-4B4E-BF51-56AB5C59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FB477-F2DB-495E-9904-BB2EF1AA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AF1C2-332A-4150-BA1A-C8FAE326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EA51-A2B4-4627-B6B2-3EDE077A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5D3CF-91F2-4B14-BA8E-CD2FF1F5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90F-F1A2-43E3-92C8-7B73F501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0BB36-BEBB-4D26-BC6A-94F73D1A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DAEF9-2943-4CE9-A680-ACCC340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A99D1-BE90-4D8E-817E-F556DC24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C8BC-94DB-43A1-A307-593DB5AD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7F6AC-823B-4947-9DA1-A2521D7B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BF06F-09B6-46EB-BAD8-3E7E44CC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A16C4-4E59-4DFF-A52B-93522037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AB76D-CE22-4955-85C3-E98F2A22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BFF8-51F9-4B13-93CD-1BA06A56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87EAA-BD91-489F-9CC1-EA1B5036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078-8FEF-442E-99D7-840DD02C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72688-242B-4D6C-8C4F-79BC0D39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3C540-9308-4CE3-955D-720F9C31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00BA5-7CD1-4804-BECB-1C5FEC19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4D20D-53EB-4627-AAB2-E5958FC5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01951-692F-4ECB-91F4-7A941237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716FF-945B-4D1C-8C5A-164DEE0D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262B7-4EFB-4F62-8ABC-5EAF0797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59BA7-C025-45C5-B3F0-58FC39DE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E9A97-7A11-4758-A485-8282F7B4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0AA64-7B20-4A74-8848-C48012F0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ECA-6F73-483B-9169-3DB1FA4E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B2660-2E73-42FD-954F-F86361C1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11FB0-7D4C-4B1C-9CDF-D18AFF35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84DDF-DEB2-4BAF-B31E-A325D34B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F65D5-EE38-45EE-8145-80D56714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3C842-40E3-45BC-AE6E-572F3460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EAAC4-869C-4D9F-B015-8AB6A7BD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06AD0-31C8-49DC-9A44-9970731F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476C9-8275-4824-BFEF-D059B280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0743E-D596-413C-9BF6-6A05D877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35F2-2B09-4A63-8E56-8ECDFE0C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488-EC40-4D15-8974-2539F92E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C6490-6812-4B78-B183-387E2DE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158CB-2184-4CF8-BAAD-CA5F69A6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FC4E9-5B1B-4746-AEDE-6E5D7852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6B56-2A36-4F60-9FC9-66F6DB2A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AEFF7-40A9-418C-AEFC-6173E272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71D2B-804D-44EF-8EA8-37CECF8E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57EBD-5C4E-4F44-BFD1-E5B8A62D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B9793-2821-452E-8D50-BA9EC59B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D448E-18B6-4D5B-BA66-40AFC33C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8E1B2-82CA-46CC-A321-FD61DA43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497-2611-485A-9AB6-6E7DFA80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3168F-0CA2-4F1B-8EBE-EAF940F3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E6B20-008D-4364-B635-3733F096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53CD6-9170-4BD7-AD79-63E27AD2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BD075-0E82-4685-93A0-B44D1310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F4898-4F11-42ED-A453-EDE5049E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D7F2-9D2C-4FA1-A0CD-E67E45F7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C255F-72E9-43CF-AC42-F5723795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418A6-7432-45F0-8B3C-87B0BA3B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BEF62-EAE5-4761-BF12-00FB2042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DF799-AF8C-4348-885E-310E4E60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3C9B-4224-4558-9C14-A61D81BB50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1B69-2B7B-4638-A5F4-04CD7E08BE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B3DE-3CDE-470C-95F9-55F46483E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08D6-EB1B-4718-BD88-27C5A4BAD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967B-B844-413F-9352-5DD28E3E4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82F6-3C69-43DA-B1BB-AC4761609E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898B-BFC1-41B7-8790-0349696D3E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A1C9-A0A3-409E-9663-41BF72F778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D049-FF63-4D01-911F-C7B624470C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C393-E8C5-44DE-9739-B31171D7CE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E096-6936-449F-AF05-3BCECC813E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a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2F75-D680-4015-A3F2-59216DC257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7" descr="e6890e58fdf60687e3a4a155c424b4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6" descr="василиса.jpg"/>
          <p:cNvPicPr/>
          <p:nvPr/>
        </p:nvPicPr>
        <p:blipFill>
          <a:blip r:embed="rId2"/>
          <a:stretch/>
        </p:blipFill>
        <p:spPr>
          <a:xfrm>
            <a:off x="0" y="1371600"/>
            <a:ext cx="4075200" cy="5486400"/>
          </a:xfrm>
          <a:prstGeom prst="rect">
            <a:avLst/>
          </a:prstGeom>
          <a:ln w="0">
            <a:noFill/>
          </a:ln>
        </p:spPr>
      </p:pic>
      <p:pic>
        <p:nvPicPr>
          <p:cNvPr id="495" name="Содержимое 5" descr="137707.jpg"/>
          <p:cNvPicPr/>
          <p:nvPr/>
        </p:nvPicPr>
        <p:blipFill>
          <a:blip r:embed="rId3"/>
          <a:stretch/>
        </p:blipFill>
        <p:spPr>
          <a:xfrm>
            <a:off x="6000840" y="642960"/>
            <a:ext cx="2928960" cy="6215040"/>
          </a:xfrm>
          <a:prstGeom prst="rect">
            <a:avLst/>
          </a:prstGeom>
          <a:ln w="0">
            <a:noFill/>
          </a:ln>
        </p:spPr>
      </p:pic>
      <p:pic>
        <p:nvPicPr>
          <p:cNvPr id="496" name="Прямоугольник 8" descr=""/>
          <p:cNvPicPr/>
          <p:nvPr/>
        </p:nvPicPr>
        <p:blipFill>
          <a:blip r:embed="rId4"/>
          <a:stretch/>
        </p:blipFill>
        <p:spPr>
          <a:xfrm>
            <a:off x="1444680" y="-212760"/>
            <a:ext cx="5810040" cy="11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Рисунок 4" descr="nature1-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Содержимое 3" descr="filecMXyRA.jpg"/>
          <p:cNvPicPr/>
          <p:nvPr/>
        </p:nvPicPr>
        <p:blipFill>
          <a:blip r:embed="rId2"/>
          <a:stretch/>
        </p:blipFill>
        <p:spPr>
          <a:xfrm>
            <a:off x="5715000" y="1571760"/>
            <a:ext cx="3638520" cy="5597280"/>
          </a:xfrm>
          <a:prstGeom prst="rect">
            <a:avLst/>
          </a:prstGeom>
          <a:ln w="0">
            <a:noFill/>
          </a:ln>
        </p:spPr>
      </p:pic>
      <p:pic>
        <p:nvPicPr>
          <p:cNvPr id="571" name="Прямоугольник 5" descr=""/>
          <p:cNvPicPr/>
          <p:nvPr/>
        </p:nvPicPr>
        <p:blipFill>
          <a:blip r:embed="rId3"/>
          <a:stretch/>
        </p:blipFill>
        <p:spPr>
          <a:xfrm>
            <a:off x="-195120" y="-133200"/>
            <a:ext cx="9650160" cy="822240"/>
          </a:xfrm>
          <a:prstGeom prst="rect">
            <a:avLst/>
          </a:prstGeom>
          <a:ln w="0">
            <a:noFill/>
          </a:ln>
        </p:spPr>
      </p:pic>
      <p:pic>
        <p:nvPicPr>
          <p:cNvPr id="572" name="Содержимое 3" descr="ванька.jpg"/>
          <p:cNvPicPr/>
          <p:nvPr/>
        </p:nvPicPr>
        <p:blipFill>
          <a:blip r:embed="rId4"/>
          <a:stretch/>
        </p:blipFill>
        <p:spPr>
          <a:xfrm>
            <a:off x="0" y="1125360"/>
            <a:ext cx="2357280" cy="52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Содержимое 5" descr="вст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11430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са спасен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Рисунок 8" descr="e6890e58fdf60687e3a4a155c424b4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Содержимое 10" descr="bdfy.jpg"/>
          <p:cNvPicPr/>
          <p:nvPr/>
        </p:nvPicPr>
        <p:blipFill>
          <a:blip r:embed="rId2"/>
          <a:stretch/>
        </p:blipFill>
        <p:spPr>
          <a:xfrm>
            <a:off x="6643800" y="4071960"/>
            <a:ext cx="2500200" cy="3252600"/>
          </a:xfrm>
          <a:prstGeom prst="rect">
            <a:avLst/>
          </a:prstGeom>
          <a:ln w="0">
            <a:noFill/>
          </a:ln>
        </p:spPr>
      </p:pic>
      <p:grpSp>
        <p:nvGrpSpPr>
          <p:cNvPr id="500" name="Овальная выноска 13"/>
          <p:cNvGrpSpPr/>
          <p:nvPr/>
        </p:nvGrpSpPr>
        <p:grpSpPr>
          <a:xfrm>
            <a:off x="3524400" y="378000"/>
            <a:ext cx="5503680" cy="4322520"/>
            <a:chOff x="3524400" y="378000"/>
            <a:chExt cx="5503680" cy="4322520"/>
          </a:xfrm>
        </p:grpSpPr>
        <p:pic>
          <p:nvPicPr>
            <p:cNvPr id="501" name="Овальная выноска 13" descr=""/>
            <p:cNvPicPr/>
            <p:nvPr/>
          </p:nvPicPr>
          <p:blipFill>
            <a:blip r:embed="rId3"/>
            <a:stretch/>
          </p:blipFill>
          <p:spPr>
            <a:xfrm>
              <a:off x="3524400" y="378000"/>
              <a:ext cx="550368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4352760" y="965160"/>
              <a:ext cx="3851280" cy="26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3" name="Прямоугольник 14" descr=""/>
          <p:cNvPicPr/>
          <p:nvPr/>
        </p:nvPicPr>
        <p:blipFill>
          <a:blip r:embed="rId4"/>
          <a:stretch/>
        </p:blipFill>
        <p:spPr>
          <a:xfrm>
            <a:off x="4419720" y="1468440"/>
            <a:ext cx="4017960" cy="16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7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м на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2"/>
          <p:cNvSpPr/>
          <p:nvPr/>
        </p:nvSpPr>
        <p:spPr>
          <a:xfrm>
            <a:off x="6372360" y="2421000"/>
            <a:ext cx="86508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72360" y="3357720"/>
            <a:ext cx="86508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372360" y="4294080"/>
            <a:ext cx="865080" cy="50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5" descr="77a14e0af077"/>
          <p:cNvPicPr/>
          <p:nvPr/>
        </p:nvPicPr>
        <p:blipFill>
          <a:blip r:embed="rId1"/>
          <a:stretch/>
        </p:blipFill>
        <p:spPr>
          <a:xfrm>
            <a:off x="6445080" y="2278080"/>
            <a:ext cx="676440" cy="6760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77a14e0af077"/>
          <p:cNvPicPr/>
          <p:nvPr/>
        </p:nvPicPr>
        <p:blipFill>
          <a:blip r:embed="rId2"/>
          <a:stretch/>
        </p:blipFill>
        <p:spPr>
          <a:xfrm>
            <a:off x="6443640" y="3284640"/>
            <a:ext cx="676440" cy="676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77a14e0af077"/>
          <p:cNvPicPr/>
          <p:nvPr/>
        </p:nvPicPr>
        <p:blipFill>
          <a:blip r:embed="rId3"/>
          <a:stretch/>
        </p:blipFill>
        <p:spPr>
          <a:xfrm>
            <a:off x="6443640" y="4221000"/>
            <a:ext cx="676440" cy="67644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8"/>
          <p:cNvSpPr/>
          <p:nvPr/>
        </p:nvSpPr>
        <p:spPr>
          <a:xfrm>
            <a:off x="1692360" y="2421000"/>
            <a:ext cx="86508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9"/>
          <p:cNvSpPr/>
          <p:nvPr/>
        </p:nvSpPr>
        <p:spPr>
          <a:xfrm>
            <a:off x="1692360" y="3357720"/>
            <a:ext cx="86508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0"/>
          <p:cNvSpPr/>
          <p:nvPr/>
        </p:nvSpPr>
        <p:spPr>
          <a:xfrm>
            <a:off x="1692360" y="4294080"/>
            <a:ext cx="865080" cy="50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"/>
          <p:cNvSpPr/>
          <p:nvPr/>
        </p:nvSpPr>
        <p:spPr>
          <a:xfrm>
            <a:off x="1692360" y="5229360"/>
            <a:ext cx="86508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2" descr="77a14e0af077"/>
          <p:cNvPicPr/>
          <p:nvPr/>
        </p:nvPicPr>
        <p:blipFill>
          <a:blip r:embed="rId4"/>
          <a:stretch/>
        </p:blipFill>
        <p:spPr>
          <a:xfrm>
            <a:off x="1763640" y="234936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3" descr="77a14e0af077"/>
          <p:cNvPicPr/>
          <p:nvPr/>
        </p:nvPicPr>
        <p:blipFill>
          <a:blip r:embed="rId5"/>
          <a:stretch/>
        </p:blipFill>
        <p:spPr>
          <a:xfrm>
            <a:off x="1763640" y="3357720"/>
            <a:ext cx="676440" cy="67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4" descr="77a14e0af077"/>
          <p:cNvPicPr/>
          <p:nvPr/>
        </p:nvPicPr>
        <p:blipFill>
          <a:blip r:embed="rId6"/>
          <a:stretch/>
        </p:blipFill>
        <p:spPr>
          <a:xfrm>
            <a:off x="1763640" y="422100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5" descr="77a14e0af077"/>
          <p:cNvPicPr/>
          <p:nvPr/>
        </p:nvPicPr>
        <p:blipFill>
          <a:blip r:embed="rId7"/>
          <a:stretch/>
        </p:blipFill>
        <p:spPr>
          <a:xfrm>
            <a:off x="1763640" y="5157720"/>
            <a:ext cx="676440" cy="676440"/>
          </a:xfrm>
          <a:prstGeom prst="rect">
            <a:avLst/>
          </a:prstGeom>
          <a:ln w="0">
            <a:noFill/>
          </a:ln>
        </p:spPr>
      </p:pic>
      <p:sp>
        <p:nvSpPr>
          <p:cNvPr id="520" name="AutoShape 16"/>
          <p:cNvSpPr/>
          <p:nvPr/>
        </p:nvSpPr>
        <p:spPr>
          <a:xfrm>
            <a:off x="6372360" y="5229360"/>
            <a:ext cx="86508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17" descr="77a14e0af077"/>
          <p:cNvPicPr/>
          <p:nvPr/>
        </p:nvPicPr>
        <p:blipFill>
          <a:blip r:embed="rId8"/>
          <a:stretch/>
        </p:blipFill>
        <p:spPr>
          <a:xfrm>
            <a:off x="6443640" y="515772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9" descr="pch"/>
          <p:cNvPicPr/>
          <p:nvPr/>
        </p:nvPicPr>
        <p:blipFill>
          <a:blip r:embed="rId9"/>
          <a:stretch/>
        </p:blipFill>
        <p:spPr>
          <a:xfrm>
            <a:off x="3419640" y="1341360"/>
            <a:ext cx="1439640" cy="13543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8" descr="ec34f03c017d"/>
          <p:cNvPicPr/>
          <p:nvPr/>
        </p:nvPicPr>
        <p:blipFill>
          <a:blip r:embed="rId10"/>
          <a:stretch/>
        </p:blipFill>
        <p:spPr>
          <a:xfrm>
            <a:off x="3059280" y="3716280"/>
            <a:ext cx="206676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6.2963E-006 L -0.11823 0.08403 E">
                                      <p:cBhvr>
                                        <p:cTn id="41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08402 L -0.11823 0.23102 E">
                                      <p:cBhvr>
                                        <p:cTn id="49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23103 L -0.11823 0.37802 E">
                                      <p:cBhvr>
                                        <p:cTn id="57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37802 L -0.11823 0.51459 E">
                                      <p:cBhvr>
                                        <p:cTn id="65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51459 L 0.40139 0.0632 E">
                                      <p:cBhvr>
                                        <p:cTn id="73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39 0.06319 L 0.40139 0.21018 E">
                                      <p:cBhvr>
                                        <p:cTn id="81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39 0.21019 L 0.40139 0.34653 E">
                                      <p:cBhvr>
                                        <p:cTn id="89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39 0.34653 L 0.40139 0.48311 E">
                                      <p:cBhvr>
                                        <p:cTn id="97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39 0.4831 L 0.1677 0.38588 E">
                                      <p:cBhvr>
                                        <p:cTn id="105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1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м на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AutoShape 3"/>
          <p:cNvSpPr/>
          <p:nvPr/>
        </p:nvSpPr>
        <p:spPr>
          <a:xfrm>
            <a:off x="6372360" y="2421000"/>
            <a:ext cx="86508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6372360" y="3357720"/>
            <a:ext cx="86508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6372360" y="4294080"/>
            <a:ext cx="865080" cy="50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6" descr="77a14e0af077"/>
          <p:cNvPicPr/>
          <p:nvPr/>
        </p:nvPicPr>
        <p:blipFill>
          <a:blip r:embed="rId1"/>
          <a:stretch/>
        </p:blipFill>
        <p:spPr>
          <a:xfrm>
            <a:off x="6443640" y="234936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77a14e0af077"/>
          <p:cNvPicPr/>
          <p:nvPr/>
        </p:nvPicPr>
        <p:blipFill>
          <a:blip r:embed="rId2"/>
          <a:stretch/>
        </p:blipFill>
        <p:spPr>
          <a:xfrm>
            <a:off x="6443640" y="3357720"/>
            <a:ext cx="676440" cy="676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8" descr="77a14e0af077"/>
          <p:cNvPicPr/>
          <p:nvPr/>
        </p:nvPicPr>
        <p:blipFill>
          <a:blip r:embed="rId3"/>
          <a:stretch/>
        </p:blipFill>
        <p:spPr>
          <a:xfrm>
            <a:off x="6443640" y="4294080"/>
            <a:ext cx="676440" cy="67644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9"/>
          <p:cNvSpPr/>
          <p:nvPr/>
        </p:nvSpPr>
        <p:spPr>
          <a:xfrm>
            <a:off x="1692360" y="2421000"/>
            <a:ext cx="86508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0"/>
          <p:cNvSpPr/>
          <p:nvPr/>
        </p:nvSpPr>
        <p:spPr>
          <a:xfrm>
            <a:off x="1692360" y="3357720"/>
            <a:ext cx="86508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1"/>
          <p:cNvSpPr/>
          <p:nvPr/>
        </p:nvSpPr>
        <p:spPr>
          <a:xfrm>
            <a:off x="1692360" y="4294080"/>
            <a:ext cx="865080" cy="50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2"/>
          <p:cNvSpPr/>
          <p:nvPr/>
        </p:nvSpPr>
        <p:spPr>
          <a:xfrm>
            <a:off x="1692360" y="5229360"/>
            <a:ext cx="86508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13" descr="77a14e0af077"/>
          <p:cNvPicPr/>
          <p:nvPr/>
        </p:nvPicPr>
        <p:blipFill>
          <a:blip r:embed="rId4"/>
          <a:stretch/>
        </p:blipFill>
        <p:spPr>
          <a:xfrm>
            <a:off x="1763640" y="2421000"/>
            <a:ext cx="676440" cy="676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4" descr="77a14e0af077"/>
          <p:cNvPicPr/>
          <p:nvPr/>
        </p:nvPicPr>
        <p:blipFill>
          <a:blip r:embed="rId5"/>
          <a:stretch/>
        </p:blipFill>
        <p:spPr>
          <a:xfrm>
            <a:off x="1763640" y="3284640"/>
            <a:ext cx="676440" cy="6760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5" descr="77a14e0af077"/>
          <p:cNvPicPr/>
          <p:nvPr/>
        </p:nvPicPr>
        <p:blipFill>
          <a:blip r:embed="rId6"/>
          <a:stretch/>
        </p:blipFill>
        <p:spPr>
          <a:xfrm>
            <a:off x="1763640" y="422100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6" descr="77a14e0af077"/>
          <p:cNvPicPr/>
          <p:nvPr/>
        </p:nvPicPr>
        <p:blipFill>
          <a:blip r:embed="rId7"/>
          <a:stretch/>
        </p:blipFill>
        <p:spPr>
          <a:xfrm>
            <a:off x="1763640" y="5157720"/>
            <a:ext cx="676440" cy="676440"/>
          </a:xfrm>
          <a:prstGeom prst="rect">
            <a:avLst/>
          </a:prstGeom>
          <a:ln w="0">
            <a:noFill/>
          </a:ln>
        </p:spPr>
      </p:pic>
      <p:sp>
        <p:nvSpPr>
          <p:cNvPr id="540" name="AutoShape 17"/>
          <p:cNvSpPr/>
          <p:nvPr/>
        </p:nvSpPr>
        <p:spPr>
          <a:xfrm>
            <a:off x="6372360" y="5229360"/>
            <a:ext cx="86508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18" descr="77a14e0af077"/>
          <p:cNvPicPr/>
          <p:nvPr/>
        </p:nvPicPr>
        <p:blipFill>
          <a:blip r:embed="rId8"/>
          <a:stretch/>
        </p:blipFill>
        <p:spPr>
          <a:xfrm>
            <a:off x="6443640" y="523080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9" descr="pch"/>
          <p:cNvPicPr/>
          <p:nvPr/>
        </p:nvPicPr>
        <p:blipFill>
          <a:blip r:embed="rId9"/>
          <a:stretch/>
        </p:blipFill>
        <p:spPr>
          <a:xfrm>
            <a:off x="3143160" y="1143000"/>
            <a:ext cx="1440000" cy="1353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0" descr="2P"/>
          <p:cNvPicPr/>
          <p:nvPr/>
        </p:nvPicPr>
        <p:blipFill>
          <a:blip r:embed="rId10"/>
          <a:stretch/>
        </p:blipFill>
        <p:spPr>
          <a:xfrm>
            <a:off x="3132000" y="2565360"/>
            <a:ext cx="234648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6.2963E-006 L -0.11823 0.08403 E">
                                      <p:cBhvr>
                                        <p:cTn id="111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08402 L -0.11823 0.23102 E">
                                      <p:cBhvr>
                                        <p:cTn id="119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23103 L -0.11823 0.37802 E">
                                      <p:cBhvr>
                                        <p:cTn id="127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37802 L -0.11823 0.51459 E">
                                      <p:cBhvr>
                                        <p:cTn id="135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51459 L 0.40139 0.0632 E">
                                      <p:cBhvr>
                                        <p:cTn id="143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39 0.06319 L 0.40139 0.21018 E">
                                      <p:cBhvr>
                                        <p:cTn id="151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39 0.21019 L 0.40139 0.34653 E">
                                      <p:cBhvr>
                                        <p:cTn id="159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39 0.34653 L 0.40139 0.48311 E">
                                      <p:cBhvr>
                                        <p:cTn id="167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39 0.4831 L 0.14184 0.44005 E">
                                      <p:cBhvr>
                                        <p:cTn id="175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Содержимое 13" descr="filecMXyRA.jpg"/>
          <p:cNvPicPr/>
          <p:nvPr/>
        </p:nvPicPr>
        <p:blipFill>
          <a:blip r:embed="rId1"/>
          <a:stretch/>
        </p:blipFill>
        <p:spPr>
          <a:xfrm>
            <a:off x="0" y="0"/>
            <a:ext cx="2779560" cy="2997360"/>
          </a:xfrm>
          <a:prstGeom prst="rect">
            <a:avLst/>
          </a:prstGeom>
          <a:ln w="0">
            <a:noFill/>
          </a:ln>
        </p:spPr>
      </p:pic>
      <p:sp>
        <p:nvSpPr>
          <p:cNvPr id="545" name="TextBox 35"/>
          <p:cNvSpPr/>
          <p:nvPr/>
        </p:nvSpPr>
        <p:spPr>
          <a:xfrm>
            <a:off x="755640" y="306864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полним вычитание устн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93-4=            74-6=              37-8=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9-8=            82-7=              85-5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36"/>
          <p:cNvSpPr/>
          <p:nvPr/>
        </p:nvSpPr>
        <p:spPr>
          <a:xfrm>
            <a:off x="1911960" y="4151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37"/>
          <p:cNvSpPr/>
          <p:nvPr/>
        </p:nvSpPr>
        <p:spPr>
          <a:xfrm>
            <a:off x="1979640" y="4724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38"/>
          <p:cNvSpPr/>
          <p:nvPr/>
        </p:nvSpPr>
        <p:spPr>
          <a:xfrm>
            <a:off x="4356000" y="4149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Box 40"/>
          <p:cNvSpPr/>
          <p:nvPr/>
        </p:nvSpPr>
        <p:spPr>
          <a:xfrm>
            <a:off x="4356000" y="4653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41"/>
          <p:cNvSpPr/>
          <p:nvPr/>
        </p:nvSpPr>
        <p:spPr>
          <a:xfrm>
            <a:off x="7093080" y="414972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42"/>
          <p:cNvSpPr/>
          <p:nvPr/>
        </p:nvSpPr>
        <p:spPr>
          <a:xfrm>
            <a:off x="7093080" y="47242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Прямоугольник 5"/>
          <p:cNvSpPr/>
          <p:nvPr/>
        </p:nvSpPr>
        <p:spPr>
          <a:xfrm>
            <a:off x="0" y="0"/>
            <a:ext cx="9144000" cy="7700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4" descr="C:\Documents and Settings\Администратор\Мои документы\Мои рисунки\КАРТИНКИ\Новая папка (2)\природа_пейзаж_овощи_фрукты\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5" name="Содержимое 3" descr="137707.jpg"/>
          <p:cNvPicPr/>
          <p:nvPr/>
        </p:nvPicPr>
        <p:blipFill>
          <a:blip r:embed="rId2"/>
          <a:stretch/>
        </p:blipFill>
        <p:spPr>
          <a:xfrm>
            <a:off x="6643800" y="1143000"/>
            <a:ext cx="2500200" cy="571500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4" descr="1239001011h_zmey_01_b.jpg"/>
          <p:cNvPicPr/>
          <p:nvPr/>
        </p:nvPicPr>
        <p:blipFill>
          <a:blip r:embed="rId3"/>
          <a:stretch/>
        </p:blipFill>
        <p:spPr>
          <a:xfrm>
            <a:off x="214200" y="1000080"/>
            <a:ext cx="5000760" cy="5643720"/>
          </a:xfrm>
          <a:prstGeom prst="rect">
            <a:avLst/>
          </a:prstGeom>
          <a:ln w="0">
            <a:noFill/>
          </a:ln>
        </p:spPr>
      </p:pic>
      <p:pic>
        <p:nvPicPr>
          <p:cNvPr id="557" name="Прямоугольник 7" descr=""/>
          <p:cNvPicPr/>
          <p:nvPr/>
        </p:nvPicPr>
        <p:blipFill>
          <a:blip r:embed="rId4"/>
          <a:stretch/>
        </p:blipFill>
        <p:spPr>
          <a:xfrm>
            <a:off x="-182520" y="-371520"/>
            <a:ext cx="9650520" cy="16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5-20=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55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90– 3=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8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0-11=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69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60-20=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5–7 =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38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83-40=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8–80=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8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44–11=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-16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Рисунок 3" descr="ванька.jpg"/>
          <p:cNvPicPr/>
          <p:nvPr/>
        </p:nvPicPr>
        <p:blipFill>
          <a:blip r:embed="rId1"/>
          <a:stretch/>
        </p:blipFill>
        <p:spPr>
          <a:xfrm>
            <a:off x="324000" y="476280"/>
            <a:ext cx="2946240" cy="579744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4" descr="cундук.jpg"/>
          <p:cNvPicPr/>
          <p:nvPr/>
        </p:nvPicPr>
        <p:blipFill>
          <a:blip r:embed="rId2"/>
          <a:stretch/>
        </p:blipFill>
        <p:spPr>
          <a:xfrm>
            <a:off x="4932360" y="1916280"/>
            <a:ext cx="3933720" cy="26938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11" descr="замок.jpg"/>
          <p:cNvPicPr/>
          <p:nvPr/>
        </p:nvPicPr>
        <p:blipFill>
          <a:blip r:embed="rId3"/>
          <a:stretch/>
        </p:blipFill>
        <p:spPr>
          <a:xfrm>
            <a:off x="4340160" y="2548080"/>
            <a:ext cx="287820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Содержимое 3" descr="ванька.jpg"/>
          <p:cNvPicPr/>
          <p:nvPr/>
        </p:nvPicPr>
        <p:blipFill>
          <a:blip r:embed="rId1"/>
          <a:stretch/>
        </p:blipFill>
        <p:spPr>
          <a:xfrm>
            <a:off x="468360" y="638280"/>
            <a:ext cx="2303280" cy="5732280"/>
          </a:xfrm>
          <a:prstGeom prst="rect">
            <a:avLst/>
          </a:prstGeom>
          <a:ln w="0">
            <a:noFill/>
          </a:ln>
        </p:spPr>
      </p:pic>
      <p:pic>
        <p:nvPicPr>
          <p:cNvPr id="567" name="Содержимое 4" descr="cундук.jpg"/>
          <p:cNvPicPr/>
          <p:nvPr/>
        </p:nvPicPr>
        <p:blipFill>
          <a:blip r:embed="rId2"/>
          <a:stretch/>
        </p:blipFill>
        <p:spPr>
          <a:xfrm>
            <a:off x="4200480" y="3284640"/>
            <a:ext cx="4943520" cy="33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5:50:11Z</dcterms:created>
  <dc:creator>Sergey</dc:creator>
  <dc:description/>
  <dc:language>en-US</dc:language>
  <cp:lastModifiedBy>Ульяна Кочурова</cp:lastModifiedBy>
  <dcterms:modified xsi:type="dcterms:W3CDTF">2018-11-30T10:25:49Z</dcterms:modified>
  <cp:revision>177</cp:revision>
  <dc:subject/>
  <dc:title>Слайд 1</dc:title>
</cp:coreProperties>
</file>