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B2B-2DD0-4957-B4B4-8FEF1CDD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F42-4BC9-409E-A682-04930248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BB7-22D6-466A-89F5-38F3D999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498-CA54-4CD5-AF65-61B22B08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AF5C-63D4-4651-99AB-03EFF2F1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7AD5-C684-4BD3-A619-8069D7C3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DBB8-8455-4F27-875E-A353F7EF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48A8-B412-4143-872B-826A7400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8C21-8D2F-4179-9420-CBE763FD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90DD-B648-49A4-913A-EF8ACCD0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E7B0-0298-4253-9D7B-FEBA4C06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961-4594-4168-B820-E0DC8BE9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76E1-1087-471C-848A-3F53CF2B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9A16-3B10-43F0-8D61-EA74092C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9540-F8AA-4857-B99B-13FBE015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9E76-F8E7-4D64-BE15-D135A42B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4DAA-1E96-4262-8F04-FC0AA8C5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716FA-55F6-41DB-AFE4-5E7C7F2A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0110E-5F96-4378-8B34-84A8B915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63353-B7C8-47E6-9AC2-0C9D0CA1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1B37B-B12C-4F39-8481-A8A9E110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7EB74-8D36-42EF-BF32-6A83901B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C1B-C0A6-471B-BFFF-49127101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19C38-4B2C-418D-9220-B620426A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6C257-1AFF-4BAC-B26C-7E71C336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5AFEE-94B1-477E-860F-0C1EC4C5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DD077-8834-453A-8F4C-00165DF1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29811-2005-45D2-B474-93B3A76D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126B3-1F8E-4787-A1ED-5E569159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77E0E-B2FF-4D40-BAD0-7EAC0BFE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62E85-60D2-457B-8D71-78DADE32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9FD21-F7E5-47D5-922E-9270F2F5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661FE-48BB-4F51-A324-71D2A8C8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0A7-2508-41E2-BEC9-5D5498D7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9DE2F-C083-49B6-A422-80FE57BE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49B54-7685-4B3D-B8BE-6A49DE8F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85CEB-CA21-4982-BEE2-0C0BFDE5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309D6-98E8-4E53-94ED-D1D04FD6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AE88B-640E-4C61-8043-725A0110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949DE-7A40-4742-9EC5-67B807B3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9C078-856F-4D80-B6D5-FD85624E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60A93-D94B-4FFF-B6BA-AF615CD5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97E69-0A7E-4FF1-92CB-E9DADAC8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D2445-1F5F-49CF-9F88-41137543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E23-7F26-42A4-9B68-4E49D777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44B24-7143-4B36-97CA-4C677464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103D9-AD91-44FA-ABDD-61964ABF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B01A0-5F1A-4C5E-BB95-543BB5CF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D7CCB-DA78-4B24-8CB1-176A5C68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8486D-FA0B-4A02-AD63-E5B568D9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4CDA9-F768-48DF-9B20-FFE90C77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7F25C4-6DA4-4D87-B595-2ABCC1A3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66838-CE58-4C92-BCDE-64585AFC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16BFDA-8461-404D-A35A-9CC6C5B7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0DC65-F7DD-4EE6-BE5C-EADC5205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BE1-B690-4527-9569-0004CE56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ECED0F-F71B-4EE9-8821-9B3BB118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73613-8D6A-4BE9-A43E-957959D5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71906-88BB-4AA4-AFE6-19B67932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BED88-43D3-4910-B463-115C9100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7DDB3-BBC7-4BAC-9A25-B19239C7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83620-CD87-4522-85D0-27B85BED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F5BACB-DFB3-48A8-9248-E560FC50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B41F9-D332-4E9B-B8AC-B3C7F291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AEBDF-455F-4D57-86DE-96A5F9D7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6EB3E-AED6-4A67-A07C-C5F39235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1B5-56C4-460A-8917-F836BD9F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E2433-C009-4AD6-BA1D-54458E70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A0F204-C8E6-4C06-BE77-AF581540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B855D-A735-48E7-A288-D71667F8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FDEA3-1114-4C02-9480-C04F52DB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51FC9-9CE1-4DF6-A87D-FD55C5B6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2F710D-5B49-49C1-9F3D-D1285082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A0179-9DA8-4BEA-A00D-EF730657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CCA071-CC14-4ACE-948E-2B385200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0DDB67-B24D-49B4-B9B0-266CAA4A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CEDECD-DECF-48D4-93E7-F97DECB0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6FF-3AED-4C00-B399-FA4A69E7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33D0EC-9108-4A7F-B491-0804C684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37B2D-40CA-409C-9634-B255682C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9E3EA-56A3-4B0E-B61C-4116FA63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F9DC42-4B77-4E7A-A163-4AE16D57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716CC6-19FC-4118-83E2-EE8DC19B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AEA-76C2-4CC7-8C3C-A21D6DB6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E0BA-44CB-45A3-ADBD-05567DF2ABF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95B2-A018-4C86-BA2B-15C7FF3BA11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753C-E7D9-4063-A53D-7249B8F60B2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EB79-82C3-481F-8353-8CC0E4BAA77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4819-C3F4-4FBC-A947-6CAECB1FC7C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88F1-AD25-404B-9FC6-9F1D18D52A5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054F-35EC-4DA2-8A6A-FFA833FE176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ender.ru/tmp/gallery/1188/1188019963108037_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39640" y="691920"/>
            <a:ext cx="6172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КЛАССНОГО РУКОВОДИТЕЛЯ В ПРОФЕССИОНАЛЬНОМ САМООПРЕДЕЛЕНИИ УЧАЩИХС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7675200"/>
            <a:ext cx="61722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4" descr="C:\Users\ирина\Desktop\3954_1.jpg"/>
          <p:cNvPicPr/>
          <p:nvPr/>
        </p:nvPicPr>
        <p:blipFill>
          <a:blip r:embed="rId1"/>
          <a:stretch/>
        </p:blipFill>
        <p:spPr>
          <a:xfrm>
            <a:off x="0" y="0"/>
            <a:ext cx="2492280" cy="2492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C:\Users\ирина\Desktop\puti_vybora.jpg"/>
          <p:cNvPicPr/>
          <p:nvPr/>
        </p:nvPicPr>
        <p:blipFill>
          <a:blip r:embed="rId2"/>
          <a:stretch/>
        </p:blipFill>
        <p:spPr>
          <a:xfrm>
            <a:off x="7596360" y="0"/>
            <a:ext cx="1412640" cy="1413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C:\Users\ирина\Desktop\illu_article_content.jpg"/>
          <p:cNvPicPr/>
          <p:nvPr/>
        </p:nvPicPr>
        <p:blipFill>
          <a:blip r:embed="rId3"/>
          <a:stretch/>
        </p:blipFill>
        <p:spPr>
          <a:xfrm>
            <a:off x="6443640" y="4941720"/>
            <a:ext cx="2325600" cy="1727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C:\Users\ирина\Desktop\6148-1590foto1.jpg"/>
          <p:cNvPicPr/>
          <p:nvPr/>
        </p:nvPicPr>
        <p:blipFill>
          <a:blip r:embed="rId4"/>
          <a:stretch/>
        </p:blipFill>
        <p:spPr>
          <a:xfrm>
            <a:off x="2627280" y="5084640"/>
            <a:ext cx="200664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74674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4" descr="C:\Users\ирина\Desktop\выбор_01.jpg"/>
          <p:cNvPicPr/>
          <p:nvPr/>
        </p:nvPicPr>
        <p:blipFill>
          <a:blip r:embed="rId1"/>
          <a:stretch/>
        </p:blipFill>
        <p:spPr>
          <a:xfrm>
            <a:off x="1187280" y="981000"/>
            <a:ext cx="7000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4" descr="C:\Users\ирина\Desktop\2_8lL2vSm.jpg"/>
          <p:cNvPicPr/>
          <p:nvPr/>
        </p:nvPicPr>
        <p:blipFill>
          <a:blip r:embed="rId1"/>
          <a:stretch/>
        </p:blipFill>
        <p:spPr>
          <a:xfrm>
            <a:off x="324000" y="260280"/>
            <a:ext cx="3233520" cy="20210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C:\Users\ирина\Desktop\parenting-a-parent_78202214540337544.jpg"/>
          <p:cNvPicPr/>
          <p:nvPr/>
        </p:nvPicPr>
        <p:blipFill>
          <a:blip r:embed="rId2"/>
          <a:stretch/>
        </p:blipFill>
        <p:spPr>
          <a:xfrm>
            <a:off x="4859280" y="189000"/>
            <a:ext cx="3816360" cy="2144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C:\Users\ирина\Desktop\78631166.jpg"/>
          <p:cNvPicPr/>
          <p:nvPr/>
        </p:nvPicPr>
        <p:blipFill>
          <a:blip r:embed="rId3"/>
          <a:stretch/>
        </p:blipFill>
        <p:spPr>
          <a:xfrm>
            <a:off x="250920" y="4149720"/>
            <a:ext cx="3241440" cy="2158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C:\Users\ирина\Desktop\razgovor-s-podrostkom-o-sekse(1).jpg"/>
          <p:cNvPicPr/>
          <p:nvPr/>
        </p:nvPicPr>
        <p:blipFill>
          <a:blip r:embed="rId4"/>
          <a:stretch/>
        </p:blipFill>
        <p:spPr>
          <a:xfrm>
            <a:off x="4932360" y="4076640"/>
            <a:ext cx="3676680" cy="2336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C:\Users\ирина\Desktop\1460282011_srebenkombeseda.jpg"/>
          <p:cNvPicPr/>
          <p:nvPr/>
        </p:nvPicPr>
        <p:blipFill>
          <a:blip r:embed="rId5"/>
          <a:stretch/>
        </p:blipFill>
        <p:spPr>
          <a:xfrm>
            <a:off x="2771640" y="1773360"/>
            <a:ext cx="34164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ПРОФЕССИОНАЛЬНОЕ САМООПРЕДЕЛЕНИЕ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ЭТО ПРОЦЕСС И РЕЗУЛЬТАТ ВЫБОРА ЛИЧНОСТЬЮ ОСНОВНОЙ ПОЗИЦИИ, ЦЕЛЕЙ И СРЕДСТВ САМООСУЩЕСТВЛЕНИЯ В КОНКРЕТНЫХ ОБСТОЯТЕЛЬСТВАХ ЖИЗНИ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Picture 4" descr="Картинка 22 из 625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068640"/>
            <a:ext cx="50767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ЭТАПЫ ПОДГОТОВКИ УЧАЩИХСЯ К ПРОФЕССИОНАЛЬНОМУ САМООПРЕДЕЛЕНИЮ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7892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этап-  информационно-мотивационны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 1- 6 кл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этап - активно- поисковый (7-8 кл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этап - профессиональное самоопределени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9-11 кл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1628280"/>
            <a:ext cx="87138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C:\Users\ирина\Desktop\07.jpg"/>
          <p:cNvPicPr/>
          <p:nvPr/>
        </p:nvPicPr>
        <p:blipFill>
          <a:blip r:embed="rId1"/>
          <a:stretch/>
        </p:blipFill>
        <p:spPr>
          <a:xfrm>
            <a:off x="1692360" y="2924280"/>
            <a:ext cx="5616360" cy="374148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4" descr="C:\Users\ирина\Desktop\1309431486_snc10583.jpg"/>
          <p:cNvPicPr/>
          <p:nvPr/>
        </p:nvPicPr>
        <p:blipFill>
          <a:blip r:embed="rId2"/>
          <a:stretch/>
        </p:blipFill>
        <p:spPr>
          <a:xfrm>
            <a:off x="395280" y="189000"/>
            <a:ext cx="3960720" cy="2592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Users\ирина\Desktop\slide_6.jpg"/>
          <p:cNvPicPr/>
          <p:nvPr/>
        </p:nvPicPr>
        <p:blipFill>
          <a:blip r:embed="rId3"/>
          <a:stretch/>
        </p:blipFill>
        <p:spPr>
          <a:xfrm>
            <a:off x="4788000" y="18900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C:\Users\ирина\Desktop\ex31vD_zdo41.jpg"/>
          <p:cNvPicPr/>
          <p:nvPr/>
        </p:nvPicPr>
        <p:blipFill>
          <a:blip r:embed="rId1"/>
          <a:stretch/>
        </p:blipFill>
        <p:spPr>
          <a:xfrm>
            <a:off x="179280" y="765000"/>
            <a:ext cx="89647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3:29:05Z</dcterms:created>
  <dc:creator>Саша</dc:creator>
  <dc:description/>
  <dc:language>en-US</dc:language>
  <cp:lastModifiedBy>ирина</cp:lastModifiedBy>
  <dcterms:modified xsi:type="dcterms:W3CDTF">2017-05-02T18:27:42Z</dcterms:modified>
  <cp:revision>40</cp:revision>
  <dc:subject/>
  <dc:title>Профессиональное самоопределение школьников.</dc:title>
</cp:coreProperties>
</file>