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170-AE0D-4A82-AD61-8E2AFC97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B2D-C916-4828-80F7-CAB164CF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8F2-C1C1-47A1-95AC-D73CBDB0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BA1-A87F-458E-B98B-348B6B3B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07D1-A961-4286-BF26-60406B9A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0964-34E8-4055-9194-45A0EB33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E323-BCF0-42D3-9788-F31CC00E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206E-8F8B-4E0B-BFF9-D745B35F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8D55-8DD9-4337-9FBC-68B5043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C650-645C-4ED5-95E1-CC489FE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AE90-B47C-40C1-9C4C-050EA66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A62-184D-4B50-BDFB-331D27D2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1ED9-720D-4DF1-8E4F-3C6F0F3A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4180-2E13-43D7-880F-29DF56E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532E-E786-496C-B07C-B35B863E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41FA-6EBE-46FA-B54D-827B74AC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C2E3-0B26-48E8-A5D9-B484FF00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7856-EF97-4275-89A0-A6BC3A2A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2579-10D1-4C9D-B63A-A0BAAB8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CA2A-8406-4D48-9A36-5074830A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D8F5-13C5-44DA-B487-D706676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3795-4F7F-44E4-B07F-8709B18C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7EA-1B49-4256-A541-70B5910C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CE7E-36D5-4B1D-A151-E037E72F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C112-A7B6-406B-822F-82FB746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010C-6B41-4839-AF31-BEB46DD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2E7E-7D21-41C3-AAE0-B726B905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4986-9033-4B85-8876-6BAF268C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7CDA-8E63-40F3-9DD7-57B27AF5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F74D-D092-4C95-A3C9-D9159457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07DCD-16A6-4B33-B1B2-9B8DA156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C927B-F123-47AB-939A-F8B6A30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B570C-A9C9-492A-95CD-E20C24D4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156-5DCA-49FA-B366-8A690D19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5576C-F37F-4F54-830A-7C9237D4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B36E3-2108-4F05-87A9-499AB72A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EC39A-2E4C-489C-9C68-EAF8DD2C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FC9B9-FE0D-4242-96A7-E09871D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F45C9-D70F-46CB-8F24-E471F78F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86C1E-D690-4894-96A1-021C7B0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22936-1712-4E52-8A0C-7EF3B926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12A0B-C376-447D-9501-DDDA9CD4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6B8CE-3F33-4ABC-A03C-1ACE7D02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FFD1C-112C-4587-BA13-74B9B991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5CA-7217-47F7-9865-558BF0D2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A6208-12C6-492A-A28E-C9D44009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09C9C-79AE-40FA-9E40-46266A74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C9DD4-BAC8-40EA-AE68-53BEA7A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A0D81-E94B-4DE7-B906-D95DBBC8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66957-FA6C-4849-8F52-7EA9ECE8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1EB46-A405-41B8-A2DB-DD8CB08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EC229-1694-4AB0-BE66-F6A58E6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EC6EE-F003-464A-8786-02A14CA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A82CF-AFF6-47B4-BE03-FB63DE85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B85CC-56FD-4C4A-BD68-2E2F52DB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92C-A575-466E-9B45-D144F8D8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B7529-64B3-440F-9489-694EBBB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619-129B-4968-B1C7-5616276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C13-21CF-491F-89B5-74EA442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D44-AC2C-4572-B39A-3024F5A2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93C-0F50-46D6-99CF-699FFFD9C4A8}" type="datetime"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DB80-D918-4D78-96D0-C860587211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152D-DE7A-48D0-A998-D9E3A54BBAA6}" type="datetime"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1D0E-09F0-403B-959B-79E6A7027E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319B-2464-4BD4-B22D-891B23BA80E6}" type="datetime">
              <a:rPr b="0" lang="ru-RU" sz="1200" spc="-1" strike="noStrike">
                <a:solidFill>
                  <a:srgbClr val="f4e7ed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5CC-47CE-44C4-BA00-187AEA5412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D90-F910-4801-B35B-EE61B4198B5E}" type="datetime"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7A9A-85B9-44A3-AED0-36C52A1D8D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5C11-6400-424B-BFE1-449A598893D8}" type="datetime"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D8BB-1B2D-494D-832F-5BF18266116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chool.ort.spb.ru/library/physics/7class/tema_2/lesson_1/microsc4_1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school.ort.spb.ru/library/physics/7class/tema_2/lesson_1/lab1big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school.ort.spb.ru/library/physics/7class/tema_2/lesson_1/912ab.jp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7class/tema_2/lesson_1/atom2.gif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school.ort.spb.ru/library/physics/7class/tema_2/lesson_1/atoms.gif" TargetMode="External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2880" y="475920"/>
            <a:ext cx="367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ВОДА – ЛЁД – ВОДЯНОЙ ПАР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4137120" y="46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svetly5school.narod.ru/vpo.JPG"/>
          <p:cNvPicPr/>
          <p:nvPr/>
        </p:nvPicPr>
        <p:blipFill>
          <a:blip r:embed="rId2"/>
          <a:stretch/>
        </p:blipFill>
        <p:spPr>
          <a:xfrm>
            <a:off x="4162320" y="3576600"/>
            <a:ext cx="4737240" cy="3284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http://www.watermap.ru/system/blog_items/pictures/390/original_%D0%B2%D1%81%D0%B5%20%D0%B5%D1%89%D0%B5%20%D0%BF%D1%8C%D0%B5%D1%82%D0%B5%20%D0%B2%D0%BE%D0%B4%D1%83%20%D0%BF%D1%80%D1%8F%D0%BC%D0%BE%20%D0%B8%D0%B7-%D0%BF%D0%BE%D0%B4%20%D0%BA%D1%80%D0%B0%D0%BD%D0%B0-%20%D1%8D%D1%82%D0%BE%20%D0%BE%D1%87%D0%B5%D0%BD%D1%8C%20%D0%BE%D0%BF%D0%B0%D1%81%D0%BD%D0%BE%20%D0%BA%D0%B0%D1%80%D1%82%D0%B0%20%D0%B2%D0%BE%D0%B4%D1%8B%20%D1%80%D0%BE%D1%81%D1%81%D0%B8%D0%B8.jpg?1386051606"/>
          <p:cNvPicPr/>
          <p:nvPr/>
        </p:nvPicPr>
        <p:blipFill>
          <a:blip r:embed="rId3"/>
          <a:stretch/>
        </p:blipFill>
        <p:spPr>
          <a:xfrm>
            <a:off x="272880" y="1973160"/>
            <a:ext cx="3889440" cy="4870440"/>
          </a:xfrm>
          <a:prstGeom prst="rect">
            <a:avLst/>
          </a:prstGeom>
          <a:ln w="0">
            <a:noFill/>
          </a:ln>
        </p:spPr>
      </p:pic>
      <p:sp>
        <p:nvSpPr>
          <p:cNvPr id="261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8B60-C5BC-4084-8219-328B996B87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УГЛЕРОД - </a:t>
            </a:r>
            <a:r>
              <a:rPr b="1" lang="ru-RU" sz="3900" spc="-1" strike="noStrike">
                <a:solidFill>
                  <a:srgbClr val="002060"/>
                </a:solidFill>
                <a:latin typeface="Century Schoolbook"/>
              </a:rPr>
              <a:t>С</a:t>
            </a:r>
            <a:endParaRPr b="0" lang="en-US" sz="39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920" y="1196640"/>
            <a:ext cx="7777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РАФИТ                                                   АЛМА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4568760" y="2276640"/>
            <a:ext cx="4014720" cy="280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353880" y="2260440"/>
            <a:ext cx="4214880" cy="2810160"/>
          </a:xfrm>
          <a:prstGeom prst="rect">
            <a:avLst/>
          </a:prstGeom>
          <a:ln w="0">
            <a:noFill/>
          </a:ln>
        </p:spPr>
      </p:pic>
      <p:sp>
        <p:nvSpPr>
          <p:cNvPr id="266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A0CE-934A-4CA8-93FC-DE950312DC5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468000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entury Schoolbook"/>
              </a:rPr>
              <a:t>СТРОЕНИЕ ВЕЩЕСТВА. МОЛЕКУЛЫ И АТОМЫ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endParaRPr b="0" lang="en-US" sz="44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651640" y="2604960"/>
            <a:ext cx="3241440" cy="4079880"/>
          </a:xfrm>
          <a:prstGeom prst="rect">
            <a:avLst/>
          </a:prstGeom>
          <a:ln w="0">
            <a:noFill/>
          </a:ln>
        </p:spPr>
      </p:pic>
      <p:sp>
        <p:nvSpPr>
          <p:cNvPr id="269" name="Номер слайда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E96-EC31-4C5C-BB17-6D86A5066A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771-7417-465C-9DA5-6E5B42396B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1" name="Рисунок 4" descr="http://www.home-edu.ru/user/f/00001491/Les_02/Les_02/Pict_02/h2o1.jpg"/>
          <p:cNvPicPr/>
          <p:nvPr/>
        </p:nvPicPr>
        <p:blipFill>
          <a:blip r:embed="rId1"/>
          <a:stretch/>
        </p:blipFill>
        <p:spPr>
          <a:xfrm>
            <a:off x="539640" y="1916280"/>
            <a:ext cx="1428840" cy="1618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http://www.home-edu.ru/user/f/00001491/Les_02/Les_02/Pict_02/snej1.jpg"/>
          <p:cNvPicPr/>
          <p:nvPr/>
        </p:nvPicPr>
        <p:blipFill>
          <a:blip r:embed="rId2"/>
          <a:stretch/>
        </p:blipFill>
        <p:spPr>
          <a:xfrm>
            <a:off x="2411280" y="19843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" descr="http://www.home-edu.ru/user/f/00001491/Les_02/Les_02/Pict_02/kastrul2.jpg"/>
          <p:cNvPicPr/>
          <p:nvPr/>
        </p:nvPicPr>
        <p:blipFill>
          <a:blip r:embed="rId3"/>
          <a:stretch/>
        </p:blipFill>
        <p:spPr>
          <a:xfrm>
            <a:off x="4859280" y="1801800"/>
            <a:ext cx="1486080" cy="1457280"/>
          </a:xfrm>
          <a:prstGeom prst="rect">
            <a:avLst/>
          </a:prstGeom>
          <a:ln w="0">
            <a:noFill/>
          </a:ln>
        </p:spPr>
      </p:pic>
      <p:pic>
        <p:nvPicPr>
          <p:cNvPr id="274" name="Объект 7" descr="http://www.home-edu.ru/user/f/00001491/Les_02/Les_02/Pict_02/sok1.jpg"/>
          <p:cNvPicPr/>
          <p:nvPr/>
        </p:nvPicPr>
        <p:blipFill>
          <a:blip r:embed="rId4"/>
          <a:stretch/>
        </p:blipFill>
        <p:spPr>
          <a:xfrm>
            <a:off x="7020000" y="1700280"/>
            <a:ext cx="1434960" cy="14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457200" y="3808440"/>
          <a:ext cx="8362800" cy="492120"/>
        </p:xfrm>
        <a:graphic>
          <a:graphicData uri="http://schemas.openxmlformats.org/drawingml/2006/table">
            <a:tbl>
              <a:tblPr/>
              <a:tblGrid>
                <a:gridCol w="1919160"/>
                <a:gridCol w="1646280"/>
                <a:gridCol w="2192400"/>
                <a:gridCol w="2604960"/>
              </a:tblGrid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а воды всегда одна и та 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снежи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п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со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AC4-FF89-4EC9-A809-0FE67E303C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9" name="Рисунок 4" descr="http://www.home-edu.ru/user/f/00001491/Les_02/Les_02/Pict_02/mouse.jpg"/>
          <p:cNvPicPr/>
          <p:nvPr/>
        </p:nvPicPr>
        <p:blipFill>
          <a:blip r:embed="rId1"/>
          <a:stretch/>
        </p:blipFill>
        <p:spPr>
          <a:xfrm>
            <a:off x="1560600" y="1531800"/>
            <a:ext cx="2514600" cy="18669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5" descr="http://www.home-edu.ru/user/f/00001491/Les_02/Les_02/Pict_02/eif.jpg"/>
          <p:cNvPicPr/>
          <p:nvPr/>
        </p:nvPicPr>
        <p:blipFill>
          <a:blip r:embed="rId2"/>
          <a:stretch/>
        </p:blipFill>
        <p:spPr>
          <a:xfrm>
            <a:off x="5435640" y="860400"/>
            <a:ext cx="2905200" cy="51339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6" descr="http://www.home-edu.ru/user/f/00001491/Les_02/Les_02/Pict_02/sea.jpg"/>
          <p:cNvPicPr/>
          <p:nvPr/>
        </p:nvPicPr>
        <p:blipFill>
          <a:blip r:embed="rId3"/>
          <a:stretch/>
        </p:blipFill>
        <p:spPr>
          <a:xfrm>
            <a:off x="1065240" y="4379760"/>
            <a:ext cx="17524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1B65-43DF-48A5-ACA1-CBC4D2918B4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4" name="Рисунок 4" descr="http://school.ort.spb.ru/library/physics/7class/tema_2/lesson_1/atom2.jpg"/>
          <p:cNvPicPr/>
          <p:nvPr/>
        </p:nvPicPr>
        <p:blipFill>
          <a:blip r:embed="rId1"/>
          <a:stretch/>
        </p:blipFill>
        <p:spPr>
          <a:xfrm>
            <a:off x="3059280" y="0"/>
            <a:ext cx="2657160" cy="20955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5"/>
          <p:cNvSpPr/>
          <p:nvPr/>
        </p:nvSpPr>
        <p:spPr>
          <a:xfrm>
            <a:off x="539640" y="209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ы можно увидеть в самые современные электронные микроскопы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6" name="Объект 6" descr="http://school.ort.spb.ru/library/physics/7class/tema_2/lesson_1/microsc4_1_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637000"/>
            <a:ext cx="2489400" cy="33159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7" descr="http://school.ort.spb.ru/library/physics/7class/tema_2/lesson_1/lab1big_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06600" y="3068640"/>
            <a:ext cx="2162160" cy="28288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8" descr="http://school.ort.spb.ru/library/physics/7class/tema_2/lesson_1/912ab_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924280"/>
            <a:ext cx="2438640" cy="282888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9"/>
          <p:cNvSpPr/>
          <p:nvPr/>
        </p:nvSpPr>
        <p:spPr>
          <a:xfrm>
            <a:off x="2502000" y="6021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глядят электронные микроскоп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2219-6500-4A64-B618-EB084856B3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539640" y="5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глядят атомы под микроскоп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3" name="Объект 5" descr="http://school.ort.spb.ru/library/physics/7class/tema_2/lesson_1/atom2_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071720"/>
            <a:ext cx="2539800" cy="25416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6" descr="http://school.ort.spb.ru/library/physics/7class/tema_2/lesson_1/atoms_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1041480"/>
            <a:ext cx="1762200" cy="25812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7" descr="http://school.ort.spb.ru/library/physics/7class/tema_2/lesson_1/carbon_s.jpg"/>
          <p:cNvPicPr/>
          <p:nvPr/>
        </p:nvPicPr>
        <p:blipFill>
          <a:blip r:embed="rId5"/>
          <a:stretch/>
        </p:blipFill>
        <p:spPr>
          <a:xfrm>
            <a:off x="5867280" y="1084320"/>
            <a:ext cx="1886040" cy="257184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8"/>
          <p:cNvSpPr/>
          <p:nvPr/>
        </p:nvSpPr>
        <p:spPr>
          <a:xfrm>
            <a:off x="3177360" y="363528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ные атом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Прямоугольник 9"/>
          <p:cNvSpPr/>
          <p:nvPr/>
        </p:nvSpPr>
        <p:spPr>
          <a:xfrm>
            <a:off x="654840" y="365616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омы золо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5986800" y="36655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омы углер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9" name="Рисунок 11" descr="http://school.ort.spb.ru/library/physics/7class/tema_2/lesson_1/carbon_atom_1_s.jpg"/>
          <p:cNvPicPr/>
          <p:nvPr/>
        </p:nvPicPr>
        <p:blipFill>
          <a:blip r:embed="rId6"/>
          <a:stretch/>
        </p:blipFill>
        <p:spPr>
          <a:xfrm>
            <a:off x="492120" y="4003560"/>
            <a:ext cx="2048040" cy="24955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2" descr="http://school.ort.spb.ru/library/physics/7class/tema_2/lesson_1/platina_s.jpg"/>
          <p:cNvPicPr/>
          <p:nvPr/>
        </p:nvPicPr>
        <p:blipFill>
          <a:blip r:embed="rId7"/>
          <a:stretch/>
        </p:blipFill>
        <p:spPr>
          <a:xfrm>
            <a:off x="3308400" y="4051440"/>
            <a:ext cx="1657440" cy="25048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3" descr="http://school.ort.spb.ru/library/physics/7class/tema_2/lesson_1/nickel_s.jpg"/>
          <p:cNvPicPr/>
          <p:nvPr/>
        </p:nvPicPr>
        <p:blipFill>
          <a:blip r:embed="rId8"/>
          <a:stretch/>
        </p:blipFill>
        <p:spPr>
          <a:xfrm>
            <a:off x="5937120" y="3994200"/>
            <a:ext cx="2009880" cy="249552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14"/>
          <p:cNvSpPr/>
          <p:nvPr/>
        </p:nvSpPr>
        <p:spPr>
          <a:xfrm>
            <a:off x="470160" y="65260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омы углер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Прямоугольник 15"/>
          <p:cNvSpPr/>
          <p:nvPr/>
        </p:nvSpPr>
        <p:spPr>
          <a:xfrm>
            <a:off x="3195360" y="649908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омы платин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Прямоугольник 16"/>
          <p:cNvSpPr/>
          <p:nvPr/>
        </p:nvSpPr>
        <p:spPr>
          <a:xfrm>
            <a:off x="6059520" y="64882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омы никел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5:18:28Z</dcterms:created>
  <dc:creator>Ирина</dc:creator>
  <dc:description/>
  <dc:language>en-US</dc:language>
  <cp:lastModifiedBy>!</cp:lastModifiedBy>
  <dcterms:modified xsi:type="dcterms:W3CDTF">2021-10-24T10:56:56Z</dcterms:modified>
  <cp:revision>59</cp:revision>
  <dc:subject/>
  <dc:title>Молекулярная физика</dc:title>
</cp:coreProperties>
</file>