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FC09-983B-464B-AD7B-445783B98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73AA-C0C1-4BFC-A54A-80CF2D7B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541A37-C1E9-4E6E-A6FA-B3288A4E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38107-7972-4BAD-9BE3-D0AE8E2F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A56B5F-8CED-45D2-9409-8CB13B76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7DF2C1-9AE8-47CF-8ACE-B5CC291B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34037-8222-4D35-A684-D60A8740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FC78DE-E92F-422E-A255-D1249D49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BC63EC-9251-4CF7-89F3-1768091D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274FED-EEC8-4360-B0F7-8F3D8D98F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85EE4F-BCBC-4514-8DFB-E4DD60E2D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556642-86CD-461B-B7EA-122F6DDE9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EBE5-4085-4BB8-A169-E882DC407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5B24DE-41A7-4764-9875-9941F76A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07BA93-B308-4332-A80E-97EE1D1C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7359E2-1F44-4E19-9216-4B3799C4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E3B7E2-0B54-4FD3-B571-8375CC4D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F4BE28-91B0-4EE5-BD49-C833F4FB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668C45-78FA-4344-9D82-E65398E0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E274D4-BBAF-4332-8D6C-3402CC87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9CC929-B51E-4B2A-B5A8-AAE4E5CC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FD3ED8-8FFB-4F67-AF61-B8AA649C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040397-978A-4197-AB5B-5DB5AECFE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7716-B16E-4741-A7C7-BD60482BC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EF23FF-D5F3-49AE-9137-49287D26D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B898F-EEE8-4E15-A835-AA85EE88C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E48B6-C016-4AA2-BB65-3E994CDC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EF89E2-E0D4-418B-9850-F5E887A4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A4152-5527-4643-9468-1C9BC420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EEF96-7913-44D3-972A-651CC3EC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D7A5B-C956-4DFD-AD5D-C3B09272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05258-3650-4B33-83F3-7B2C26D9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8CA27-072E-41B7-8D45-D5EAC193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C3331-4B7F-4C45-8B60-AB31ED4C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F6DF8-AC9F-4CCC-AB08-B51BD8A6D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47B30-84A5-46EF-B645-11F9571B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012945-57B2-4F9B-8296-4BC2CA8C0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C4C3A-351B-4A75-99A4-4552890F8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56B688-9A87-41D7-8F4B-41FDF8859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74497B-43D4-42C4-9EC2-4A425C7A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A5BF22-27DE-483E-A45E-E90EB4E1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C39816-21D8-44A5-9DA7-472F8695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92D073-8F75-4D77-8D37-7F058E25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987768-6298-403F-8614-9F29E3C9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19E83B-7691-4EC7-B669-76EE6A9A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4A27E-CE08-4FDB-8593-7A33BE3F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92E2F4-5C1D-44A6-B237-FD85E109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F4E15D-8BA4-40A7-BF17-44A2F2E5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4550B2-A60B-4990-8367-A691C259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5E032F-2FD2-4D0B-AA73-B8953804B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1D0FAE-B86E-4AFD-AC17-9CB76C80A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B3D306-C60F-470E-88EE-6170DE042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8943AD-DBF9-4E6F-9AA0-443CEEFA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ECFB5D-40F9-4881-B11E-78F9C490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EA42B1-CB8A-4E32-91F0-9C11F5E3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C43331-951A-4289-ABA8-B6D9C488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615A-ACE1-4A28-939A-90D408D4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A94020-A4B4-41E9-849F-DC59F877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C85BAE-4B01-4B98-B69E-84199C16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373DF7-A5C2-4125-B24E-457BDE2D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7F4DB1-E7EF-4282-9AD4-29BD9998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381C6B-52F3-4220-A134-10F89645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956820-0A99-4F57-9ABD-1D07B3827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21EAF6-6CE3-40E3-B221-1D1986CD0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151836-380A-48CD-9A10-79AC50E5C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AB7054-8300-46AF-956C-913F4E57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FA7FD0-E706-4680-A05B-C1EA10051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695A-F5B4-4E59-9D45-78A12A5C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39A6D6-4C86-419A-ADA0-444E6BFA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7E710C-3A33-458F-B10E-D1024E9D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265476-54BD-47A8-9084-DB1F5819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FE521B-6AAD-442E-89CE-6EAC30EF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010252-F8C9-415B-944C-125AC70A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6A9E28-7082-425D-89B2-912FA8D8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90C660-A956-4B36-B1B1-2AEADE50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AF36DE-7063-441D-BF5C-195E1C74B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56438E-B297-4AEB-93BB-444D3BF93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0304D0-533F-4DC9-9B5B-157B04377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123E3-6394-4C2B-9907-CFFDC26A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9FEF87-71FA-4CA0-8111-BD125BE7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0184B6-445B-4145-8261-70A219DD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B947B4-563B-4BAB-8552-3EBDBA40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3BF93C-7195-4769-AC32-7F34CE29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8BD631-EBB5-415F-8D27-5A205DEB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C1F7D1-F5EA-41F2-8ECA-AC596CC0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AB5EED-2F2C-4CBC-A892-9F36B38D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313F1B-2961-4B34-8FB8-CB25EB1B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A52D9C-FABE-4B55-9324-5D2C7495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D6B5E4-9218-4F66-843C-0E85D762E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F380-2064-4AD0-83EB-21202211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97B168-D5A1-44CE-9730-88702666D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8EADF6-B7FF-4CA4-AF85-3390AE0D9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B44E81-071B-41C0-9A96-FE28CCF7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A20D61-3DF4-4861-93F6-83C52D92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7A3D50-13B8-416D-ACDC-47A370EB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F51B0C-E865-484F-9A1F-F1FB670E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058CE2-9CE0-484A-9595-18FF708C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C422E2-26D4-4A41-8AA2-10255A46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E87225-D59E-40E4-9656-0025FA19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8FBDFD-A3AD-4353-BD1D-2E4D9352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C4FF-008A-4A51-8448-D3E779FB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0E312F-BAC2-4472-A495-2994D92C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28DFF9-E64E-4140-B84D-275E1E06A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F62A58-27B0-4128-A95D-242164F3D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21FF0A-97BC-40E1-9E6F-1C6C7E550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E02CBC-C9A4-48CF-A6AE-3E3C1E73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85673D-1B99-4619-94EF-28BCE593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8A300E-0CDD-4DD8-BDE8-C8AA6F02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2C3039-6248-4457-A97F-B73D5B2A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317C69-1362-4E1E-928C-38863424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2B63B3-3439-456D-A512-4B3CBE5F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629F-B057-4565-A080-646331CE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70AB-BA73-404E-8FA7-191CFD29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CCFE22-F28D-459B-858C-02123487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348F70-DE68-4776-9091-159AB95C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806C2B-5264-4B50-98DD-79E5091A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A62A36-E80A-4206-9E60-F52DE08B2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B81A54-F165-4BC8-AB7E-1E6A1F225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AB97E-C5DF-4903-9DF7-CF2897E4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4EAED-F547-4713-A4DB-6CFCBBC9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5896-F8E8-45F8-9CB3-2D2E97023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516F-2A8F-44E3-85BA-4785A7943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A6ECD-CDE6-41DB-BADF-5699525C4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AF721-2AAA-4954-81BC-3825AAEC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020F5-2F9E-4A0C-85AA-20146E70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0D38C-29C4-4C25-8ADB-211BEE12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23290-CDEC-4232-BB4B-BCB947AA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9C39-6FF4-4032-99D0-4C495D2C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9DC66-DD82-4710-B97E-13CD31DF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CF61C-4C7E-4373-B187-CEB68343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3E71D-2067-4F52-8F0B-2575C8E0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A7E48-902F-472C-A766-78ED768F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C6994-E39C-47CF-8E1C-3A3FF151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33EC8-8E4F-4016-A071-1022C39DB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6D9CF-448B-4551-962D-E113D440C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E675D-645E-44DD-B87F-853BC14A0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0FA2C-B1A7-4BB4-B8C8-2C18A522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20846-61BB-4403-BE1A-33FEEBEE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6DBD-3B9F-428F-BD37-1999EEE5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BDFCA-B90E-427D-ABA6-1E5B204A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8DE5E-8205-4F78-82A1-943615BC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2FB47-BC07-45C6-BAAB-FD9754FA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1C944-C8D1-4E7C-991E-2124843A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8C298-E29F-4E63-80DB-4D73F475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1F08F-A3D5-437A-B75D-406A74C4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BC0EC-A19C-492C-9D37-29FA5724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08E31-2694-4415-8FF1-E6AC5C04E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A1958-FC2B-4612-9BD7-9CCBEF5D6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0353E-ADE3-4200-94F5-9A6A3B0E5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7D06-2352-414A-A0D8-AAC24690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05EB2-5209-43D2-93D5-773F5161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FEBCF-993E-4CCB-A726-B2BEE683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1454E-FCE6-44FE-B3C7-270C76B2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4D654-4620-4442-A03F-D2728FBE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1B3A4-2231-4B6F-811B-F3113CD4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C5FCC-7C1A-476B-A9AF-67E9FE60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02C71-1ABC-439B-A3D5-2216EB77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8BC8B-775E-4FCB-AE1D-4444EB22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3E3C5-CF7B-4302-8F34-11396569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44762-3DD4-4261-B8BB-AB03E7CCA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6E20-9C08-451B-97F8-B77A8A49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3C108-1A70-4585-825C-294C0B8A6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80AB2-E9AF-48FA-A89A-F1B0CA300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CF870-874E-4472-BF79-603F24E4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37F09-2664-4AFB-A907-EFA0B264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625C4-DDFC-4B15-9BBB-6E09D77B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A0354-5D8F-4857-8E38-7B73213C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A7DA4-F39A-41DE-BF4C-5B133D79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A6CC1-7103-42EE-B700-B1E1A994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B99E8-9E6E-481E-9284-471C5272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4FFFE-113D-4E9F-9571-FF23DB2F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2ECD-22C2-4845-B5AE-4DAFB18C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FCDE7-8B26-42F5-A1AC-2A5D36BC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64D9D-7E14-466F-8ACC-8FA00A7AA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52611-65E4-4ED6-804E-89FA1A204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AA50D-F20F-408A-8336-F4E7B04BE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EF2DB-3299-4AAF-831C-E2920F21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9E781-CC98-46A6-BD02-50FBBD1E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8E8A1-D3D4-403A-B4AE-E7C6A4CE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14A4C-318E-4147-86B2-9561A4F3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81D96-8DBB-4411-A4A5-819B42FF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8CE7E-E70B-4455-8F57-50C7C6BB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9110-38F9-493E-A8C9-19850773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CA924-586F-43D9-8E09-29F10315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6B5A4-DBCA-4F17-8F49-78056583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51E32-F70D-4A0E-9613-08B4C05E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A2AC9-CEEA-4B25-9BE1-949322446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9E237-054C-4E69-898E-7B0CF99FE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D9D8E-10C9-41B6-BA43-D399941B6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260E6-0429-455C-B1B9-EFAD3986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54D30-6370-4289-8D45-48A94578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A284A-8752-45DF-8476-22C18B5D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CD289-6E38-42DD-B231-20DBF4A6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A305-2036-44B3-9F25-1447F19B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7FFB2-E36D-4675-84FC-D6F56696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D4302-71D5-4183-AEA5-7E231B00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27A2C-BB68-40E5-834B-71FA70D0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F1301-AB8A-444B-9E4A-1C3DEAAA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41DCB-77D4-4A5D-9DA1-555F0913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FDA1E-6F17-4B99-A812-942F1E59A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1AA19-10A1-426F-8AEB-A36A0EA09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E5B430-9748-412C-978A-B98983479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A802C6-DDC1-4E18-AB73-843A3C19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4A215D-0B90-4178-9FA2-F5EC3017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053B-3F26-4460-89CB-A75E75F86EA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CBCA-C946-4CD2-A7B2-BD3780536C2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A748-B651-43C0-895F-E5621DB417B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42F1-CA4F-4A2B-9C97-CE724861A5C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52A6-B1A4-4A3F-BD23-0F1C9B40A9F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0467-592E-4DDE-8F02-8B67C486167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AB68-A687-4599-B3FD-6F485118CB1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C0B7-DB46-4303-8967-F7D26F88BF4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3AD5-9013-4634-BD02-E155CE34DF3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/>
            <a:ahLst/>
            <a:rect l="l" t="t" r="r" b="b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8DCB-2CA9-468A-87CF-35244472644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A30E-737F-4050-9810-5A6344FE9C3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5096B-615C-4C8D-80FC-824A6C904DE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6DC6-BBD7-4ED7-83FC-B9F047676D9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8552-77F5-4423-BD91-BFD4B76226D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9B37-45D4-48A6-A900-A6D6B4C7AEE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3F1F-B975-460D-9AEC-4DE4F415BAE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8F77-3DB8-40AC-903F-655F4BB602B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2588760" y="2514600"/>
            <a:ext cx="8915400" cy="22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262626"/>
                </a:solidFill>
                <a:latin typeface="Century Gothic"/>
              </a:rPr>
              <a:t>Танцы разных времен</a:t>
            </a:r>
            <a:endParaRPr b="0" lang="en-US" sz="5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2588760" y="4776480"/>
            <a:ext cx="8915400" cy="11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8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2592360" y="-360"/>
            <a:ext cx="891216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entury Gothic"/>
              </a:rPr>
              <a:t>Вальс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1647720" y="755280"/>
            <a:ext cx="431352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Century Gothic"/>
              </a:rPr>
              <a:t>Вальс</a:t>
            </a: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 — общее название бальных, социальных и народных танцев музыкального размера 3/4, исполняется преимущественно в закрытой позиции. Наиболее распространена фигура в вальсе — полный оборот в два такта с тремя шагами в каждом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Родиной Вальса по праву считают Германию в 17 веке. Но он стал популярен в 18 веке в Вене, Австрии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В германии в старину назывался </a:t>
            </a:r>
            <a:r>
              <a:rPr b="0" i="1" lang="ru-RU" sz="1700" spc="-1" strike="noStrike">
                <a:solidFill>
                  <a:srgbClr val="404040"/>
                </a:solidFill>
                <a:latin typeface="Century Gothic"/>
              </a:rPr>
              <a:t>роллер</a:t>
            </a: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 – круженец и </a:t>
            </a:r>
            <a:r>
              <a:rPr b="0" i="1" lang="ru-RU" sz="1700" spc="-1" strike="noStrike">
                <a:solidFill>
                  <a:srgbClr val="404040"/>
                </a:solidFill>
                <a:latin typeface="Century Gothic"/>
              </a:rPr>
              <a:t>дреер</a:t>
            </a: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 – вертенец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Лендлер – один из наиболее близких вальсу предшественников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80" name="Объект 5" descr=""/>
          <p:cNvPicPr/>
          <p:nvPr/>
        </p:nvPicPr>
        <p:blipFill>
          <a:blip r:embed="rId1"/>
          <a:stretch/>
        </p:blipFill>
        <p:spPr>
          <a:xfrm>
            <a:off x="6813720" y="631800"/>
            <a:ext cx="4883040" cy="5859360"/>
          </a:xfrm>
          <a:prstGeom prst="rect">
            <a:avLst/>
          </a:prstGeom>
          <a:ln w="0">
            <a:noFill/>
          </a:ln>
        </p:spPr>
      </p:pic>
      <p:sp>
        <p:nvSpPr>
          <p:cNvPr id="1181" name="TextBox 6"/>
          <p:cNvSpPr/>
          <p:nvPr/>
        </p:nvSpPr>
        <p:spPr>
          <a:xfrm>
            <a:off x="2749320" y="6305400"/>
            <a:ext cx="35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О. Ренуар «Танец в Буживале»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23T07:30:41Z</dcterms:created>
  <dc:creator>VVZ</dc:creator>
  <dc:description/>
  <dc:language>en-US</dc:language>
  <cp:lastModifiedBy>VVZ</cp:lastModifiedBy>
  <dcterms:modified xsi:type="dcterms:W3CDTF">2021-02-23T07:38:19Z</dcterms:modified>
  <cp:revision>1</cp:revision>
  <dc:subject/>
  <dc:title>Танцы разных времен</dc:title>
</cp:coreProperties>
</file>