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8552-383F-4A26-8573-79BD33D8E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05B-A3B1-47B5-BE73-DB6EE3771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4B1-75D8-43C6-9BDE-0A4EB9EA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B3D-DA2F-4BC7-B095-F43EFC6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369-6A74-4949-BDB3-2B8B5B2A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98A-692E-4B0F-9A66-495AC733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32D-6E13-4A37-9496-8E614C5D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AA55-ECA3-40A9-9702-A9FDEF5B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BB97-B04B-44D6-A378-51E2712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E46-DD08-4163-A29E-500F4B5D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EE81-3423-4934-933F-1CB9F41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3BCE-0F18-409A-809B-597D56C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724-1944-437F-AD51-4AF7FF0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141-07A6-4ACD-8FB7-591592C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59F-2416-4A8F-A039-1DD4210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1DD-D6A0-449A-8B30-7B4D650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8196-DA12-48B5-AD3C-55C10CDF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A36-5BB7-4EEC-A425-8AEA5AF5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549-E40A-4DED-A92D-1ED202A0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9216-FA97-46D1-9CA5-5E539DA0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5377-1CCE-496F-B8FB-AFF5331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E24A-1D10-4B9E-8BE9-A96B4CF0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5B94-50B1-4832-BB62-66510519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CF08-5F4D-4C65-8CD9-831304B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2FF-86FD-4007-BE8F-42D9EDD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EFB1-0718-475A-80C1-0A3B442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B199-BE04-48D3-9D43-6D8C519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0360-B578-4056-96B3-8224885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1EAC-DAF3-42C6-9E5E-0794FE5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AFBC-1BD1-4889-A665-C223FF8D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EE68-6F50-432C-B29F-38A30DEB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02D5-48BE-4FFF-96CF-F6B3F68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6630-931D-447C-83FC-D7199BFA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6E92-AC0F-47CA-B1DA-49A882A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78D6-68D8-41B9-8BDF-45634286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062-2ADD-4938-98FE-3C6A870B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46D2-9A40-4DE0-A0DA-6A16379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F135-20B4-498B-865F-9C0DF4F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7E26-69A5-465E-B492-71BD272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3C94-8257-4F5E-B3DF-C4A7772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3202-3824-4DD9-9A28-7C90E08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5454-D740-4BB3-BBD3-81D790D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E983-C0AA-4F37-95F0-44DD1A2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888B-FE63-4313-8E32-953A6D61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0632-FF0F-4E19-BB0B-ACCECCCD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83B-4AC6-4994-A5D3-8D86A37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A68-B1CB-4B66-B5CC-B30C35E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7E5-0F25-4613-8929-873FA83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DC5-78F0-4410-9283-F8810BC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73A-07FD-4632-B9DD-D074AC6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9E35-F662-4E1E-8027-68767B8D3C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310-F4DE-4E42-B85F-210E61D2F6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B7C6-90CC-4BEC-AFC2-C0DFB7BF82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E6D2-EA43-4169-AD56-F19E169D92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члены предложени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64000" y="4436640"/>
            <a:ext cx="361008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итель                   начальных классов                                                Цикина Ирина                                                       Владимиров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"/>
          <p:cNvPicPr/>
          <p:nvPr/>
        </p:nvPicPr>
        <p:blipFill>
          <a:blip r:embed="rId1"/>
          <a:stretch/>
        </p:blipFill>
        <p:spPr>
          <a:xfrm>
            <a:off x="461880" y="4116240"/>
            <a:ext cx="2952720" cy="218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истопис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935000"/>
            <a:ext cx="800244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 Со су сн С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исать в соединени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ктерист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ков [с,с’]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скороговорк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 в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 на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, з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л и св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ся во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3" descr=""/>
          <p:cNvPicPr/>
          <p:nvPr/>
        </p:nvPicPr>
        <p:blipFill>
          <a:blip r:embed="rId1"/>
          <a:stretch/>
        </p:blipFill>
        <p:spPr>
          <a:xfrm>
            <a:off x="6588000" y="358920"/>
            <a:ext cx="2127240" cy="170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3" descr=""/>
          <p:cNvPicPr/>
          <p:nvPr/>
        </p:nvPicPr>
        <p:blipFill>
          <a:blip r:embed="rId1"/>
          <a:stretch/>
        </p:blipFill>
        <p:spPr>
          <a:xfrm>
            <a:off x="749160" y="311040"/>
            <a:ext cx="7315200" cy="50594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"/>
          <p:cNvPicPr/>
          <p:nvPr/>
        </p:nvPicPr>
        <p:blipFill>
          <a:blip r:embed="rId2"/>
          <a:stretch/>
        </p:blipFill>
        <p:spPr>
          <a:xfrm>
            <a:off x="5651640" y="4073400"/>
            <a:ext cx="3112920" cy="246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4617b"/>
                </a:solidFill>
                <a:latin typeface="Calibri"/>
              </a:rPr>
              <a:t>Редактирова</a:t>
            </a: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ть </a:t>
            </a:r>
            <a:r>
              <a:rPr b="0" i="1" lang="en-US" sz="4400" spc="-1" strike="noStrike">
                <a:solidFill>
                  <a:srgbClr val="04617b"/>
                </a:solidFill>
                <a:latin typeface="Calibri"/>
              </a:rPr>
              <a:t>предложени</a:t>
            </a: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я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935000"/>
            <a:ext cx="793116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В лесу шумит ветер. Ветер завывает. Ветер гонит опавшие листь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На юг улетают журавли. Улетают грачи. Улетают скворц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"/>
          <p:cNvPicPr/>
          <p:nvPr/>
        </p:nvPicPr>
        <p:blipFill>
          <a:blip r:embed="rId1"/>
          <a:stretch/>
        </p:blipFill>
        <p:spPr>
          <a:xfrm>
            <a:off x="6516720" y="4654440"/>
            <a:ext cx="2392200" cy="184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214200" y="160200"/>
            <a:ext cx="8715600" cy="653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Найди пару»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5000"/>
            <a:ext cx="80755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в огне не горит                и труд вс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еретрут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Лес от ветра защищает,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и в воде н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н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Терпенье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жаю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омогает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6588000" y="4811760"/>
            <a:ext cx="2463840" cy="17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847880"/>
            <a:ext cx="793116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Закончите предложение, используя однородные члены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Урок для меня был. . . , . . . , . .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6588000" y="4869000"/>
            <a:ext cx="2392560" cy="161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6840" y="1125000"/>
            <a:ext cx="81471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600720" cy="226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ова</dc:creator>
  <dc:description/>
  <dc:language>en-US</dc:language>
  <cp:lastModifiedBy>Ирина Цикина</cp:lastModifiedBy>
  <dcterms:modified xsi:type="dcterms:W3CDTF">2021-10-25T07:07:54Z</dcterms:modified>
  <cp:revision>197</cp:revision>
  <dc:subject/>
  <dc:title>Однородные члены предложения</dc:title>
</cp:coreProperties>
</file>