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176-DA68-49B5-BB19-EE682212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549-3EFC-48D5-944C-ED174D7C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840-5C19-46F9-8502-66AE98F4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AD1-B837-4EEE-9424-E22265ED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111-8439-4E51-8217-133C8B7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B8E-0A50-46DC-B2D0-70A5F04F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2A5-68E7-4EFE-9E8B-A7E55903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681-45FA-4E46-8E9E-0012716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45E-24FD-4856-8436-FBD53CC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EAC-D5E1-477E-BADE-517E7CBC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74A-241D-4782-8FCB-E65F6E84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42B-01F7-4F74-B834-C0F54E3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B87-DC6D-43D2-9AF7-5A4E4656D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t-n.r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pedsovet.su/rtr/13-90-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chporta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rcRect l="0" t="0" r="0" b="88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0" y="0"/>
            <a:ext cx="457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окажи мне, я смогу запом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озволь мне это сделать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И это станет моим на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80880" y="152280"/>
            <a:ext cx="1752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Снимок3"/>
          <p:cNvPicPr/>
          <p:nvPr/>
        </p:nvPicPr>
        <p:blipFill>
          <a:blip r:embed="rId1"/>
          <a:srcRect l="0" t="0" r="-80" b="0"/>
          <a:stretch/>
        </p:blipFill>
        <p:spPr>
          <a:xfrm>
            <a:off x="533520" y="1447920"/>
            <a:ext cx="8153280" cy="5091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2815200" y="60948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www.moi-universitet.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52280" y="1386000"/>
            <a:ext cx="8991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724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3297960" y="60948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ttp://www.zavuch.inf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380880" y="4572000"/>
            <a:ext cx="82296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фессиональное сетевое сообще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формальная или неформальная группа профессионалов, работающих в одной предметной или проблемной профессиональной деятельности в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80880" y="1596960"/>
            <a:ext cx="83059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етевые сообщества учи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я форма организации профессиональной деятельности в сети. Участие в профессиональных сетевых объединениях позволяет учителям, живущим в разных уголках одной страны и за рубежом общаться друг с другом, решать профессиональные вопросы, реализовать себя и повышать свой професс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743200" y="385200"/>
            <a:ext cx="6095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Участвуя в педагогических интернет – сообществах, учитель имеет возмож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457200" y="1191240"/>
            <a:ext cx="846936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ться и приобретать знания, умения и кач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е современному челов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самую современную информацию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ующей тем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квалифицированные консультации и сов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ть доступ к методической базе разработ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ться с коллегами на различных форум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овать свои материа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ть участие в обсуждении опубликованных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вовать в професс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10218" t="14199" r="9043" b="0"/>
          <a:stretch/>
        </p:blipFill>
        <p:spPr>
          <a:xfrm>
            <a:off x="3505320" y="0"/>
            <a:ext cx="5638680" cy="449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2230560"/>
            <a:ext cx="61722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650400" y="68580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t-n.r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458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3877560" y="762120"/>
            <a:ext cx="34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edsovet.s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portf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191120"/>
            <a:ext cx="1871640" cy="1698480"/>
          </a:xfrm>
          <a:prstGeom prst="rect">
            <a:avLst/>
          </a:prstGeom>
          <a:ln w="19080">
            <a:solidFill>
              <a:srgbClr val="9e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3599640" y="457200"/>
            <a:ext cx="49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chportal.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Снимок2"/>
          <p:cNvPicPr/>
          <p:nvPr/>
        </p:nvPicPr>
        <p:blipFill>
          <a:blip r:embed="rId2"/>
          <a:stretch/>
        </p:blipFill>
        <p:spPr>
          <a:xfrm>
            <a:off x="380880" y="1523880"/>
            <a:ext cx="8305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724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663000" y="60948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ttp://intergu.r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9370" t="20835" r="18596" b="8392"/>
          <a:stretch/>
        </p:blipFill>
        <p:spPr>
          <a:xfrm>
            <a:off x="304920" y="1592280"/>
            <a:ext cx="8381880" cy="48085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732120" y="762120"/>
            <a:ext cx="38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metodisty.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6:27:27Z</dcterms:created>
  <dc:creator>Зам директора по УВР</dc:creator>
  <dc:description/>
  <dc:language>en-US</dc:language>
  <cp:lastModifiedBy>Татьяна Малышева</cp:lastModifiedBy>
  <dcterms:modified xsi:type="dcterms:W3CDTF">2021-10-25T12:37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