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8B8-4C1C-4DFE-9DC9-718D219A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BFA-C79A-4E81-9EDA-E3AA7A04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E05-0E0C-4462-87AB-541196FD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426-744E-4AF9-B662-E33E53B1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763-A94A-4867-A5C3-F332CC5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1B7-E4CE-43F0-A688-9B797191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782-BADA-42F6-AAAB-21FCCA25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A73-9777-4BDB-9729-09D8F898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637-ADBD-46C2-AC5E-30FDD1BD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937-7660-4C77-84C7-BAF070B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527-E2DA-424E-A64A-257F7D9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FE0-E8B3-45B6-B3EF-B1F5D16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AD13-A86B-48F6-8442-5F7236032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llegebound.net/blog/wp-content/uploads/2008/10/autumn_school.jpg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www.it-n.ru/" TargetMode="External"/><Relationship Id="rId4" Type="http://schemas.openxmlformats.org/officeDocument/2006/relationships/hyperlink" Target="http://www.openclass.ru/" TargetMode="External"/><Relationship Id="rId5" Type="http://schemas.openxmlformats.org/officeDocument/2006/relationships/hyperlink" Target="http://www.uchportal.ru/" TargetMode="External"/><Relationship Id="rId6" Type="http://schemas.openxmlformats.org/officeDocument/2006/relationships/hyperlink" Target="http://metodisty.ru/" TargetMode="External"/><Relationship Id="rId7" Type="http://schemas.openxmlformats.org/officeDocument/2006/relationships/hyperlink" Target="http://pedsovet.org/" TargetMode="External"/><Relationship Id="rId8" Type="http://schemas.openxmlformats.org/officeDocument/2006/relationships/hyperlink" Target="http://www.zavuch.info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0" t="0" r="0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0" y="0"/>
            <a:ext cx="457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кажи мне, я смогу запом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зволь мне это сделать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 это станет моим на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асть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10637" t="13388" r="11420" b="3422"/>
          <a:stretch/>
        </p:blipFill>
        <p:spPr>
          <a:xfrm>
            <a:off x="395280" y="30240"/>
            <a:ext cx="85327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8748720" cy="670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705720" y="-152280"/>
            <a:ext cx="2438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24215" t="17034" r="18500" b="5780"/>
          <a:stretch/>
        </p:blipFill>
        <p:spPr>
          <a:xfrm>
            <a:off x="0" y="0"/>
            <a:ext cx="67881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986440" y="1197000"/>
            <a:ext cx="315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26140" t="10246" r="3750" b="13872"/>
          <a:stretch/>
        </p:blipFill>
        <p:spPr>
          <a:xfrm>
            <a:off x="179280" y="927000"/>
            <a:ext cx="7309080" cy="593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2808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133720" y="3048120"/>
            <a:ext cx="64292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04920" y="1295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гистрация сайта  на страницах Интерн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09480" y="5410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llegebound.net/blog/wp-content/uploads/2008/10/autumn_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ртинка для 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43080" y="1889280"/>
            <a:ext cx="84960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тернет - сообщество учителей Екатерины Пашк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еть творческих учите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ткрыт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Учительский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етоди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ед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Завуч-инф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универс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- государство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09480" y="470844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gasus.cc.ucf.edu/~csrce/images/photos/William%20Glasser%20Photo.jpg Уильям Гласс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2819520" y="914400"/>
            <a:ext cx="579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02a00"/>
                </a:solidFill>
                <a:effectLst>
                  <a:outerShdw dist="17819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Использованные ресурсы</a:t>
            </a:r>
            <a:endParaRPr b="1" lang="en-US" sz="1800" spc="1" strike="noStrike">
              <a:ln w="0">
                <a:noFill/>
              </a:ln>
              <a:solidFill>
                <a:srgbClr val="b02a00"/>
              </a:solidFill>
              <a:effectLst>
                <a:outerShdw dist="17819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08760" y="6070680"/>
            <a:ext cx="4127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cde.g-sv.ru/content/node/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6:27:27Z</dcterms:created>
  <dc:creator>Зам директора по УВР</dc:creator>
  <dc:description/>
  <dc:language>en-US</dc:language>
  <cp:lastModifiedBy>Татьяна Малышева</cp:lastModifiedBy>
  <dcterms:modified xsi:type="dcterms:W3CDTF">2021-10-25T12:39:2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