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7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8B8-F5FE-4F8A-B87C-EB8946C1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AC6D-0674-457E-B7D1-3EC97617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42A3B-9778-4FB1-9D7D-F60DE55C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29A63-C8E5-42D2-ADB5-AE187843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F7D57-A429-44C0-922A-A74AB323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107D1-B989-4CA2-B7A3-37DB828F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4BD7D-94B6-43EB-8A49-975FF83C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C4748-5816-496D-B373-7E1751B3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1F262-CAAC-4F55-BDFD-31E28258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46D72-496C-43E2-BEA8-6A1FC36F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A4FEB-12B3-4532-BB54-2CAF1D8E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944DB-2CCE-47B2-BBFB-680F8C21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2C7-36FD-4AB1-9527-B525C55B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82428-BFCF-49FF-A3C8-03AE86BD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9F050-0C5F-42DA-910E-5C71BDCE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88570-F96D-425E-863E-A6B81046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ADDE4-CBD1-453E-8769-EFDA1611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45DD4-72FB-4621-994D-F4D6574E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41D7F-C0D2-4F6F-ABF8-91F857FF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40A4B-B501-41E9-BE90-E8088B35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D7772-AEE7-4B91-B896-38F853FC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2AFCD-2465-4C7A-8148-FF4B820F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BC016-B2B8-487A-943C-81DF4ACE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C39-E86E-46BB-AA0D-72E365D4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F9A9E-7718-40F6-9ABE-181DA69B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81A31-D934-41FF-B68D-AD457BC5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81CDF-1383-4F08-8910-E5CE0F6A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DB714-8053-4FCF-859F-EB8C71EF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3C611-17F5-4111-A35A-3C5A9BE7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54127-94A0-41D0-9E96-61FB6E0E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C5ECE-740C-4144-A1A7-F6F6ABC1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5BE34-3A7D-403A-B437-C0B011C8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E7757-2EB4-470B-BCC3-E8E7B3F0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84731-3B25-428F-BC59-5F0BE1A7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DA3A-B0AE-4A8C-BFF3-7D6F06FC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B4590-F64C-47F5-8D5F-3AAC46EF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0DCF4-D71B-46F6-B449-C6BD647E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26D36-4474-41ED-BEFF-CC8EABE2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A3C06-3422-43CB-A3F9-A5D738F2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43A32-5DCD-458E-B6DA-E9BE69AF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D9FD2-0F77-49BE-93A3-4687BA5A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0E7C8-BE92-4ACE-9057-C32A9C29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56E31-1699-416C-9E3F-A4EDA171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17E13-ED14-4600-96A4-F98C5F72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1A620-1AB0-4A2E-A2C9-62BBE716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27CF-FE2D-458B-A479-D55990A0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03DE5-018A-446D-8BBD-B1CA66BC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4501C-7100-45C2-84C4-BB519211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54A85-AF04-432E-96CF-9AEA40C7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46B45-9AE7-4139-AE06-D1D2369F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606AA-7AAE-4192-9AFF-08812756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52951B-0A11-4449-B817-7C5245F8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7F932-761B-4B36-9260-56DE71CB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48EA9B-A2FC-4DBB-BA70-E449B4D0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917C5F-E6B1-4A8F-84E4-DB6D668C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8B71BF-291D-4741-9C64-14F61116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EA61-BD81-4CFC-92EB-65F6A772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1F03F7-3FEA-4027-882C-C300455E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D496A-AFDA-4207-9C45-3B84AC66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CD094-73D1-4052-9107-30AFFFA4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98B43C-253D-4A9F-B43E-7542DE20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3020E-EFF7-4744-8E52-93467254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3D4C4-835F-4A19-9B09-EAD47BCE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400979-DA2A-48DE-BBAC-824671D9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904E70-E7D4-4638-A856-CF68F944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88C5E4-B2D4-4AFD-A049-612030A4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FE4178-09E3-485A-AE6A-4DCA2CB6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AD5F-37B8-485B-9587-95F0B816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0F663C-6BB0-40A1-B0F0-158212FE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FEF02A-4ADF-49E6-9A4E-5F166D45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1FE445-C88A-4C69-AA70-49AF4072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960DE3-D858-473D-B3AA-05ECAE84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CD5120-E9C2-462E-850B-AB2DC206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9B1619-BA19-48CD-90EF-373C4A77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FBA625D-0BA1-47AE-B0E8-73B3EFB3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7C388E-EAB5-4152-BFE0-23060143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9DEC01-6785-4ECC-85A8-BF1F6509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78BB-90D0-414A-AD90-6D24E6AC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E4D2-2402-4C56-8404-FDB629A0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0262-DC49-4116-90B0-0EF53523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1943-CEDD-43F9-A447-7A89628F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9B7D-B6FE-45DB-AA76-23B70755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CCEB-C1DE-41D2-99D0-25895835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87B6-517F-4533-83F0-519A47BE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912B-12BA-47FF-97BC-DF585103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9C92-CFB9-4F5A-B58C-6656B1B5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3EA72-282E-4164-B1D7-5E523610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E8B1E-6B12-4362-BF0C-55935805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06501-E2A8-45D1-B2F5-D3430137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376A7-C700-419A-993D-155A275C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B1798-DA97-4597-946E-8DE241C3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1D7-A27B-468A-9583-5F90E700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A6EBC-6ED9-4202-A1BD-567AD638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B713F-2406-4F7B-B7CC-9472AB4B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FCFBB-2866-4DC7-A576-49DCDCC0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E0DE1-073D-4A1A-89B2-91C364F0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362C5-F313-4D81-9A35-6BC17214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2F169-69C1-45DB-881B-C961EA56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F01CF-0792-491A-A6B6-49A48578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7E522-B63B-43C3-8779-D65DE6B7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9D155-3E78-4AB8-A6C5-8A7AB22E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0DCBB-2DE3-487C-AD0C-C8B3B290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3F2-5926-4696-A20F-86BCE75B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A2FB9-B97E-4225-816D-53DCC043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3970F-CA1A-4DC3-B835-FC33DE72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DA641-3D49-4663-8BA6-1E4FF56B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E8231-7789-401E-81B1-FE868DDE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02574-BBD0-428B-AC45-F1FCF920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481DF-1D59-46A5-8C7A-43F35D00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083C8-B43A-4321-92BB-6A76F7D3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4339A-3617-49EC-9049-76E59DA1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D43B3-0CEA-42ED-910E-04A08A90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7861F-AD2F-4CEC-A489-A8A11787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B8C7-58F7-4EF8-ACA5-C64E0E12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FFA06-1119-45F3-93C3-23905C2D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450E7-8D64-4123-9B19-5B9626F0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4186D-0231-4ED4-9BB4-1B430DF9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371F8-6578-4DE4-B325-1BB8926F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274AA-B4ED-484C-AD53-4C21B8F2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9C946-3A06-4F95-91E6-6A31B7A0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859F2-C7DE-44F8-ADC5-F7D07B3C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960C5-B321-431F-8832-73C68849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AD326-E809-4581-AB72-C4B1E287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81644-0F4C-4E1B-BB73-C55A99C0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48E2-972A-49BB-A847-78968FDA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2387B-E442-4FDD-AEA6-166F6851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5BBA2-0B91-4D85-80AA-E6D0786C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98CF5-703F-48BE-BFE1-D5359443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F8D38-156D-4DD4-BD6B-B75F6970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98EFD-ACC5-4FF5-9F94-2A6DCD8A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84407-81C8-44BE-B931-E4FF5781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6655F-A2D2-40A6-90FB-DD80CB04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8D661-9CDD-42CF-94F0-642E7A63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47F67-CCDB-4F20-B48B-72307879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D4B75-7300-47DB-ABD6-0B43E615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CDA-04AE-4EA8-9B8C-62598776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E6D72-ED08-4736-8F43-06ABAF40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6B54A-03DB-4B29-ABFF-B767A1AE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80EB1-D9C8-4F79-8F60-D7BF6995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6F0DA-FEB8-41C2-B7C9-9395E03D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A88DD-6B75-4A08-89E8-CDB43880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7F9D7-3157-48AA-9052-7FB43A37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B3E45-929E-4983-AB2B-399F7C01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BEB5D-2DC9-4960-A4B1-8D5C8D88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C8960-5635-4CE3-B710-A953BF3C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3BC03-AE35-4FEE-989C-D6F5304A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5D1-4B94-4D12-8360-E57FB795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95A91-87E8-4179-AFB1-C6B3F6FA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4F51D-6938-42CB-9DBE-E7D32423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28BFF-A1E9-41D2-9243-225A4DD5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846A2-A2D5-4CB5-8AFB-1B4892FA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2F857-C654-4C09-A6EE-BBD0D8A3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C10D5-B1F2-4FB2-8B74-DDD284E3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D71A8-242C-4FE7-B371-D7037272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A9266-E018-4D6C-AF4C-93C6746A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E30D5-BC8B-48DC-BF76-9D50E5FF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45063-BDAE-46A9-9DB9-AB6317FE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465-70B7-47E8-AD4F-3905C6AF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0529E-E01C-4D69-AE5F-D5170882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D9256-4F48-446A-BAF5-776C7985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7B36F-91F8-4945-8491-EF8E6AE0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CC36E-3D46-4C52-BF8D-D2CD779C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55902-3282-4494-8491-07664410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607CC-6C81-45A6-A7C4-AA2D8427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01F80-03E6-4CA6-8CEE-4932AA8A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CA64C-F7B3-4FD9-8B78-B5BEA057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E7105-0AF8-49A5-A5E2-C3F0519F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95C3A-423E-48E6-95A7-9C4639CE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FBBA-FF70-41C2-BFBC-957D4F4EE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98E2-77D4-4B4B-819B-D80491FE1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E894-B0E2-4EEC-B599-763E5B947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E5F3-AA1C-4C9C-8797-95ED01CF8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B6EA-00CF-4123-B415-98B594FAC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FB36-A4B5-4C52-8BB0-E41E2D2DA2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8EB1-FCF9-4427-9DCA-B2C95EEB4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F36F-D6E5-4F92-BE15-7B19A09A8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29CC-63BB-45A6-B53F-C6483EC8F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9ABB-89AF-4615-80AA-30703BC44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BA0E-00BF-4351-945F-8139B13BB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BC4B-594B-4C5D-AF76-B0E28BEF4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0018-46D5-43AA-BC50-753FD8E24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E97B-9217-4B3E-8C74-798ABBEAB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5.nnm.ru/f/4/f/d/1/e65113ca317270f51eb1e3e7642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5;&#1089;&#1090;&#1080;&#1090;&#1091;&#1094;&#1080;&#1086;&#1085;&#1085;&#1099;&#1081;_&#1089;&#1090;&#1088;&#1086;&#1081;" TargetMode="External"/><Relationship Id="rId2" Type="http://schemas.openxmlformats.org/officeDocument/2006/relationships/hyperlink" Target="http://ru.wikipedia.org/wiki/&#1055;&#1088;&#1072;&#1074;&#1072;_&#1080;_&#1089;&#1074;&#1086;&#1073;&#1086;&#1076;&#1099;_&#1095;&#1077;&#1083;&#1086;&#1074;&#1077;&#1082;&#1072;_&#1080;_&#1075;&#1088;&#1072;&#1078;&#1076;&#1072;&#1085;&#1080;&#1085;&#1072;" TargetMode="External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8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564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2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2 декабря 1993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C:\Users\303-5\Desktop\36.jpg"/>
          <p:cNvPicPr/>
          <p:nvPr/>
        </p:nvPicPr>
        <p:blipFill>
          <a:blip r:embed="rId1"/>
          <a:stretch/>
        </p:blipFill>
        <p:spPr>
          <a:xfrm>
            <a:off x="85680" y="3965400"/>
            <a:ext cx="4130640" cy="27892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" descr="C:\Users\303-5\Desktop\KMO_128025_01741_1_t218.jpg"/>
          <p:cNvPicPr/>
          <p:nvPr/>
        </p:nvPicPr>
        <p:blipFill>
          <a:blip r:embed="rId2"/>
          <a:stretch/>
        </p:blipFill>
        <p:spPr>
          <a:xfrm>
            <a:off x="85680" y="1459080"/>
            <a:ext cx="4130640" cy="23209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C:\Users\303-5\Desktop\84328-pic_52.png"/>
          <p:cNvPicPr/>
          <p:nvPr/>
        </p:nvPicPr>
        <p:blipFill>
          <a:blip r:embed="rId3"/>
          <a:stretch/>
        </p:blipFill>
        <p:spPr>
          <a:xfrm>
            <a:off x="5904000" y="1812960"/>
            <a:ext cx="2774880" cy="3679920"/>
          </a:xfrm>
          <a:prstGeom prst="rect">
            <a:avLst/>
          </a:prstGeom>
          <a:ln w="0">
            <a:noFill/>
          </a:ln>
        </p:spPr>
      </p:pic>
      <p:sp>
        <p:nvSpPr>
          <p:cNvPr id="603" name="Стрелка вправо 3"/>
          <p:cNvSpPr/>
          <p:nvPr/>
        </p:nvSpPr>
        <p:spPr>
          <a:xfrm>
            <a:off x="4464000" y="3419640"/>
            <a:ext cx="1216080" cy="1118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efebf7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Рисунок 3" descr="DQ1WuB4W4AAW3sK.jpg"/>
          <p:cNvPicPr/>
          <p:nvPr/>
        </p:nvPicPr>
        <p:blipFill>
          <a:blip r:embed="rId1"/>
          <a:stretch/>
        </p:blipFill>
        <p:spPr>
          <a:xfrm>
            <a:off x="1176480" y="963720"/>
            <a:ext cx="6965640" cy="4545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WordArt 4"/>
          <p:cNvSpPr txBox="1"/>
          <p:nvPr/>
        </p:nvSpPr>
        <p:spPr>
          <a:xfrm>
            <a:off x="590400" y="181080"/>
            <a:ext cx="819324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alibri"/>
              </a:rPr>
              <a:t>День  Конституции  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4608360" y="1320840"/>
            <a:ext cx="4535640" cy="4718160"/>
          </a:xfrm>
          <a:prstGeom prst="verticalScroll">
            <a:avLst>
              <a:gd name="adj" fmla="val 9268"/>
            </a:avLst>
          </a:prstGeom>
          <a:solidFill>
            <a:srgbClr val="d6dbe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WordArt 8"/>
          <p:cNvSpPr txBox="1"/>
          <p:nvPr/>
        </p:nvSpPr>
        <p:spPr>
          <a:xfrm>
            <a:off x="5173560" y="2000160"/>
            <a:ext cx="3438720" cy="347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alibri"/>
              </a:rPr>
              <a:t>1993 – 2019 г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alibri"/>
              </a:rPr>
              <a:t>26 лет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alibri"/>
              </a:rPr>
              <a:t>Конституции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alibri"/>
              </a:rPr>
              <a:t>Российской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alibri"/>
              </a:rPr>
              <a:t>Федерации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alibri"/>
              <a:ea typeface="Calibri"/>
            </a:endParaRPr>
          </a:p>
        </p:txBody>
      </p:sp>
      <p:pic>
        <p:nvPicPr>
          <p:cNvPr id="608" name="Picture 10" descr="Картинка 12 из 143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122480"/>
            <a:ext cx="2587680" cy="3606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80172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ридические переверты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16000" y="167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ВОПРАНА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авонаруш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ТУПНИПР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Преступл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ППОРС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ступ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80172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801720" y="73620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ы, многонациональный народ Российской Федерации, соединенные общей судьбой на своей земле… чтя память предков, передавших нам любовь и уважение к Отечеству, веру в добро и справедливость, … стремясь обеспечить благополучие и процветание России,… сознавая себя частью мирового сообщества, принимаем КОНСТИТУЦИЮ РОССИЙСКОЙ ФЕДЕРАЦИИ»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амбул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это вводная часть, предшествующая  тексту глав  Конституции стра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247680" y="20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епосредственно структуру Конституции России можно отобразить следующим образо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здел перв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лава 1. </a:t>
            </a:r>
            <a:r>
              <a:rPr b="0" lang="ru-RU" sz="2200" spc="-1" strike="noStrike" u="sng">
                <a:solidFill>
                  <a:srgbClr val="6379ce"/>
                </a:solidFill>
                <a:uFillTx/>
                <a:latin typeface="Calibri"/>
                <a:hlinkClick r:id="rId1"/>
              </a:rPr>
              <a:t>Основы конституционного строя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 (статьи 1—1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лава 2. </a:t>
            </a:r>
            <a:r>
              <a:rPr b="0" lang="ru-RU" sz="2200" spc="-1" strike="noStrike" u="sng">
                <a:solidFill>
                  <a:srgbClr val="6379ce"/>
                </a:solidFill>
                <a:uFillTx/>
                <a:latin typeface="Calibri"/>
                <a:hlinkClick r:id="rId2"/>
              </a:rPr>
              <a:t>Права и свободы человека и гражданина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 (статьи 17—6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лава 3. Федеративное устройство (статьи 65—7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лава 4. Президент Российской Федерации (статьи 80—9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лава 5. Федеральное Собрание (статьи 94—1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лава 6. Правительство Российской Федерации (статьи 110—11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лава 7. Судебная власть (статьи 118—12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лава 8. Местное самоуправление (статьи 130—13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лава 9. Конституционные поправки и пересмотр Конституции (статьи 134—13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здел второй. Заключительные и переходные полож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80172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5"/>
          <p:cNvSpPr/>
          <p:nvPr/>
        </p:nvSpPr>
        <p:spPr>
          <a:xfrm>
            <a:off x="195120" y="6370560"/>
            <a:ext cx="851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Заголовок 1" descr=""/>
          <p:cNvPicPr/>
          <p:nvPr/>
        </p:nvPicPr>
        <p:blipFill>
          <a:blip r:embed="rId1"/>
          <a:stretch/>
        </p:blipFill>
        <p:spPr>
          <a:xfrm>
            <a:off x="201600" y="1536840"/>
            <a:ext cx="9144000" cy="267012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1"/>
          <p:cNvSpPr/>
          <p:nvPr/>
        </p:nvSpPr>
        <p:spPr>
          <a:xfrm>
            <a:off x="0" y="2468520"/>
            <a:ext cx="9144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он есть высшее проявление человеческой мудр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ующее опыт людей на благо обществ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                                                          Сэмьюил Джонс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88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а и свободы, обязанности гражд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«Право»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 это мера дозволенного п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«Обязанность»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 это мера должного п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9800" y="2959200"/>
            <a:ext cx="863892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ст.2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жилище неприкосновенно. Никто не вправе проникать в жилище против воли проживающих в нём лиц иначе как в случаях, установленных федеральным законом, или на основании судебного реше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.2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сбор, хранение, использование и распространение информации о частной жизни лица без его согласия не допускаетс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.4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каждый имеет право на образован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.2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каждый имеет право на тайну переписки, телефонных переговоров, почтовых, телеграфных и иных сообщений. Ограничение этого права допускается только на основании судебного реше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.75 п.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денежной единицей в Российской Федерации является рубль. Денежная эмиссия осуществляется исключительно Центральным банком Российской Федерации. Введение и эмиссия других денег в РФ не допускаетс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.38 п.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материнство и детство, семья находится под защитой государств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.68 п.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государственным языком РФ на всей её территории является русский язык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.4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каждый имеет право на охрану здоровья и медицинскую помощь. Медицинская помощь в государственных и муниципальных учреждениях оказывается гражданам бесплатно за счёт средств соответствующего бюджета, страховых взносов или других поступ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http://900igr.net/datas/obschestvoznanie/Rossijskaja-gosudarstvennost/0019-019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38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тановление Конститу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3" descr="C:\Users\303-5\Desktop\1001394-i_109.jpg"/>
          <p:cNvPicPr/>
          <p:nvPr/>
        </p:nvPicPr>
        <p:blipFill>
          <a:blip r:embed="rId1"/>
          <a:stretch/>
        </p:blipFill>
        <p:spPr>
          <a:xfrm>
            <a:off x="3733920" y="3076560"/>
            <a:ext cx="2525760" cy="33354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" descr="C:\Users\303-5\Desktop\5.12.15-1bb5bc990afac92cdf4b93.jpg"/>
          <p:cNvPicPr/>
          <p:nvPr/>
        </p:nvPicPr>
        <p:blipFill>
          <a:blip r:embed="rId2"/>
          <a:stretch/>
        </p:blipFill>
        <p:spPr>
          <a:xfrm>
            <a:off x="0" y="1201680"/>
            <a:ext cx="3611520" cy="3191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российских конститу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 1918 года – первая Конституция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7" descr="1"/>
          <p:cNvPicPr/>
          <p:nvPr/>
        </p:nvPicPr>
        <p:blipFill>
          <a:blip r:embed="rId1"/>
          <a:stretch/>
        </p:blipFill>
        <p:spPr>
          <a:xfrm>
            <a:off x="5508720" y="1844640"/>
            <a:ext cx="258120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03328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варь 1924 – вторая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7" descr="кон"/>
          <p:cNvPicPr/>
          <p:nvPr/>
        </p:nvPicPr>
        <p:blipFill>
          <a:blip r:embed="rId1"/>
          <a:stretch/>
        </p:blipFill>
        <p:spPr>
          <a:xfrm>
            <a:off x="5332320" y="1981080"/>
            <a:ext cx="266868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декабря 1936 г.- третья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7" descr="2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897440" y="1981080"/>
            <a:ext cx="35384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77 г – четвертая Конституция 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7" descr="3"/>
          <p:cNvPicPr/>
          <p:nvPr/>
        </p:nvPicPr>
        <p:blipFill>
          <a:blip r:embed="rId1"/>
          <a:stretch/>
        </p:blipFill>
        <p:spPr>
          <a:xfrm>
            <a:off x="4716360" y="2349360"/>
            <a:ext cx="4103640" cy="2889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абрь 1993 г. – пятая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i"/>
          <p:cNvPicPr/>
          <p:nvPr/>
        </p:nvPicPr>
        <p:blipFill>
          <a:blip r:embed="rId1"/>
          <a:stretch/>
        </p:blipFill>
        <p:spPr>
          <a:xfrm>
            <a:off x="5237280" y="1981080"/>
            <a:ext cx="286056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304920" y="334440"/>
            <a:ext cx="85341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ституц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ной закон государства, правовой акт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торый провозглашает и гарантирует права и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ободы человека и гражданина, определяет основы общественного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оя, форму правления и территориального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тройства, основы организации центральных и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стных органов власти, их компетенцию 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заимоотношения, государственную символику и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о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C:\Users\дом\Desktop\k-2.jpg"/>
          <p:cNvPicPr/>
          <p:nvPr/>
        </p:nvPicPr>
        <p:blipFill>
          <a:blip r:embed="rId1"/>
          <a:stretch/>
        </p:blipFill>
        <p:spPr>
          <a:xfrm>
            <a:off x="4529160" y="3486240"/>
            <a:ext cx="4454640" cy="3343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5:32:53Z</dcterms:created>
  <dc:creator>Customer</dc:creator>
  <dc:description/>
  <dc:language>en-US</dc:language>
  <cp:lastModifiedBy>S8INF43</cp:lastModifiedBy>
  <dcterms:modified xsi:type="dcterms:W3CDTF">2019-12-16T12:49:06Z</dcterms:modified>
  <cp:revision>129</cp:revision>
  <dc:subject/>
  <dc:title>Слайд 1</dc:title>
</cp:coreProperties>
</file>