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B4D4-5984-4FE6-BE59-9AC2C2996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BB72-5719-4243-8042-3F3B204A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7FDE-BB66-476C-B4C1-0FCE9D8C5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95CE-673B-4D96-8916-B7F55234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6AC0-F186-415A-A47B-720C0492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A58B-62D7-467B-B479-7AD9CEAA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8874-EABF-4DF3-8F65-F43D240F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C78F-76DD-4C8E-B3E9-E28869EC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C576-C6D4-4E9D-B251-036E3DFE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B2D6-C698-4571-8C44-570CED93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726B-77B1-429C-8983-8C1B951C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E6FE-C17B-4D19-914E-FC95809C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E3E8-E635-4B4F-8C42-FDD199495B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НАЕТЕ ЛИ ВЫ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9903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есные факты о кожном покрове и его производ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19720" y="5562360"/>
            <a:ext cx="4495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иселева О.О.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читель биологии и географии Кадетской школы Санкт-Петербу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2857320" cy="381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4114800" y="1828800"/>
            <a:ext cx="4524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80880" y="63360"/>
            <a:ext cx="8077320" cy="4356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143000" y="44193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ете ли вы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поверхность кожи человека в среднем составляет около 2 кв. м. Эту площадь необходимо знать при назначении некоторых лекарств и лечебных процедур. Для расчета поверхности кожи в клинике обычно применяют следующую формул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ерхность тела = /масса тела *4/ +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сса тела +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57440" y="2743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наете ли вы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5316480" cy="6248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715000" y="1518840"/>
            <a:ext cx="3200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чистая кожа выделяет особые защитные вещества, которые растворяют белки бактерий, на 1 с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грязной кожи поселяется около 40 000 микробов, во время мытья с кожи снимается примерно 1,5 млрд. микроб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10080" y="27432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наете ли вы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за одну минуту через кожу проходит 460 мл. кр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за сутки человек выделяет столько тепла, что его хватит, чтобы довести до кипения 33 литра ледяной воды. И даже во сне он в среднем расходует за час 4,2 кДж на 1 кг. массы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522792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-2289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наете ли вы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876920" cy="4551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5715000" y="429120"/>
            <a:ext cx="3268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никаких болезненных изменений в тканях при замораживании не происходит, а отмирание наступает при медленном отогревании в тепле.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этому отогревание должно быть быстр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8380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наете ли вы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0" y="914400"/>
            <a:ext cx="5715000" cy="53038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5867280" y="303480"/>
            <a:ext cx="2895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брови и ресницы выпадают через 3-5 месяцев. Продолжительность жизни волос на голове 4-6 лет. Ежедневно у человека меняется 30-40 вол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5943600" y="3732480"/>
            <a:ext cx="2895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, если ходить с непокрытой головой в холодную погоду, поверхностные сосуды суживаются, питание волос и рост ухудшаются  - это способствует облыс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человеческий волос в 500 раз толще стенок мыльного пузыря, в 5 раз толще капилляров, в 12 раз толще стенок альвеол и в 20 раз – паути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6400800" cy="40752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152280" y="152280"/>
            <a:ext cx="32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наете ли вы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4953240" cy="55929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2880" y="3047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волос человека очень прочен. При поперечном сечении в 0,002 кв. мм один волос выдерживает груз до 100 г. Девичья коса выдерживает груз до 20 тон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380880" y="2286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наете ли вы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азывается, дизайнеры очень любят человеческий волос как материал. Из волос делают очки, упаковку, специальные маты для лужаек, удерживающие рост травы, и даже платье эпатажной Леди Гаги. А Агустина Вудгейт  построила своими руками волосяные средневековые замки! У каждого из них есть свое название: Tower («Башня») и Sandcastle («Песчаный замок»). Замки входят в серию, названную художницей «I Wanted To Be A Princess» («Мне хотелось быть принцессой»). В постройках использованы около 3 000 блоков из воло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905120" y="3048120"/>
            <a:ext cx="523872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итель</dc:creator>
  <dc:description/>
  <dc:language>en-US</dc:language>
  <cp:lastModifiedBy>Учитель</cp:lastModifiedBy>
  <dcterms:modified xsi:type="dcterms:W3CDTF">2021-10-25T10:34:0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