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EF7D-B212-4C34-8686-83EF4520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12D-3202-4A66-BF7E-63876327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98E7-D390-48AE-9441-E0E8AA50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7435-4FC5-49F3-B8F5-299783DD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1035-9B72-48F5-9B13-ABA4D9D0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F07C-CED6-4F0C-9719-AA28D2A3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732-192A-43D6-8082-84369D0D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63FB-61FB-4D26-85D1-FBCAAC4D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DD0-4C33-46A7-81E5-08342C8E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E6D2-2CAB-4511-9E56-63D0F47C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E97B-C9B5-40A3-8D76-FA40E56B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EFF-9751-49B3-B95C-8816647C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A233-C9D4-48C3-BFE2-BFBE16D5A68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9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Arial"/>
              </a:rPr>
              <a:t>«Подснежник» – лепка с детьми средней группы детского са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рчукова И.Ф. воспитатель ВКК МБДОУ «Детский сад общеразвивающего вида №173» Воронеж 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Содержимое 4" descr="IMG_20210423_091313.jpg"/>
          <p:cNvPicPr/>
          <p:nvPr/>
        </p:nvPicPr>
        <p:blipFill>
          <a:blip r:embed="rId1"/>
          <a:stretch/>
        </p:blipFill>
        <p:spPr>
          <a:xfrm>
            <a:off x="4102200" y="493560"/>
            <a:ext cx="4057560" cy="5410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3008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ядом с сосенкой подснежник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ван Емелья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ядом с сосенкой подснежни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отрит в небо — светлый, нежны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снежинки лепестки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тяни к нему руки —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друг растают лепестки!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одержимое 3" descr="IMG_20210423_093957.jpg"/>
          <p:cNvPicPr/>
          <p:nvPr/>
        </p:nvPicPr>
        <p:blipFill>
          <a:blip r:embed="rId1"/>
          <a:stretch/>
        </p:blipFill>
        <p:spPr>
          <a:xfrm>
            <a:off x="690480" y="500040"/>
            <a:ext cx="7769160" cy="582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И ПОДСНЕЖ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3" descr="IMG_20210423_094039.jpg"/>
          <p:cNvPicPr/>
          <p:nvPr/>
        </p:nvPicPr>
        <p:blipFill>
          <a:blip r:embed="rId1"/>
          <a:stretch/>
        </p:blipFill>
        <p:spPr>
          <a:xfrm>
            <a:off x="1547640" y="1595520"/>
            <a:ext cx="6189840" cy="4641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Спасибо за внимание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3280" y="274320"/>
            <a:ext cx="368316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м потребуется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стилин и пластиковая крыш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одержимое 3" descr="IMG_20210423_085545.jpg"/>
          <p:cNvPicPr/>
          <p:nvPr/>
        </p:nvPicPr>
        <p:blipFill>
          <a:blip r:embed="rId1"/>
          <a:stretch/>
        </p:blipFill>
        <p:spPr>
          <a:xfrm>
            <a:off x="395280" y="404640"/>
            <a:ext cx="4681440" cy="612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одержимое 4" descr="IMG_20210423_091521.jpg"/>
          <p:cNvPicPr/>
          <p:nvPr/>
        </p:nvPicPr>
        <p:blipFill>
          <a:blip r:embed="rId1"/>
          <a:stretch/>
        </p:blipFill>
        <p:spPr>
          <a:xfrm>
            <a:off x="587520" y="1600200"/>
            <a:ext cx="3585960" cy="478152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5" descr="IMG_20210423_091540.jpg"/>
          <p:cNvPicPr/>
          <p:nvPr/>
        </p:nvPicPr>
        <p:blipFill>
          <a:blip r:embed="rId2"/>
          <a:stretch/>
        </p:blipFill>
        <p:spPr>
          <a:xfrm>
            <a:off x="4816440" y="333360"/>
            <a:ext cx="3726000" cy="496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одержимое 4" descr="IMG_20210423_091534.jpg"/>
          <p:cNvPicPr/>
          <p:nvPr/>
        </p:nvPicPr>
        <p:blipFill>
          <a:blip r:embed="rId1"/>
          <a:stretch/>
        </p:blipFill>
        <p:spPr>
          <a:xfrm>
            <a:off x="378000" y="404640"/>
            <a:ext cx="3771720" cy="502920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5" descr="IMG_20210423_091531.jpg"/>
          <p:cNvPicPr/>
          <p:nvPr/>
        </p:nvPicPr>
        <p:blipFill>
          <a:blip r:embed="rId2"/>
          <a:stretch/>
        </p:blipFill>
        <p:spPr>
          <a:xfrm>
            <a:off x="4970520" y="1600200"/>
            <a:ext cx="3705120" cy="4941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одержимое 3" descr="IMG_20210423_091524.jpg"/>
          <p:cNvPicPr/>
          <p:nvPr/>
        </p:nvPicPr>
        <p:blipFill>
          <a:blip r:embed="rId1"/>
          <a:stretch/>
        </p:blipFill>
        <p:spPr>
          <a:xfrm>
            <a:off x="1119240" y="1054080"/>
            <a:ext cx="7197840" cy="539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4" descr="IMG_20210423_092116.jpg"/>
          <p:cNvPicPr/>
          <p:nvPr/>
        </p:nvPicPr>
        <p:blipFill>
          <a:blip r:embed="rId1"/>
          <a:stretch/>
        </p:blipFill>
        <p:spPr>
          <a:xfrm>
            <a:off x="539640" y="54936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5" descr="IMG_20210423_092119.jpg"/>
          <p:cNvPicPr/>
          <p:nvPr/>
        </p:nvPicPr>
        <p:blipFill>
          <a:blip r:embed="rId2"/>
          <a:stretch/>
        </p:blipFill>
        <p:spPr>
          <a:xfrm>
            <a:off x="4140360" y="2997360"/>
            <a:ext cx="4525920" cy="339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Содержимое 3" descr="IMG_20210423_092019.jpg"/>
          <p:cNvPicPr/>
          <p:nvPr/>
        </p:nvPicPr>
        <p:blipFill>
          <a:blip r:embed="rId1"/>
          <a:stretch/>
        </p:blipFill>
        <p:spPr>
          <a:xfrm>
            <a:off x="879480" y="620640"/>
            <a:ext cx="7346880" cy="5505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одержимое 4" descr="IMG_20210423_094008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5" descr="IMG_20210423_094018.jpg"/>
          <p:cNvPicPr/>
          <p:nvPr/>
        </p:nvPicPr>
        <p:blipFill>
          <a:blip r:embed="rId2"/>
          <a:stretch/>
        </p:blipFill>
        <p:spPr>
          <a:xfrm>
            <a:off x="5003640" y="765000"/>
            <a:ext cx="3394080" cy="4526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Содержимое 4" descr="IMG_20210423_094024.jpg"/>
          <p:cNvPicPr/>
          <p:nvPr/>
        </p:nvPicPr>
        <p:blipFill>
          <a:blip r:embed="rId1"/>
          <a:stretch/>
        </p:blipFill>
        <p:spPr>
          <a:xfrm>
            <a:off x="684360" y="765000"/>
            <a:ext cx="3394080" cy="452628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5" descr="IMG_20210423_094033.jpg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Инна</cp:lastModifiedBy>
  <dcterms:modified xsi:type="dcterms:W3CDTF">2021-10-23T13:46:17Z</dcterms:modified>
  <cp:revision>97</cp:revision>
  <dc:subject/>
  <dc:title>TITLE</dc:title>
</cp:coreProperties>
</file>