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7AB-B491-4F86-A0D7-2846713D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7E7-B49A-4E28-815E-94EBDC90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7D0-5653-4091-969C-4FE2DA9B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E19-7904-4A5C-A566-CB7C38B6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1C13-8051-4504-922E-9EF581EC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0106-DCD5-40E6-AB2B-962E1DA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5E4-F1C8-4413-81B8-E54EF7B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D88C-C354-497A-B4E9-DFF7ECE3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1E4-2D01-45AC-B2AD-2EA1D267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0FF4-0B4F-4F5B-9B42-78C9E789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DC4E-77E9-4501-B84D-34CFF0D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89E-191E-48C9-818E-CB945C21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244F-19EF-4F53-BDB3-28361D4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40E6-B4AC-4BEC-81C4-36305E18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BDD8-A236-42E2-A295-AC4A3316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2BA0-265C-4DC1-9B1D-4BAFCC87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83A9-399D-4B0C-B78F-121C17EA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298-8751-48E1-B1DF-04E31D2B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6B7-3808-4E1D-ABD5-CEE9BED6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90E-383C-452F-92F9-75F73212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158-8B38-4598-91C9-44C89671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580-6A59-41C4-8223-863F7581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6D8-7204-4DC3-BECD-98D8B8D1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E65-8ADC-42D8-B396-8D483ED6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A0B0-05F9-4DBC-80A5-B855B2E640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7113-9BE9-4E34-9382-A0D167D434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330033"/>
                </a:solidFill>
                <a:latin typeface="Times New Roman"/>
              </a:rPr>
              <a:t>Наука о растениях - ботаника</a:t>
            </a: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емер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«СОШ №92 с углубленным изучением отдельных предмет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: Степанова Наталья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Organization Chart 6"/>
          <p:cNvGrpSpPr/>
          <p:nvPr/>
        </p:nvGrpSpPr>
        <p:grpSpPr>
          <a:xfrm>
            <a:off x="912960" y="243000"/>
            <a:ext cx="7703280" cy="5830560"/>
            <a:chOff x="912960" y="243000"/>
            <a:chExt cx="7703280" cy="5830560"/>
          </a:xfrm>
        </p:grpSpPr>
        <p:cxnSp>
          <p:nvCxnSpPr>
            <p:cNvPr id="127" name="_s2052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552888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3"/>
            <p:cNvCxnSpPr>
              <a:stCxn id="131" idx="0"/>
              <a:endCxn id="129" idx="2"/>
            </p:cNvCxnSpPr>
            <p:nvPr/>
          </p:nvCxnSpPr>
          <p:spPr>
            <a:xfrm flipV="1">
              <a:off x="4764600" y="2574360"/>
              <a:ext cx="288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4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832840" y="1809360"/>
              <a:ext cx="1166760" cy="26967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055"/>
            <p:cNvSpPr/>
            <p:nvPr/>
          </p:nvSpPr>
          <p:spPr>
            <a:xfrm>
              <a:off x="3609000" y="24300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РАСТ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6"/>
            <p:cNvSpPr/>
            <p:nvPr/>
          </p:nvSpPr>
          <p:spPr>
            <a:xfrm>
              <a:off x="91296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ОДНОЛЕТ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орох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цветная капуст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кроп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57"/>
            <p:cNvSpPr/>
            <p:nvPr/>
          </p:nvSpPr>
          <p:spPr>
            <a:xfrm>
              <a:off x="36090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ДВУЛЕТ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реп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апуст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орков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етрушк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8"/>
            <p:cNvSpPr/>
            <p:nvPr/>
          </p:nvSpPr>
          <p:spPr>
            <a:xfrm>
              <a:off x="6305400" y="3741480"/>
              <a:ext cx="2310840" cy="2332080"/>
            </a:xfrm>
            <a:custGeom>
              <a:avLst/>
              <a:gdLst>
                <a:gd name="textAreaLeft" fmla="*/ 112680 w 2310840"/>
                <a:gd name="textAreaRight" fmla="*/ 2198160 w 2310840"/>
                <a:gd name="textAreaTop" fmla="*/ 112680 h 2332080"/>
                <a:gd name="textAreaBottom" fmla="*/ 2219400 h 2332080"/>
              </a:gdLst>
              <a:ahLst/>
              <a:rect l="textAreaLeft" t="textAreaTop" r="textAreaRight" b="textAreaBottom"/>
              <a:pathLst>
                <a:path w="21600" h="21799">
                  <a:moveTo>
                    <a:pt x="3600" y="0"/>
                  </a:moveTo>
                  <a:arcTo wR="3600" hR="3600" stAng="16200000" swAng="-5400000"/>
                  <a:lnTo>
                    <a:pt x="0" y="18199"/>
                  </a:lnTo>
                  <a:arcTo wR="3600" hR="3600" stAng="10800000" swAng="-5400000"/>
                  <a:lnTo>
                    <a:pt x="18000" y="21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МНОГОЛЕТ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дуб, груш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мородин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0033"/>
                </a:solidFill>
                <a:uFillTx/>
                <a:latin typeface="Times New Roman"/>
              </a:rPr>
              <a:t>Жизненная форм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общий внешний облик растений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ea3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оль, ель, ябло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старни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а, сирень, шипо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старнич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ea3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ика, брус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ырей, клевер, лебеда, тюльпан, подсолнеч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Деревья</a:t>
            </a:r>
            <a:endParaRPr b="0" lang="en-US" sz="7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4824360" cy="482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6300720" y="4149720"/>
            <a:ext cx="19303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Кустарники</a:t>
            </a:r>
            <a:endParaRPr b="0" lang="en-US" sz="7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545000" cy="4618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322800" cy="2189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5364000" y="4054320"/>
            <a:ext cx="32925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Кустарнички</a:t>
            </a:r>
            <a:endParaRPr b="0" lang="en-US" sz="7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4687920" cy="314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Травы</a:t>
            </a:r>
            <a:endParaRPr b="0" lang="en-US" sz="7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3529080" cy="220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384360" cy="223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"/>
          <p:cNvPicPr/>
          <p:nvPr/>
        </p:nvPicPr>
        <p:blipFill>
          <a:blip r:embed="rId3"/>
          <a:stretch/>
        </p:blipFill>
        <p:spPr>
          <a:xfrm>
            <a:off x="5148360" y="4149720"/>
            <a:ext cx="33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"/>
          <p:cNvPicPr/>
          <p:nvPr/>
        </p:nvPicPr>
        <p:blipFill>
          <a:blip r:embed="rId4"/>
          <a:stretch/>
        </p:blipFill>
        <p:spPr>
          <a:xfrm>
            <a:off x="1258920" y="4149720"/>
            <a:ext cx="3541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2340000" y="277920"/>
            <a:ext cx="4913280" cy="63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Биология</a:t>
            </a:r>
            <a:endParaRPr b="0" lang="en-US" sz="7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(от греч.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ио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«жизнь»,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ого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«учение») – наука, изучающая особенности живой природы и ее разнообраз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Царство</a:t>
            </a:r>
            <a:endParaRPr b="0" lang="en-US" sz="7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очень большая группа организмов, обладающих сходными признаками строения, питания и жизни в прир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Organization Chart 15"/>
          <p:cNvGrpSpPr/>
          <p:nvPr/>
        </p:nvGrpSpPr>
        <p:grpSpPr>
          <a:xfrm>
            <a:off x="912960" y="260280"/>
            <a:ext cx="7703640" cy="5813280"/>
            <a:chOff x="912960" y="260280"/>
            <a:chExt cx="7703640" cy="5813280"/>
          </a:xfrm>
        </p:grpSpPr>
        <p:cxnSp>
          <p:nvCxnSpPr>
            <p:cNvPr id="104" name="_s1028"/>
            <p:cNvCxnSpPr>
              <a:stCxn id="105" idx="0"/>
              <a:endCxn id="106" idx="2"/>
            </p:cNvCxnSpPr>
            <p:nvPr/>
          </p:nvCxnSpPr>
          <p:spPr>
            <a:xfrm flipH="1" flipV="1" rot="5400000">
              <a:off x="3391200" y="2372760"/>
              <a:ext cx="1162800" cy="1587240"/>
            </a:xfrm>
            <a:prstGeom prst="bentConnector3">
              <a:avLst>
                <a:gd name="adj1" fmla="val 97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29"/>
            <p:cNvCxnSpPr>
              <a:stCxn id="108" idx="0"/>
              <a:endCxn id="106" idx="2"/>
            </p:cNvCxnSpPr>
            <p:nvPr/>
          </p:nvCxnSpPr>
          <p:spPr>
            <a:xfrm flipH="1" flipV="1" rot="5400000">
              <a:off x="4183200" y="3164760"/>
              <a:ext cx="1162800" cy="3600"/>
            </a:xfrm>
            <a:prstGeom prst="bentConnector3">
              <a:avLst>
                <a:gd name="adj1" fmla="val 97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0"/>
            <p:cNvCxnSpPr>
              <a:stCxn id="110" idx="0"/>
              <a:endCxn id="106" idx="2"/>
            </p:cNvCxnSpPr>
            <p:nvPr/>
          </p:nvCxnSpPr>
          <p:spPr>
            <a:xfrm flipV="1" rot="16200000">
              <a:off x="5770080" y="1580760"/>
              <a:ext cx="1162800" cy="3170880"/>
            </a:xfrm>
            <a:prstGeom prst="bentConnector3">
              <a:avLst>
                <a:gd name="adj1" fmla="val 97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1"/>
            <p:cNvCxnSpPr>
              <a:stCxn id="112" idx="0"/>
              <a:endCxn id="106" idx="2"/>
            </p:cNvCxnSpPr>
            <p:nvPr/>
          </p:nvCxnSpPr>
          <p:spPr>
            <a:xfrm flipV="1" rot="16200000">
              <a:off x="4976640" y="2374200"/>
              <a:ext cx="1162800" cy="1584000"/>
            </a:xfrm>
            <a:prstGeom prst="bentConnector3">
              <a:avLst>
                <a:gd name="adj1" fmla="val 97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2"/>
            <p:cNvCxnSpPr>
              <a:stCxn id="114" idx="0"/>
              <a:endCxn id="106" idx="2"/>
            </p:cNvCxnSpPr>
            <p:nvPr/>
          </p:nvCxnSpPr>
          <p:spPr>
            <a:xfrm flipH="1" flipV="1" rot="5400000">
              <a:off x="2598480" y="1580040"/>
              <a:ext cx="1162800" cy="3172680"/>
            </a:xfrm>
            <a:prstGeom prst="bentConnector3">
              <a:avLst>
                <a:gd name="adj1" fmla="val 97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1033"/>
            <p:cNvSpPr/>
            <p:nvPr/>
          </p:nvSpPr>
          <p:spPr>
            <a:xfrm>
              <a:off x="4084560" y="260280"/>
              <a:ext cx="1360080" cy="2325240"/>
            </a:xfrm>
            <a:custGeom>
              <a:avLst/>
              <a:gdLst>
                <a:gd name="textAreaLeft" fmla="*/ 66240 w 1360080"/>
                <a:gd name="textAreaRight" fmla="*/ 1293840 w 1360080"/>
                <a:gd name="textAreaTop" fmla="*/ 66240 h 2325240"/>
                <a:gd name="textAreaBottom" fmla="*/ 2259000 h 2325240"/>
              </a:gdLst>
              <a:ahLst/>
              <a:rect l="textAreaLeft" t="textAreaTop" r="textAreaRight" b="textAreaBottom"/>
              <a:pathLst>
                <a:path w="21600" h="36924">
                  <a:moveTo>
                    <a:pt x="3600" y="0"/>
                  </a:moveTo>
                  <a:arcTo wR="3600" hR="3600" stAng="16200000" swAng="-5400000"/>
                  <a:lnTo>
                    <a:pt x="0" y="33324"/>
                  </a:lnTo>
                  <a:arcTo wR="3600" hR="3600" stAng="10800000" swAng="-5400000"/>
                  <a:lnTo>
                    <a:pt x="18000" y="36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Цар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912960" y="3748320"/>
              <a:ext cx="1360080" cy="2325240"/>
            </a:xfrm>
            <a:custGeom>
              <a:avLst/>
              <a:gdLst>
                <a:gd name="textAreaLeft" fmla="*/ 66240 w 1360080"/>
                <a:gd name="textAreaRight" fmla="*/ 1293840 w 1360080"/>
                <a:gd name="textAreaTop" fmla="*/ 66240 h 2325240"/>
                <a:gd name="textAreaBottom" fmla="*/ 2259000 h 2325240"/>
              </a:gdLst>
              <a:ahLst/>
              <a:rect l="textAreaLeft" t="textAreaTop" r="textAreaRight" b="textAreaBottom"/>
              <a:pathLst>
                <a:path w="21600" h="36924">
                  <a:moveTo>
                    <a:pt x="3600" y="0"/>
                  </a:moveTo>
                  <a:arcTo wR="3600" hR="3600" stAng="16200000" swAng="-5400000"/>
                  <a:lnTo>
                    <a:pt x="0" y="33324"/>
                  </a:lnTo>
                  <a:arcTo wR="3600" hR="3600" stAng="10800000" swAng="-5400000"/>
                  <a:lnTo>
                    <a:pt x="18000" y="36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Живот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670000" y="3748320"/>
              <a:ext cx="1360080" cy="2325240"/>
            </a:xfrm>
            <a:custGeom>
              <a:avLst/>
              <a:gdLst>
                <a:gd name="textAreaLeft" fmla="*/ 66240 w 1360080"/>
                <a:gd name="textAreaRight" fmla="*/ 1293840 w 1360080"/>
                <a:gd name="textAreaTop" fmla="*/ 66240 h 2325240"/>
                <a:gd name="textAreaBottom" fmla="*/ 2259000 h 2325240"/>
              </a:gdLst>
              <a:ahLst/>
              <a:rect l="textAreaLeft" t="textAreaTop" r="textAreaRight" b="textAreaBottom"/>
              <a:pathLst>
                <a:path w="21600" h="36924">
                  <a:moveTo>
                    <a:pt x="3600" y="0"/>
                  </a:moveTo>
                  <a:arcTo wR="3600" hR="3600" stAng="16200000" swAng="-5400000"/>
                  <a:lnTo>
                    <a:pt x="0" y="33324"/>
                  </a:lnTo>
                  <a:arcTo wR="3600" hR="3600" stAng="10800000" swAng="-5400000"/>
                  <a:lnTo>
                    <a:pt x="18000" y="36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актер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>
              <a:off x="7256520" y="3748320"/>
              <a:ext cx="1360080" cy="2325240"/>
            </a:xfrm>
            <a:custGeom>
              <a:avLst/>
              <a:gdLst>
                <a:gd name="textAreaLeft" fmla="*/ 66240 w 1360080"/>
                <a:gd name="textAreaRight" fmla="*/ 1293840 w 1360080"/>
                <a:gd name="textAreaTop" fmla="*/ 66240 h 2325240"/>
                <a:gd name="textAreaBottom" fmla="*/ 2259000 h 2325240"/>
              </a:gdLst>
              <a:ahLst/>
              <a:rect l="textAreaLeft" t="textAreaTop" r="textAreaRight" b="textAreaBottom"/>
              <a:pathLst>
                <a:path w="21600" h="36924">
                  <a:moveTo>
                    <a:pt x="3600" y="0"/>
                  </a:moveTo>
                  <a:arcTo wR="3600" hR="3600" stAng="16200000" swAng="-5400000"/>
                  <a:lnTo>
                    <a:pt x="0" y="33324"/>
                  </a:lnTo>
                  <a:arcTo wR="3600" hR="3600" stAng="10800000" swAng="-5400000"/>
                  <a:lnTo>
                    <a:pt x="18000" y="36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иру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7"/>
            <p:cNvSpPr/>
            <p:nvPr/>
          </p:nvSpPr>
          <p:spPr>
            <a:xfrm>
              <a:off x="4084560" y="3748320"/>
              <a:ext cx="1358640" cy="2325240"/>
            </a:xfrm>
            <a:custGeom>
              <a:avLst/>
              <a:gdLst>
                <a:gd name="textAreaLeft" fmla="*/ 66240 w 1358640"/>
                <a:gd name="textAreaRight" fmla="*/ 1292400 w 1358640"/>
                <a:gd name="textAreaTop" fmla="*/ 66240 h 2325240"/>
                <a:gd name="textAreaBottom" fmla="*/ 2259000 h 2325240"/>
              </a:gdLst>
              <a:ahLst/>
              <a:rect l="textAreaLeft" t="textAreaTop" r="textAreaRight" b="textAreaBottom"/>
              <a:pathLst>
                <a:path w="21600" h="36963">
                  <a:moveTo>
                    <a:pt x="3600" y="0"/>
                  </a:moveTo>
                  <a:arcTo wR="3600" hR="3600" stAng="16200000" swAng="-5400000"/>
                  <a:lnTo>
                    <a:pt x="0" y="33363"/>
                  </a:lnTo>
                  <a:arcTo wR="3600" hR="3600" stAng="10800000" swAng="-5400000"/>
                  <a:lnTo>
                    <a:pt x="18000" y="369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риб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8"/>
            <p:cNvSpPr/>
            <p:nvPr/>
          </p:nvSpPr>
          <p:spPr>
            <a:xfrm>
              <a:off x="2499480" y="3748320"/>
              <a:ext cx="1358280" cy="2325240"/>
            </a:xfrm>
            <a:custGeom>
              <a:avLst/>
              <a:gdLst>
                <a:gd name="textAreaLeft" fmla="*/ 66240 w 1358280"/>
                <a:gd name="textAreaRight" fmla="*/ 1292040 w 1358280"/>
                <a:gd name="textAreaTop" fmla="*/ 66240 h 2325240"/>
                <a:gd name="textAreaBottom" fmla="*/ 2259000 h 2325240"/>
              </a:gdLst>
              <a:ahLst/>
              <a:rect l="textAreaLeft" t="textAreaTop" r="textAreaRight" b="textAreaBottom"/>
              <a:pathLst>
                <a:path w="21600" h="36973">
                  <a:moveTo>
                    <a:pt x="3600" y="0"/>
                  </a:moveTo>
                  <a:arcTo wR="3600" hR="3600" stAng="16200000" swAng="-5400000"/>
                  <a:lnTo>
                    <a:pt x="0" y="33373"/>
                  </a:lnTo>
                  <a:arcTo wR="3600" hR="3600" stAng="10800000" swAng="-5400000"/>
                  <a:lnTo>
                    <a:pt x="18000" y="369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аст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Ботаника</a:t>
            </a:r>
            <a:endParaRPr b="0" lang="en-US" sz="7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наука, изучающая царство растений (от греч.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отан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«трава», «растение»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Тлалок</a:t>
            </a:r>
            <a:endParaRPr b="0" lang="en-US" sz="7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br" descr="Тлалок - кодекс Ватиканус"/>
          <p:cNvPicPr/>
          <p:nvPr/>
        </p:nvPicPr>
        <p:blipFill>
          <a:blip r:embed="rId1"/>
          <a:stretch/>
        </p:blipFill>
        <p:spPr>
          <a:xfrm>
            <a:off x="971640" y="1700280"/>
            <a:ext cx="3598920" cy="442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chac300"/>
          <p:cNvPicPr/>
          <p:nvPr/>
        </p:nvPicPr>
        <p:blipFill>
          <a:blip r:embed="rId2"/>
          <a:stretch/>
        </p:blipFill>
        <p:spPr>
          <a:xfrm>
            <a:off x="5003640" y="1700280"/>
            <a:ext cx="34560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9360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856800"/>
            <a:ext cx="77724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называли ацтеки бога небесных стихий, дождя, грома и молнии, который одновременно повелевал всеми съедобными растениями (его имя означает: «Заставляющий расти», «Взращивающий»). У майя аналогом этого божества был Чак («Топор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показаться странной связь топора с молнией, дождем и произрастанием полезных растений. Однако такая связь существует: подсечно-огневое земледелие предполагает вырубку или подрубку леса топором, сжигание срубленных деревьев, устройство возделанного поля и животворные дожди, способствующие богатому урож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Растения</a:t>
            </a:r>
            <a:endParaRPr b="0" lang="en-US" sz="7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икорастущи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растут, развиваются и расселяются без помощи челове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орожник, лебеда, кисл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ультур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выращиваемые человеком для удовлетворения своих потребност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шеница, кукуруза, картоф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0033"/>
                </a:solidFill>
                <a:uFillTx/>
                <a:latin typeface="Times New Roman"/>
              </a:rPr>
              <a:t>Теофраст –</a:t>
            </a:r>
            <a:r>
              <a:rPr b="1" lang="ru-RU" sz="7000" spc="-1" strike="noStrike" u="sng">
                <a:solidFill>
                  <a:srgbClr val="330033"/>
                </a:solidFill>
                <a:uFillTx/>
                <a:latin typeface="Times New Roman"/>
              </a:rPr>
              <a:t> </a:t>
            </a:r>
            <a:br>
              <a:rPr sz="7000"/>
            </a:br>
            <a:r>
              <a:rPr b="1" lang="ru-RU" sz="2400" spc="-1" strike="noStrike" u="sng">
                <a:solidFill>
                  <a:srgbClr val="330033"/>
                </a:solidFill>
                <a:uFillTx/>
                <a:latin typeface="Times New Roman"/>
              </a:rPr>
              <a:t>отец ботаник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Picture 4" descr="Теофраст"/>
          <p:cNvPicPr/>
          <p:nvPr/>
        </p:nvPicPr>
        <p:blipFill>
          <a:blip r:embed="rId1"/>
          <a:stretch/>
        </p:blipFill>
        <p:spPr>
          <a:xfrm>
            <a:off x="3214800" y="1571760"/>
            <a:ext cx="335412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1:10:05Z</dcterms:created>
  <dc:creator>Customer</dc:creator>
  <dc:description/>
  <dc:language>en-US</dc:language>
  <cp:lastModifiedBy>Наталья</cp:lastModifiedBy>
  <dcterms:modified xsi:type="dcterms:W3CDTF">2021-10-25T20:52:55Z</dcterms:modified>
  <cp:revision>14</cp:revision>
  <dc:subject/>
  <dc:title>Наука о растениях - ботаника</dc:title>
</cp:coreProperties>
</file>