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29.jpeg" ContentType="image/jpeg"/>
  <Override PartName="/ppt/media/image6.png" ContentType="image/pn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7D5F-320C-442D-AE93-FED7DCA9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21CD-BCD0-40F6-BF08-AC56AD11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3650-9678-448A-A040-4E3E8DB8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02F-B288-48E7-9A61-1F9774C5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276-ACF1-41A7-AC60-623EB267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937-C9E6-4F8C-8DCB-33E189C2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08F-78C2-48E7-A401-5947BECA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78F-B2D9-4215-B65B-C3587809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F89-3212-44DC-BC4C-E22476EF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437-6F6C-4E99-B984-0EB63E18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D96-C567-4581-948D-A23E13E2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40E-E762-4B37-8253-8952ACE6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F5F7-0A72-4ADD-8231-D6C9C53964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jpe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2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" Target="slide2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ВОЯ ИГРА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делы растений</a:t>
            </a:r>
            <a:br>
              <a:rPr sz="6600"/>
            </a:br>
            <a:br>
              <a:rPr sz="66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ева О.О., учитель биологии и географи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детской школы СПБ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642960" y="35712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5баллов. Какая стадия мхов дольше существует: с коробочкой или без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642960" y="471492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коробочке содержатся сопоры, которые довольно скоро высыпаются; а половая  стадия без коробочек существует д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http://biology.unm.edu/ccouncil/Biology_203/Images/Non-floweringPlants/polytrichummoss.jpeg"/>
          <p:cNvPicPr/>
          <p:nvPr/>
        </p:nvPicPr>
        <p:blipFill>
          <a:blip r:embed="rId1"/>
          <a:stretch/>
        </p:blipFill>
        <p:spPr>
          <a:xfrm>
            <a:off x="571680" y="1428840"/>
            <a:ext cx="3771720" cy="27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Рисунок 4" descr="http://www.doctordo.by/images/products/4c5bde74a8f110656874902f07378009_original.jpg"/>
          <p:cNvPicPr/>
          <p:nvPr/>
        </p:nvPicPr>
        <p:blipFill>
          <a:blip r:embed="rId2"/>
          <a:stretch/>
        </p:blipFill>
        <p:spPr>
          <a:xfrm>
            <a:off x="4786200" y="1428840"/>
            <a:ext cx="3643560" cy="27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91" name="Управляющая кнопка: домой 5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92" name="Управляющая кнопка: домой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785880" y="214200"/>
            <a:ext cx="700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0балло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 высшим или низшим растениям относят мхи и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1000080" y="4500720"/>
            <a:ext cx="66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наличию тканей, вегетативных органов мхи – высшие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aquaria-club.ru/images/3.gif"/>
          <p:cNvPicPr/>
          <p:nvPr/>
        </p:nvPicPr>
        <p:blipFill>
          <a:blip r:embed="rId1"/>
          <a:stretch/>
        </p:blipFill>
        <p:spPr>
          <a:xfrm>
            <a:off x="642960" y="1357200"/>
            <a:ext cx="2714760" cy="31244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http://abc-192.mosuzedu.ru/projects/akkuratov/ent.jpg"/>
          <p:cNvPicPr/>
          <p:nvPr/>
        </p:nvPicPr>
        <p:blipFill>
          <a:blip r:embed="rId2"/>
          <a:stretch/>
        </p:blipFill>
        <p:spPr>
          <a:xfrm>
            <a:off x="3643200" y="1285920"/>
            <a:ext cx="2659320" cy="306864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7005240" y="23572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л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6936480" y="39290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зо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Прямая со стрелкой 8"/>
          <p:cNvCxnSpPr>
            <a:stCxn id="99" idx="1"/>
          </p:cNvCxnSpPr>
          <p:nvPr/>
        </p:nvCxnSpPr>
        <p:spPr>
          <a:xfrm flipH="1" flipV="1">
            <a:off x="5928840" y="3999960"/>
            <a:ext cx="1000800" cy="113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Прямая со стрелкой 10"/>
          <p:cNvCxnSpPr>
            <a:stCxn id="98" idx="1"/>
          </p:cNvCxnSpPr>
          <p:nvPr/>
        </p:nvCxnSpPr>
        <p:spPr>
          <a:xfrm flipH="1">
            <a:off x="6000480" y="2541600"/>
            <a:ext cx="1000800" cy="30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02" name="Управляющая кнопка: домой 9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103" name="Управляющая кнопка: домой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428760" y="285840"/>
            <a:ext cx="77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5баллов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чем отличие сфагнума от кукушкиного льн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1000080" y="4143240"/>
            <a:ext cx="742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фагнума нет ризоидов; разная форма коробочек; сфагнум содержит в стебле и листьях мертвые клетки, которые способны поглощать воду и долго ее удерживать, постепенно отдавая живым клеткам; благодаря этому сфагнум поглощает воды в 20-25 раз больше своей м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http://biology.unm.edu/ccouncil/Biology_203/Images/Non-floweringPlants/polytrichummoss.jpeg"/>
          <p:cNvPicPr/>
          <p:nvPr/>
        </p:nvPicPr>
        <p:blipFill>
          <a:blip r:embed="rId1"/>
          <a:stretch/>
        </p:blipFill>
        <p:spPr>
          <a:xfrm>
            <a:off x="571680" y="1428840"/>
            <a:ext cx="3771720" cy="27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8" name="Рисунок 5" descr="http://rbg-web2.rbge.org.uk/bbs/Resources/gallery/Sphagnum_fimbriatum.jpg"/>
          <p:cNvPicPr/>
          <p:nvPr/>
        </p:nvPicPr>
        <p:blipFill>
          <a:blip r:embed="rId2"/>
          <a:stretch/>
        </p:blipFill>
        <p:spPr>
          <a:xfrm>
            <a:off x="4429080" y="1428840"/>
            <a:ext cx="3357720" cy="27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09" name="Управляющая кнопка: домой 6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110" name="Управляющая кнопка: домой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1143000" y="428760"/>
            <a:ext cx="58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балло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знайте папоротн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" descr="http://s009.radikal.ru/i307/1012/f3/a6055bfcb09c.jpg"/>
          <p:cNvPicPr/>
          <p:nvPr/>
        </p:nvPicPr>
        <p:blipFill>
          <a:blip r:embed="rId1"/>
          <a:stretch/>
        </p:blipFill>
        <p:spPr>
          <a:xfrm>
            <a:off x="1571760" y="1420920"/>
            <a:ext cx="4643280" cy="465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4" name="TextBox 4"/>
          <p:cNvSpPr/>
          <p:nvPr/>
        </p:nvSpPr>
        <p:spPr>
          <a:xfrm>
            <a:off x="6719040" y="1928880"/>
            <a:ext cx="15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ля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Управляющая кнопка: домой 5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116" name="Управляющая кнопка: домой 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428760" y="14292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0баллов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ринное поверье утверждает, что папоротник цветет в глухую июньскую ночь, накануне праздника Ивана Купалы. Считалось, что цветок наделен магической силой – помогает найти клады, скрытые в земле. Скольким людям удалось найти цветок папоротн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857160" y="56577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то не может найти цветок, т.к. папоротники размножаются спорами и такого органа как цветок у них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3" descr="http://upload.wikimedia.org/wikipedia/commons/thumb/5/55/Ivankupala.jpg/800px-Ivankupala.jpg"/>
          <p:cNvPicPr/>
          <p:nvPr/>
        </p:nvPicPr>
        <p:blipFill>
          <a:blip r:embed="rId1"/>
          <a:stretch/>
        </p:blipFill>
        <p:spPr>
          <a:xfrm>
            <a:off x="1285920" y="2428920"/>
            <a:ext cx="692928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21" name="Управляющая кнопка: домой 4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122" name="Управляющая кнопка: домой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357120" y="214200"/>
            <a:ext cx="857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5баллов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чему папоротники живут только там, где достаточно влаг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857160" y="564588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овое размножение происходит только в присутствии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http://www.megabook.ru/MObjects2/data/pict2004/biology/bio298.jpg"/>
          <p:cNvPicPr/>
          <p:nvPr/>
        </p:nvPicPr>
        <p:blipFill>
          <a:blip r:embed="rId1"/>
          <a:stretch/>
        </p:blipFill>
        <p:spPr>
          <a:xfrm>
            <a:off x="1285920" y="1143000"/>
            <a:ext cx="5643360" cy="4286160"/>
          </a:xfrm>
          <a:prstGeom prst="rect">
            <a:avLst/>
          </a:prstGeom>
          <a:ln w="0">
            <a:noFill/>
          </a:ln>
        </p:spPr>
      </p:pic>
      <p:grpSp>
        <p:nvGrpSpPr>
          <p:cNvPr id="127" name="Управляющая кнопка: домой 4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128" name="Управляющая кнопка: домой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285840" y="21420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0балло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что указывает появление хвоща на поле и что 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214200" y="535788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ощ предпочитает влажную кислую почву, нейтрализовать которую можно внесением изв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://schools.keldysh.ru/co1678/Project/Mixytkin/Sait/Lycopodium%20lagopus.jpg"/>
          <p:cNvPicPr/>
          <p:nvPr/>
        </p:nvPicPr>
        <p:blipFill>
          <a:blip r:embed="rId1"/>
          <a:stretch/>
        </p:blipFill>
        <p:spPr>
          <a:xfrm>
            <a:off x="1571760" y="1428840"/>
            <a:ext cx="5661000" cy="38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33" name="Управляющая кнопка: домой 5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134" name="Управляющая кнопка: домой 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214200" y="21420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5баллов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чему в каменноугольном периоде господствовали папоротникообразные растения, хотя мхи первыми начали осваивать суш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214200" y="492912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оротники были лучше приспособлены к наземному образу жизни, т. к. имели не только стебли и листья, но и корни; успешнее размножались, образуя больше сп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4" descr="http://new-zealand-na-fig.narod.ru/Pictures/1-35-ferns.jpg"/>
          <p:cNvPicPr/>
          <p:nvPr/>
        </p:nvPicPr>
        <p:blipFill>
          <a:blip r:embed="rId1"/>
          <a:stretch/>
        </p:blipFill>
        <p:spPr>
          <a:xfrm>
            <a:off x="1571760" y="1571760"/>
            <a:ext cx="5341680" cy="33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39" name="Управляющая кнопка: домой 5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140" name="Управляющая кнопка: домой 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642960" y="28584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баллов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знайте растение – эндемик пустыни Нами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3726000" y="5572080"/>
            <a:ext cx="22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ьвич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3" descr="http://www.funtoo.ru/uploads/posts/2008-02/1203262819_v.jpg"/>
          <p:cNvPicPr/>
          <p:nvPr/>
        </p:nvPicPr>
        <p:blipFill>
          <a:blip r:embed="rId1"/>
          <a:stretch/>
        </p:blipFill>
        <p:spPr>
          <a:xfrm>
            <a:off x="1285920" y="1143000"/>
            <a:ext cx="6429240" cy="450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45" name="Управляющая кнопка: домой 4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146" name="Управляющая кнопка: домой 4" descr=""/>
            <p:cNvPicPr/>
            <p:nvPr/>
          </p:nvPicPr>
          <p:blipFill>
            <a:blip r:embed="rId2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285840" y="35712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10баллов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в хвойном лесу особенно легко дыш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214200" y="2286000"/>
            <a:ext cx="4000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воле и листьях имеется смола, которая содержит фитонциды, уничтожающие бакте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3" descr="http://img-fotki.yandex.ru/get/5007/vecher-natalya.17/0_5db9e_9eb71725_XL"/>
          <p:cNvPicPr/>
          <p:nvPr/>
        </p:nvPicPr>
        <p:blipFill>
          <a:blip r:embed="rId1"/>
          <a:stretch/>
        </p:blipFill>
        <p:spPr>
          <a:xfrm>
            <a:off x="4357800" y="1285920"/>
            <a:ext cx="3882960" cy="335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51" name="Управляющая кнопка: домой 4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152" name="Управляющая кнопка: домой 4" descr=""/>
            <p:cNvPicPr/>
            <p:nvPr/>
          </p:nvPicPr>
          <p:blipFill>
            <a:blip r:embed="rId2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14200" y="571680"/>
          <a:ext cx="8572680" cy="5881680"/>
        </p:xfrm>
        <a:graphic>
          <a:graphicData uri="http://schemas.openxmlformats.org/drawingml/2006/table">
            <a:tbl>
              <a:tblPr/>
              <a:tblGrid>
                <a:gridCol w="3786480"/>
                <a:gridCol w="857160"/>
                <a:gridCol w="1000080"/>
                <a:gridCol w="1000080"/>
                <a:gridCol w="887400"/>
                <a:gridCol w="1041480"/>
              </a:tblGrid>
              <a:tr h="1047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ы раст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 вопро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0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орос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3" action="ppaction://hlinksldjump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4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5" action="ppaction://hlinksldjump"/>
                        </a:rPr>
                        <a:t>2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х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6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7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8" action="ppaction://hlinksldjump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9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0" action="ppaction://hlinksldjump"/>
                        </a:rPr>
                        <a:t>2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порот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1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2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3" action="ppaction://hlinksldjump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4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5" action="ppaction://hlinksldjump"/>
                        </a:rPr>
                        <a:t>2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лосем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6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7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8" action="ppaction://hlinksldjump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9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0" action="ppaction://hlinksldjump"/>
                        </a:rPr>
                        <a:t>2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рытосем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1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2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3" action="ppaction://hlinksldjump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4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5" action="ppaction://hlinksldjump"/>
                        </a:rPr>
                        <a:t>2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357120" y="2142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5баллов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во время урагана ели вырываются с корнем,  а сосны ломаю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857160" y="5214960"/>
            <a:ext cx="807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ь имеет широкую корневую систему, расположенную в верхних слоях почвы, у сосны корень глубоко уходит и крепко держит ств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" descr="http://static.panoramio.com/photos/original/5174708.jpg"/>
          <p:cNvPicPr/>
          <p:nvPr/>
        </p:nvPicPr>
        <p:blipFill>
          <a:blip r:embed="rId1"/>
          <a:stretch/>
        </p:blipFill>
        <p:spPr>
          <a:xfrm>
            <a:off x="571680" y="1857240"/>
            <a:ext cx="2595240" cy="328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7" name="Рисунок 4" descr="Картинка 16 из 6838"/>
          <p:cNvPicPr/>
          <p:nvPr/>
        </p:nvPicPr>
        <p:blipFill>
          <a:blip r:embed="rId2"/>
          <a:stretch/>
        </p:blipFill>
        <p:spPr>
          <a:xfrm>
            <a:off x="3286080" y="1857240"/>
            <a:ext cx="4880160" cy="328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58" name="Управляющая кнопка: домой 5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159" name="Управляющая кнопка: домой 5" descr=""/>
            <p:cNvPicPr/>
            <p:nvPr/>
          </p:nvPicPr>
          <p:blipFill>
            <a:blip r:embed="rId3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428760" y="35712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0балло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распространенны ели и сосны по территории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4786200" y="2071800"/>
            <a:ext cx="4071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вропейской части преобладает темнохвойная тайга, в Восточной Сибири преобладает сосна, т. к. не прихотлива к почвам; ели в Восточной Сибири растут преимущественно по долинам р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4" descr="Картинка 48 из 16506"/>
          <p:cNvPicPr/>
          <p:nvPr/>
        </p:nvPicPr>
        <p:blipFill>
          <a:blip r:embed="rId1"/>
          <a:stretch/>
        </p:blipFill>
        <p:spPr>
          <a:xfrm>
            <a:off x="214200" y="2000160"/>
            <a:ext cx="4500720" cy="3143520"/>
          </a:xfrm>
          <a:prstGeom prst="rect">
            <a:avLst/>
          </a:prstGeom>
          <a:ln w="0">
            <a:noFill/>
          </a:ln>
        </p:spPr>
      </p:pic>
      <p:grpSp>
        <p:nvGrpSpPr>
          <p:cNvPr id="164" name="Управляющая кнопка: домой 5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165" name="Управляющая кнопка: домой 5" descr=""/>
            <p:cNvPicPr/>
            <p:nvPr/>
          </p:nvPicPr>
          <p:blipFill>
            <a:blip r:embed="rId2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357120" y="5000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5баллов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чему в юрском периоде, когда климат на Земле стал более жарким и сухим, господствовали голосеменные растен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571680" y="492912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оказались более  приспособленными, т.к. половое размножение не требовало наличие воды, семя содержит эндосперм, устьица погружены в ткань листа, что снижает испарение, лист покрыт кутику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3" descr="http://richmondhillnursery.com/Sago_Palm.jpg"/>
          <p:cNvPicPr/>
          <p:nvPr/>
        </p:nvPicPr>
        <p:blipFill>
          <a:blip r:embed="rId1"/>
          <a:stretch/>
        </p:blipFill>
        <p:spPr>
          <a:xfrm>
            <a:off x="4143240" y="1857240"/>
            <a:ext cx="3819600" cy="29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0" name="Рисунок 4" descr="http://dic.academic.ru/pictures/wiki/files/73/IMG_6492_monkey_puzzle.JPG"/>
          <p:cNvPicPr/>
          <p:nvPr/>
        </p:nvPicPr>
        <p:blipFill>
          <a:blip r:embed="rId2"/>
          <a:stretch/>
        </p:blipFill>
        <p:spPr>
          <a:xfrm>
            <a:off x="1428840" y="1857240"/>
            <a:ext cx="2238120" cy="292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71" name="Управляющая кнопка: домой 5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172" name="Управляющая кнопка: домой 5" descr=""/>
            <p:cNvPicPr/>
            <p:nvPr/>
          </p:nvPicPr>
          <p:blipFill>
            <a:blip r:embed="rId3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1"/>
          <p:cNvSpPr/>
          <p:nvPr/>
        </p:nvSpPr>
        <p:spPr>
          <a:xfrm>
            <a:off x="642960" y="35712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баллов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берите покрытосеменное раст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2" descr="http://img-fotki.yandex.ru/get/4604/galafromny.10/0_56cb0_2d8fd894_XL"/>
          <p:cNvPicPr/>
          <p:nvPr/>
        </p:nvPicPr>
        <p:blipFill>
          <a:blip r:embed="rId1"/>
          <a:stretch/>
        </p:blipFill>
        <p:spPr>
          <a:xfrm>
            <a:off x="500040" y="1571760"/>
            <a:ext cx="3500640" cy="257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6" name="Прямоугольник 3"/>
          <p:cNvSpPr/>
          <p:nvPr/>
        </p:nvSpPr>
        <p:spPr>
          <a:xfrm>
            <a:off x="1503360" y="107172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нк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4" descr="http://botinok.co.il/sites/default/files/images/374a99e7aef48509908e82128f0a4727_yablona_cvetush.jpg"/>
          <p:cNvPicPr/>
          <p:nvPr/>
        </p:nvPicPr>
        <p:blipFill>
          <a:blip r:embed="rId2"/>
          <a:stretch/>
        </p:blipFill>
        <p:spPr>
          <a:xfrm>
            <a:off x="4214880" y="1571760"/>
            <a:ext cx="3429000" cy="257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8" name="Picture 2" descr="http://schools.keldysh.ru/co1678/Project/Mixytkin/Sait/Lycopodium%20lagopus.jpg"/>
          <p:cNvPicPr/>
          <p:nvPr/>
        </p:nvPicPr>
        <p:blipFill>
          <a:blip r:embed="rId3"/>
          <a:stretch/>
        </p:blipFill>
        <p:spPr>
          <a:xfrm>
            <a:off x="2786040" y="4214880"/>
            <a:ext cx="3519360" cy="239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9" name="Прямоугольник 6"/>
          <p:cNvSpPr/>
          <p:nvPr/>
        </p:nvSpPr>
        <p:spPr>
          <a:xfrm>
            <a:off x="6572160" y="528624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7"/>
          <p:cNvSpPr/>
          <p:nvPr/>
        </p:nvSpPr>
        <p:spPr>
          <a:xfrm>
            <a:off x="5719680" y="100008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Управляющая кнопка: домой 8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182" name="Управляющая кнопка: домой 8" descr=""/>
            <p:cNvPicPr/>
            <p:nvPr/>
          </p:nvPicPr>
          <p:blipFill>
            <a:blip r:embed="rId4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82 -0.0007 L -0.17205 0.10439 E">
                                      <p:cBhvr>
                                        <p:cTn id="397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9" dur="1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724320" y="285840"/>
            <a:ext cx="81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0балло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овите главный орган цвет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2308680" y="5000760"/>
            <a:ext cx="39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ик, а в нем - завя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Управляющая кнопка: домой 4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187" name="Управляющая кнопка: домой 4" descr=""/>
            <p:cNvPicPr/>
            <p:nvPr/>
          </p:nvPicPr>
          <p:blipFill>
            <a:blip r:embed="rId1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Рисунок 5" descr="http://mirbiologii.ru/wp-content/uploads/2011/03/15.jpg"/>
          <p:cNvPicPr/>
          <p:nvPr/>
        </p:nvPicPr>
        <p:blipFill>
          <a:blip r:embed="rId2"/>
          <a:srcRect l="12331" t="23108" r="2953" b="8619"/>
          <a:stretch/>
        </p:blipFill>
        <p:spPr>
          <a:xfrm>
            <a:off x="1928880" y="1000080"/>
            <a:ext cx="45813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1071720" y="500040"/>
            <a:ext cx="3929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5баллов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й портрет представлен? Каков  вклад в науку этого учен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2"/>
          <p:cNvSpPr/>
          <p:nvPr/>
        </p:nvSpPr>
        <p:spPr>
          <a:xfrm>
            <a:off x="1000080" y="3857760"/>
            <a:ext cx="3357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Г. Навашин; открыл двойное оплодотворение у цветков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5" descr="http://dic.academic.ru/pictures/enc_biography/m_25329.jpg"/>
          <p:cNvPicPr/>
          <p:nvPr/>
        </p:nvPicPr>
        <p:blipFill>
          <a:blip r:embed="rId1"/>
          <a:stretch/>
        </p:blipFill>
        <p:spPr>
          <a:xfrm>
            <a:off x="5143680" y="928800"/>
            <a:ext cx="3641400" cy="4046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93" name="Управляющая кнопка: домой 4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194" name="Управляющая кнопка: домой 4" descr=""/>
            <p:cNvPicPr/>
            <p:nvPr/>
          </p:nvPicPr>
          <p:blipFill>
            <a:blip r:embed="rId2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571680" y="1000080"/>
            <a:ext cx="264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0балло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чему выражение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дровые орешк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очн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428760" y="464328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дровыми орешками называют семена сосны сибирской, у нее нет плода – орех, т. к. нет цветка; настоящие кедры растут в Эфиопии и в Гимала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3" descr="http://kedrobor.ru/d/178017/d/image_2.jpg"/>
          <p:cNvPicPr/>
          <p:nvPr/>
        </p:nvPicPr>
        <p:blipFill>
          <a:blip r:embed="rId1"/>
          <a:stretch/>
        </p:blipFill>
        <p:spPr>
          <a:xfrm>
            <a:off x="3500280" y="500040"/>
            <a:ext cx="4429440" cy="414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99" name="Управляющая кнопка: домой 4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200" name="Управляющая кнопка: домой 4" descr=""/>
            <p:cNvPicPr/>
            <p:nvPr/>
          </p:nvPicPr>
          <p:blipFill>
            <a:blip r:embed="rId2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142920" y="500040"/>
            <a:ext cx="3286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5балло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чему растение росянка имеет столь необычный обли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785880" y="5357880"/>
            <a:ext cx="714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е -  хищник приспособлено к условиям с недостаточным количеством аз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3" descr="http://s017.radikal.ru/i411/1111/d9/50b51b3cb9f7t.jpg"/>
          <p:cNvPicPr/>
          <p:nvPr/>
        </p:nvPicPr>
        <p:blipFill>
          <a:blip r:embed="rId1"/>
          <a:stretch/>
        </p:blipFill>
        <p:spPr>
          <a:xfrm>
            <a:off x="3643200" y="571680"/>
            <a:ext cx="4359240" cy="453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05" name="Управляющая кнопка: домой 4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206" name="Управляющая кнопка: домой 4" descr=""/>
            <p:cNvPicPr/>
            <p:nvPr/>
          </p:nvPicPr>
          <p:blipFill>
            <a:blip r:embed="rId2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1567080" y="500040"/>
            <a:ext cx="55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 балло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знайте водорос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2425680" y="5572080"/>
            <a:ext cx="449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мидомона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Documents and Settings\КОМПЬЮТЕР\Рабочий стол\KillCopy.Рабочий стол\26216b_chlamydomonas.jpg"/>
          <p:cNvPicPr/>
          <p:nvPr/>
        </p:nvPicPr>
        <p:blipFill>
          <a:blip r:embed="rId2"/>
          <a:stretch/>
        </p:blipFill>
        <p:spPr>
          <a:xfrm>
            <a:off x="2428920" y="1214280"/>
            <a:ext cx="4143240" cy="453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46" name="Управляющая кнопка: домой 5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47" name="Управляющая кнопка: домой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714240" y="285840"/>
            <a:ext cx="4071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0баллов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изводстве мармелада используют вещество, которое получают из красных водорос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Картинка 72 из 8401"/>
          <p:cNvPicPr/>
          <p:nvPr/>
        </p:nvPicPr>
        <p:blipFill>
          <a:blip r:embed="rId1"/>
          <a:stretch/>
        </p:blipFill>
        <p:spPr>
          <a:xfrm>
            <a:off x="4572000" y="357120"/>
            <a:ext cx="371484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" name="TextBox 3"/>
          <p:cNvSpPr/>
          <p:nvPr/>
        </p:nvSpPr>
        <p:spPr>
          <a:xfrm>
            <a:off x="1584000" y="5357880"/>
            <a:ext cx="274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ар-аг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Управляющая кнопка: домой 4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53" name="Управляющая кнопка: домой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60560" y="361440"/>
            <a:ext cx="723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Calibri"/>
              </a:rPr>
              <a:t>15 баллов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функции выпол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хроматофор у хлорелл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928800" y="5072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ас, фотосинтез, запас питательны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http://labx.narod.ru/documents/243170142.jpg"/>
          <p:cNvPicPr/>
          <p:nvPr/>
        </p:nvPicPr>
        <p:blipFill>
          <a:blip r:embed="rId1"/>
          <a:stretch/>
        </p:blipFill>
        <p:spPr>
          <a:xfrm>
            <a:off x="1357200" y="1785960"/>
            <a:ext cx="6000840" cy="3214800"/>
          </a:xfrm>
          <a:prstGeom prst="rect">
            <a:avLst/>
          </a:prstGeom>
          <a:ln w="0">
            <a:noFill/>
          </a:ln>
        </p:spPr>
      </p:pic>
      <p:grpSp>
        <p:nvGrpSpPr>
          <p:cNvPr id="58" name="Управляющая кнопка: домой 5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59" name="Управляющая кнопка: домой 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428760" y="28584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0 баллов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ите способы размножения водорослей, в зависимости от условий окружающе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5000760" y="1785960"/>
            <a:ext cx="3786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полое - при благоприятных условиях, половое при отклонении от нормы, т.к.половое размножение может обеспечить появление более приспособленных организ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shkolo.ru/i/stroenie-i-razmnojenie-hlamidomonady.jpg"/>
          <p:cNvPicPr/>
          <p:nvPr/>
        </p:nvPicPr>
        <p:blipFill>
          <a:blip r:embed="rId1"/>
          <a:stretch/>
        </p:blipFill>
        <p:spPr>
          <a:xfrm>
            <a:off x="571680" y="2214720"/>
            <a:ext cx="4282920" cy="3000240"/>
          </a:xfrm>
          <a:prstGeom prst="rect">
            <a:avLst/>
          </a:prstGeom>
          <a:ln w="0">
            <a:noFill/>
          </a:ln>
        </p:spPr>
      </p:pic>
      <p:pic>
        <p:nvPicPr>
          <p:cNvPr id="64" name="Управляющая кнопка: домой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55440" y="6114960"/>
            <a:ext cx="8236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285840" y="21420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5 баллов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водоросли глубоководья красные, а водоросли мелководья – зелены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vodnyymir.ru/wp-content/uploads/2011/11/vodorosli-300x214.jpg"/>
          <p:cNvPicPr/>
          <p:nvPr/>
        </p:nvPicPr>
        <p:blipFill>
          <a:blip r:embed="rId1"/>
          <a:stretch/>
        </p:blipFill>
        <p:spPr>
          <a:xfrm>
            <a:off x="1285920" y="1857240"/>
            <a:ext cx="2857320" cy="20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7" name="Picture 4" descr="http://podrobnosti.ua/upload/news/2004/12/13/165397_3.jpg"/>
          <p:cNvPicPr/>
          <p:nvPr/>
        </p:nvPicPr>
        <p:blipFill>
          <a:blip r:embed="rId2"/>
          <a:stretch/>
        </p:blipFill>
        <p:spPr>
          <a:xfrm>
            <a:off x="4572000" y="1857240"/>
            <a:ext cx="3029040" cy="20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" name="Rectangle 5"/>
          <p:cNvSpPr/>
          <p:nvPr/>
        </p:nvSpPr>
        <p:spPr>
          <a:xfrm>
            <a:off x="714240" y="3958560"/>
            <a:ext cx="814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доросли мелководья для фотосинтеза используют красный спектр света, поэтому их пигмент зеленый; больших глубин достигает свет зеленого спектра, поэтому водорослям необходим пигмент красного цве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Управляющая кнопка: домой 5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70" name="Управляющая кнопка: домой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2347200" y="357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баллов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знайте мо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364760" y="5857920"/>
            <a:ext cx="20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агну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http://lyricsreal.com/pictures/d/v/u/dvureche-1-big-large.jpg"/>
          <p:cNvPicPr/>
          <p:nvPr/>
        </p:nvPicPr>
        <p:blipFill>
          <a:blip r:embed="rId1"/>
          <a:stretch/>
        </p:blipFill>
        <p:spPr>
          <a:xfrm>
            <a:off x="785880" y="1714680"/>
            <a:ext cx="4929120" cy="357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Picture 2" descr="http://moizveti.ucoz.ru/a60.gif"/>
          <p:cNvPicPr/>
          <p:nvPr/>
        </p:nvPicPr>
        <p:blipFill>
          <a:blip r:embed="rId2"/>
          <a:stretch/>
        </p:blipFill>
        <p:spPr>
          <a:xfrm>
            <a:off x="6072120" y="1714680"/>
            <a:ext cx="2247840" cy="3571560"/>
          </a:xfrm>
          <a:prstGeom prst="rect">
            <a:avLst/>
          </a:prstGeom>
          <a:ln w="0">
            <a:noFill/>
          </a:ln>
        </p:spPr>
      </p:pic>
      <p:grpSp>
        <p:nvGrpSpPr>
          <p:cNvPr id="76" name="Управляющая кнопка: домой 5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77" name="Управляющая кнопка: домой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925200" y="428760"/>
            <a:ext cx="68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0балло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чение мхов в природ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img.ehowcdn.com/article-page-main/ehow/images/a08/8a/q9/sphagnum-moss-800x800.jpg"/>
          <p:cNvPicPr/>
          <p:nvPr/>
        </p:nvPicPr>
        <p:blipFill>
          <a:blip r:embed="rId1"/>
          <a:stretch/>
        </p:blipFill>
        <p:spPr>
          <a:xfrm>
            <a:off x="500040" y="1000080"/>
            <a:ext cx="2143080" cy="20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Picture 4" descr="http://img.ehowcdn.com/article-page-main/ehow/images/a06/bj/g9/sphagnum-moss-800x800.jpg"/>
          <p:cNvPicPr/>
          <p:nvPr/>
        </p:nvPicPr>
        <p:blipFill>
          <a:blip r:embed="rId2"/>
          <a:stretch/>
        </p:blipFill>
        <p:spPr>
          <a:xfrm>
            <a:off x="3071880" y="1000080"/>
            <a:ext cx="2286000" cy="20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6" descr="http://www.nlogorod.ru/images/torf.jpg"/>
          <p:cNvPicPr/>
          <p:nvPr/>
        </p:nvPicPr>
        <p:blipFill>
          <a:blip r:embed="rId3"/>
          <a:stretch/>
        </p:blipFill>
        <p:spPr>
          <a:xfrm>
            <a:off x="5715000" y="1071720"/>
            <a:ext cx="2638440" cy="201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Прямоугольник 5"/>
          <p:cNvSpPr/>
          <p:nvPr/>
        </p:nvSpPr>
        <p:spPr>
          <a:xfrm>
            <a:off x="500040" y="3286080"/>
            <a:ext cx="764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но в пищевой цепи, место обитания организмов, заболачивание местности, формирование почв, формирование торфа – топливного и химического сыр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Управляющая кнопка: домой 6"/>
          <p:cNvGrpSpPr/>
          <p:nvPr/>
        </p:nvGrpSpPr>
        <p:grpSpPr>
          <a:xfrm>
            <a:off x="-55440" y="6114960"/>
            <a:ext cx="823680" cy="822240"/>
            <a:chOff x="-55440" y="6114960"/>
            <a:chExt cx="823680" cy="822240"/>
          </a:xfrm>
        </p:grpSpPr>
        <p:pic>
          <p:nvPicPr>
            <p:cNvPr id="85" name="Управляющая кнопка: домой 6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55440" y="6114960"/>
              <a:ext cx="8236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614376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0:02:41Z</dcterms:created>
  <dc:creator>Microsoft</dc:creator>
  <dc:description/>
  <dc:language>en-US</dc:language>
  <cp:lastModifiedBy>Учитель</cp:lastModifiedBy>
  <dcterms:modified xsi:type="dcterms:W3CDTF">2021-10-25T10:53:00Z</dcterms:modified>
  <cp:revision>38</cp:revision>
  <dc:subject/>
  <dc:title>«Отделы растений»</dc:title>
</cp:coreProperties>
</file>