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41F-5A42-4DFF-B6CA-43056D453C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298-F5C2-4C27-8ACF-0E4DC70EFF8C}" type="slidenum">
              <a:rPr b="0" lang="ru-RU" sz="1200" spc="-1" strike="noStrike">
                <a:solidFill>
                  <a:srgbClr val="bb5f0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b5f03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455-FC58-4E8D-8786-C67680BA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9A8-1038-4E54-8276-AF2E1E1F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C8C-802E-4F31-97BC-75D2993E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0F0-1023-4D08-BCE2-23A59A96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2E32-3156-40A2-93AD-92A2AC45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85D0-4DF4-4788-8ACB-027C88F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87C4-F139-4B1F-9300-04573ED2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6BC-9BC4-4DEC-9FAB-E16C54B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B08-7038-4E7A-9409-C6EEF4B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F42E-0615-4298-A7E5-36FCCF9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E72-9D75-435D-AB00-6C77FFD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A17-B69A-41B9-A7FB-3766103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817-153A-4B77-8433-361A3D4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C8B7-B342-49D2-835C-3D14AB3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C804-8B4C-4B38-91D6-011FC6F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2A0-FF80-44FB-AFCD-8CC5960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AD9-562D-4DA9-B620-AF6FB505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E3F-DEBE-44BC-90B7-96F3FFA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018-ED8D-4366-8529-7CF3DE3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1DB-C381-46D5-B3AB-3CF99374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71C-17D8-4435-A2FA-747905E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AC7-7A5D-4431-B91C-2999B7D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A90-C86B-411F-8DC0-2FD6173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A40-76EA-42C5-83D9-CAD8101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B27-742D-4EC8-B778-59F15EF6BF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b5f03"/>
                </a:solidFill>
                <a:latin typeface="Verdan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5f0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b5f0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C2AA-3C26-41F5-A5CA-08BD8B81EC8F}" type="slidenum">
              <a:rPr b="0" lang="ru-RU" sz="1400" spc="-1" strike="noStrike">
                <a:solidFill>
                  <a:srgbClr val="bb5f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Конспект занятия  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b5f03"/>
                </a:solidFill>
                <a:latin typeface="Times New Roman"/>
              </a:rPr>
              <a:t>Лепка из соленого теста панно «Гроздья рябины»</a:t>
            </a:r>
            <a:endParaRPr b="0" lang="en-US" sz="4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Воспитатель ГПД </a:t>
            </a: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Быстрова  Ирина Николаевна</a:t>
            </a: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.Лепим ягодки Рябины</a:t>
            </a:r>
            <a:endParaRPr b="1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50" name="Содержимое 4" descr="DSC01649.JPG"/>
          <p:cNvPicPr/>
          <p:nvPr/>
        </p:nvPicPr>
        <p:blipFill>
          <a:blip r:embed="rId1"/>
          <a:stretch/>
        </p:blipFill>
        <p:spPr>
          <a:xfrm>
            <a:off x="1905120" y="1676520"/>
            <a:ext cx="5284800" cy="3962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5.Работы детей до росписи поделок</a:t>
            </a:r>
            <a:endParaRPr b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52" name="Содержимое 6" descr="DSC01652.JPG"/>
          <p:cNvPicPr/>
          <p:nvPr/>
        </p:nvPicPr>
        <p:blipFill>
          <a:blip r:embed="rId1"/>
          <a:stretch/>
        </p:blipFill>
        <p:spPr>
          <a:xfrm>
            <a:off x="1773360" y="1646280"/>
            <a:ext cx="5535360" cy="415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Выставка детских работ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54" name="Содержимое 4" descr="DSC01654.JPG"/>
          <p:cNvPicPr/>
          <p:nvPr/>
        </p:nvPicPr>
        <p:blipFill>
          <a:blip r:embed="rId1"/>
          <a:stretch/>
        </p:blipFill>
        <p:spPr>
          <a:xfrm>
            <a:off x="1828800" y="167652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51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56" name="WordArt 9" descr=""/>
          <p:cNvPicPr/>
          <p:nvPr/>
        </p:nvPicPr>
        <p:blipFill>
          <a:blip r:embed="rId1"/>
          <a:stretch/>
        </p:blipFill>
        <p:spPr>
          <a:xfrm>
            <a:off x="835200" y="291960"/>
            <a:ext cx="7430760" cy="15796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838080" y="190512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5f03"/>
                </a:solidFill>
                <a:latin typeface="Verdana"/>
              </a:rPr>
              <a:t>ИНТНРНЕТ РЕСУРСЫ: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  <a:p>
            <a:pPr>
              <a:buClr>
                <a:srgbClr val="bb5f0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Verdana"/>
              </a:rPr>
              <a:t>https://www.maam.ru/detskijsad/-v-les-osenii-na-progulku-priglashayu-vas-poiti.html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  <a:p>
            <a:pPr>
              <a:buClr>
                <a:srgbClr val="bb5f0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Verdana"/>
              </a:rPr>
              <a:t>https://yandex.ru/images/search?text=%D0%BE%D1%81%D0%B5%D0%BD%D0%BD%D0%B8%D0%B5%20%D1%84%D0%BE%D0%BD%D1%8B%20%D0%B4%D0%BB%D1%8F%20%D0%BF%D1%80%D0%B5%D0%B7%D0%B5%D0%BD%D1%82%D0%B0%D1%86%D0%B8%D0%B8&amp;stype=image&amp;lr=2&amp;source=wiz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Лепка «Гроздья рябины»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4724280" y="2286000"/>
            <a:ext cx="4114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5f03"/>
                </a:solidFill>
                <a:latin typeface="Verdana"/>
              </a:rPr>
              <a:t>-учить детей передавать характерные особенности ветки рябины: форму, строение ветки и листов, ягоды, их цвет и форму; закрепить умение красиво располагать ветку на листе бумаги; познакомить с новым приемом нетрадиционой техники рисования-лепки из соленого теста; продолжать развивать навыки по лепке; воспитывать эстетический вкус и аккуратность в выполнении работы. 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457200" y="2286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5f03"/>
                </a:solidFill>
                <a:latin typeface="Verdana"/>
              </a:rPr>
              <a:t>Формировать и развивать эстетический вкус, чувство прекрасного.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457200" y="32004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5f03"/>
                </a:solidFill>
                <a:latin typeface="Verdana"/>
              </a:rPr>
              <a:t>Совершенствование навыков ручного труда средствами лепки.</a:t>
            </a:r>
            <a:endParaRPr b="0" lang="en-US" sz="1800" spc="-1" strike="noStrike">
              <a:solidFill>
                <a:srgbClr val="bb5f03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148a"/>
                </a:solidFill>
                <a:latin typeface="Times New Roman"/>
              </a:rPr>
              <a:t>Предшествующая работа: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наблюдение осенних явлений в природе; рассматривание кустов и деревьев, раскрашенных осенью, рассматривание гроздьев рябины.</a:t>
            </a:r>
            <a:br>
              <a:rPr sz="2000"/>
            </a:br>
            <a:endParaRPr b="1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148a"/>
                </a:solidFill>
                <a:latin typeface="Times New Roman"/>
              </a:rPr>
              <a:t>Материалы для работы: </a:t>
            </a:r>
            <a:endParaRPr b="0" lang="en-US" sz="32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соленое тесто, дощечки ,стеки, стакан с водой, гуашь, кисти, пооперационная карта, картинка с веточкой рябины.</a:t>
            </a:r>
            <a:endParaRPr b="0" lang="en-US" sz="20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4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148a"/>
                </a:solidFill>
                <a:latin typeface="Times New Roman"/>
              </a:rPr>
              <a:t>Занятие начинается стихотворением:</a:t>
            </a:r>
            <a:br>
              <a:rPr sz="4800"/>
            </a:br>
            <a:endParaRPr b="1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В лес осенний, на прогулку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Приглашаю вас пойти.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Интересней приключенья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Нам, ребята, не найти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Друг за другом становитесь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Крепко за руки беритесь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По дорожкам, по тропинкам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По лесу гулять пойдем.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Может мы в лесу осеннем </a:t>
            </a:r>
            <a:br>
              <a:rPr sz="2800"/>
            </a:br>
            <a:r>
              <a:rPr b="0" lang="ru-RU" sz="2800" spc="-1" strike="noStrike">
                <a:solidFill>
                  <a:srgbClr val="bb5f03"/>
                </a:solidFill>
                <a:latin typeface="Times New Roman"/>
              </a:rPr>
              <a:t>Мы листочки соберем? </a:t>
            </a: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bb5f03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Рассмотреть кисть рябины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40" name="Picture 4" descr="p1040774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686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оследовательность выполнения работы: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42" name="Содержимое 3" descr="DSC01637.JPG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1. Лепим веточку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44" name="Содержимое 4" descr="DSC01644.JPG"/>
          <p:cNvPicPr/>
          <p:nvPr/>
        </p:nvPicPr>
        <p:blipFill>
          <a:blip r:embed="rId1"/>
          <a:stretch/>
        </p:blipFill>
        <p:spPr>
          <a:xfrm>
            <a:off x="1981080" y="1752480"/>
            <a:ext cx="5562720" cy="4289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2.Лепим веточки и гроздь на которой держатся ягодки</a:t>
            </a:r>
            <a:endParaRPr b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46" name="Содержимое 4" descr="DSC01645.JPG"/>
          <p:cNvPicPr/>
          <p:nvPr/>
        </p:nvPicPr>
        <p:blipFill>
          <a:blip r:embed="rId1"/>
          <a:stretch/>
        </p:blipFill>
        <p:spPr>
          <a:xfrm>
            <a:off x="2057400" y="1752480"/>
            <a:ext cx="533412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3.Лепим листья</a:t>
            </a:r>
            <a:endParaRPr b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48" name="Содержимое 4" descr="DSC01647.JPG"/>
          <p:cNvPicPr/>
          <p:nvPr/>
        </p:nvPicPr>
        <p:blipFill>
          <a:blip r:embed="rId1"/>
          <a:stretch/>
        </p:blipFill>
        <p:spPr>
          <a:xfrm>
            <a:off x="1981080" y="2057400"/>
            <a:ext cx="5230800" cy="392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1:54:05Z</dcterms:created>
  <dc:creator>ZERG1</dc:creator>
  <dc:description/>
  <dc:language>en-US</dc:language>
  <cp:lastModifiedBy>user</cp:lastModifiedBy>
  <dcterms:modified xsi:type="dcterms:W3CDTF">2021-10-22T17:21:2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