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9.jpeg" ContentType="image/jpeg"/>
  <Override PartName="/ppt/media/image3.wmf" ContentType="image/x-wmf"/>
  <Override PartName="/ppt/media/image5.jpeg" ContentType="image/jpeg"/>
  <Override PartName="/ppt/media/image6.png" ContentType="image/png"/>
  <Override PartName="/ppt/media/image7.jpeg" ContentType="image/jpeg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F397-00CB-4381-A66B-6C482C818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B7AD-765C-4B0D-A651-116E5A5CD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31B3-EB9D-4D6E-AA4D-60FB7D6A4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6BDA-6F2B-4604-90AB-DDD8A9163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8DFB-DAC7-481E-B451-550960EF4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A241-E635-4F96-AA80-90ED80CD2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198B-9A3A-455D-BE7F-5E1574F4E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02E6-CB5F-47B6-A6D0-6DEBB7A22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04CA-4E36-46F7-9B45-53F03ADD7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42BC-02FC-441A-889A-6DC1C8358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A3A7-FD65-4F5F-9634-71169199F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F5D8-394C-4A63-ADAD-1FFDBD0D2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AF5E4-6D29-4A71-B095-9A886BC068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1200" y="1879560"/>
            <a:ext cx="7891200" cy="1563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Изучаем новый 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федеральный закон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«Об образовании в Российской Федерации»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147920" y="3755880"/>
            <a:ext cx="4660920" cy="13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№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273-ФЗ от 29.12.20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Вступил в силу01.09.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резентацию подготовил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Старший воспитател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Капранова М.Н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БДОУ детский сад №6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риморского района СП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Group 76"/>
          <p:cNvGrpSpPr/>
          <p:nvPr/>
        </p:nvGrpSpPr>
        <p:grpSpPr>
          <a:xfrm>
            <a:off x="554040" y="4241880"/>
            <a:ext cx="2592000" cy="2282040"/>
            <a:chOff x="554040" y="4241880"/>
            <a:chExt cx="2592000" cy="2282040"/>
          </a:xfrm>
        </p:grpSpPr>
        <p:graphicFrame>
          <p:nvGraphicFramePr>
            <p:cNvPr id="44" name="Object 75"/>
            <p:cNvGraphicFramePr/>
            <p:nvPr/>
          </p:nvGraphicFramePr>
          <p:xfrm>
            <a:off x="554040" y="4241880"/>
            <a:ext cx="2592000" cy="2118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5" name="Object 7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54040" y="4241880"/>
                      <a:ext cx="2592000" cy="2118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6" name="Text Box 46"/>
            <p:cNvSpPr/>
            <p:nvPr/>
          </p:nvSpPr>
          <p:spPr>
            <a:xfrm>
              <a:off x="1455120" y="6219000"/>
              <a:ext cx="183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Федеральный государственный образовательный стандарт</a:t>
            </a: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28 августа 2013 года совет Министерства образования и науки РФ по федеральным государственным стандартам утвердил Федеральный государственный образовательный стандарт дошкольного образования (ФГОС ДО) 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" name="Group 40"/>
          <p:cNvGrpSpPr/>
          <p:nvPr/>
        </p:nvGrpSpPr>
        <p:grpSpPr>
          <a:xfrm>
            <a:off x="3666960" y="4476600"/>
            <a:ext cx="2220840" cy="1799640"/>
            <a:chOff x="3666960" y="4476600"/>
            <a:chExt cx="2220840" cy="1799640"/>
          </a:xfrm>
        </p:grpSpPr>
        <p:pic>
          <p:nvPicPr>
            <p:cNvPr id="99" name="Picture 37" descr="1"/>
            <p:cNvPicPr/>
            <p:nvPr/>
          </p:nvPicPr>
          <p:blipFill>
            <a:blip r:embed="rId1"/>
            <a:stretch/>
          </p:blipFill>
          <p:spPr>
            <a:xfrm>
              <a:off x="3666960" y="4476600"/>
              <a:ext cx="2220840" cy="156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39"/>
            <p:cNvSpPr/>
            <p:nvPr/>
          </p:nvSpPr>
          <p:spPr>
            <a:xfrm>
              <a:off x="4057200" y="5971320"/>
              <a:ext cx="183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524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alibri Light"/>
              </a:rPr>
              <a:t>Зачем нужен стандарт</a:t>
            </a: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Это требование закона об "Об образовании в Российской Федерации", вступившего в силу 1 сентября 2013 года. Впервые дошкольное образование признано самостоятельным уровнем общего образования, и это значит, </a:t>
            </a:r>
            <a:r>
              <a:rPr b="0" lang="ru-RU" sz="2000" spc="-1" strike="noStrike">
                <a:solidFill>
                  <a:srgbClr val="ed7d31"/>
                </a:solidFill>
                <a:latin typeface="Calibri"/>
              </a:rPr>
              <a:t>должно теперь работать в соответствии со стандартом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. ФГТ предъявляли требования к структуре и условиям реализации основной образовательной программы, ФГОС ДО предъявляют также </a:t>
            </a:r>
            <a:r>
              <a:rPr b="0" lang="ru-RU" sz="2000" spc="-1" strike="noStrike">
                <a:solidFill>
                  <a:srgbClr val="ed7d31"/>
                </a:solidFill>
                <a:latin typeface="Calibri"/>
              </a:rPr>
              <a:t>требования к результатам освоения основной образовательной программы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, и это принципиальное новшество. Одно из требований стандарта - уход от академической системы. Ребенок должен овладеть умением жить в мире с самим собой, получить в игре навыки индивидуальной работы и группового взаимодействия, научиться учиться. Именно в дошкольном возрасте формируются основные качества личности, ключевые социальные навыки - поликультурность, уважение к другим людям, приверженность демократическим ценностям, здоровому и безопасному образу жизни. Поэтому </a:t>
            </a:r>
            <a:r>
              <a:rPr b="0" i="1" lang="ru-RU" sz="2000" spc="-1" strike="noStrike" u="sng">
                <a:solidFill>
                  <a:srgbClr val="ed7d31"/>
                </a:solidFill>
                <a:uFillTx/>
                <a:latin typeface="Calibri"/>
              </a:rPr>
              <a:t>одна из важнейших задач дошкольного образования -положить начало формированию самоидентификации ребенка в окружающем мире: с семьей, регионом, страной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Стандарт преследует следующие цели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:</a:t>
            </a: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обеспечение государством равенства возможностей для каждого ребёнка в получении качественного дошкольного образова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- обеспечение государственных гарантий уровня и качества образования на основе единства обязательных требований к условиям реализации основных образовательных программ, их структуре и результатам их освое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- сохранение единства образовательного пространства Российской Федерации относительно уровня дошкольного образов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На основе стандартов разрабатывается </a:t>
            </a:r>
            <a:r>
              <a:rPr b="0" lang="ru-RU" sz="2800" spc="-1" strike="noStrike">
                <a:solidFill>
                  <a:srgbClr val="ed7d31"/>
                </a:solidFill>
                <a:latin typeface="Calibri"/>
              </a:rPr>
              <a:t>основная образовательная Программа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дошкольного образования ООП ДО, которая определят комплекс основных характеристик дошкольного образования (объем, содержание и планируемые результаты в виде целевых ориентиров - компетенций (а не знаний, умений и навыков или интегративных качеств) дошкольного образования, организационно-педагогические условия педагогического процесса. Программа утверждается организацией самостоятельн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7311960" y="4950000"/>
            <a:ext cx="1451160" cy="153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заимодействие семьи и дошкольного учреждения</a:t>
            </a: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Родители несут основную ответственность за воспитание и развитие ребенка, наилучшие интересы которого должны являться предметом основной заботы родител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Конвенция о правах ребенка (статья 18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384120" y="3719520"/>
            <a:ext cx="339588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«Родители (законные представители) несовершеннолетних обучающихся (воспитанников) </a:t>
            </a:r>
            <a:r>
              <a:rPr b="0" lang="ru-RU" sz="2800" spc="-1" strike="noStrike">
                <a:solidFill>
                  <a:srgbClr val="ed7d31"/>
                </a:solidFill>
                <a:latin typeface="Calibri"/>
              </a:rPr>
              <a:t>имеют преимущественное право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на обучение и воспитание детей перед всеми другими лицами. Они обязаны заложить основы физического, нравственного и интеллектуального развития личности ребен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3" name="Group 36"/>
          <p:cNvGrpSpPr/>
          <p:nvPr/>
        </p:nvGrpSpPr>
        <p:grpSpPr>
          <a:xfrm>
            <a:off x="6553080" y="195120"/>
            <a:ext cx="2251080" cy="2090520"/>
            <a:chOff x="6553080" y="195120"/>
            <a:chExt cx="2251080" cy="2090520"/>
          </a:xfrm>
        </p:grpSpPr>
        <p:sp>
          <p:nvSpPr>
            <p:cNvPr id="114" name="AutoShape 34"/>
            <p:cNvSpPr/>
            <p:nvPr/>
          </p:nvSpPr>
          <p:spPr>
            <a:xfrm rot="20700000">
              <a:off x="6735600" y="410760"/>
              <a:ext cx="1886040" cy="165888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Text Box 35"/>
            <p:cNvSpPr/>
            <p:nvPr/>
          </p:nvSpPr>
          <p:spPr>
            <a:xfrm>
              <a:off x="7098840" y="969480"/>
              <a:ext cx="8906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ff0000"/>
                  </a:solidFill>
                  <a:latin typeface="Tahoma"/>
                </a:rPr>
                <a:t>Статья 44. Часть 1.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«Органы государственной власти и местного самоуправления, образовательные организации </a:t>
            </a:r>
            <a:r>
              <a:rPr b="0" lang="ru-RU" sz="2400" spc="-1" strike="noStrike">
                <a:solidFill>
                  <a:srgbClr val="ed7d31"/>
                </a:solidFill>
                <a:latin typeface="Calibri"/>
              </a:rPr>
              <a:t>оказывают помощь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родителям (законным воспитании детей, охране и укреплении их физического и психического здоровья, развития индивидуальных способностей и необходимой коррекции нарушений их развития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8" name="Group 36"/>
          <p:cNvGrpSpPr/>
          <p:nvPr/>
        </p:nvGrpSpPr>
        <p:grpSpPr>
          <a:xfrm>
            <a:off x="6553080" y="195120"/>
            <a:ext cx="2251080" cy="2090520"/>
            <a:chOff x="6553080" y="195120"/>
            <a:chExt cx="2251080" cy="2090520"/>
          </a:xfrm>
        </p:grpSpPr>
        <p:sp>
          <p:nvSpPr>
            <p:cNvPr id="119" name="AutoShape 34"/>
            <p:cNvSpPr/>
            <p:nvPr/>
          </p:nvSpPr>
          <p:spPr>
            <a:xfrm rot="20700000">
              <a:off x="6735600" y="410760"/>
              <a:ext cx="1886040" cy="165888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Text Box 35"/>
            <p:cNvSpPr/>
            <p:nvPr/>
          </p:nvSpPr>
          <p:spPr>
            <a:xfrm>
              <a:off x="7098840" y="969480"/>
              <a:ext cx="8906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ff0000"/>
                  </a:solidFill>
                  <a:latin typeface="Tahoma"/>
                </a:rPr>
                <a:t>Статья 44. Часть 2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 Light"/>
              </a:rPr>
              <a:t>За неиспонение или ненадлежащее исполнение обязанностей по воспитанию детей родители могут быть привлечены к различным видам юридической ответственности: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ed7d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d7d31"/>
                </a:solidFill>
                <a:latin typeface="Calibri"/>
              </a:rPr>
              <a:t>административной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(статья 5.35 Кодекса Российской Федерации об административных правонарушениях («Неисполнение родителями или иными законными представителями несовершеннолетних обязанностей по содержанию и воспитанию несовершеннолетних») 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ed7d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d7d31"/>
                </a:solidFill>
                <a:latin typeface="Calibri"/>
              </a:rPr>
              <a:t>гражданско-правовой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(статьи 1073 – 1075 Гражданского кодекса Российской Федерации) 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ed7d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d7d31"/>
                </a:solidFill>
                <a:latin typeface="Calibri"/>
              </a:rPr>
              <a:t>семейно – правовой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(статьи 69 «Лишение родительских прав», статьи 73 «Ограничение родительских прав» Семейного кодекса Российской Федерации) 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ed7d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d7d31"/>
                </a:solidFill>
                <a:latin typeface="Calibri"/>
              </a:rPr>
              <a:t>уголовной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(статья 156 Уголовного кодекса Российской Федерации «Неисполнение обязанностей по воспитанию несовершеннолетнего»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За неисполнение или ненадлежащее исполнение обязанностей, установленных настоящим ФЗ и иными ФЗ, родители (законные представители) несовершеннолетних обучающихся несут ответственность предусмотренную законодательством Российской Федерации. (Закон «Об образовании» гл. 4 ст. 44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 Российской федерации гарантируется право каждого человека на образован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«Право на образование в РФ гарантируется </a:t>
            </a:r>
            <a:r>
              <a:rPr b="0" lang="ru-RU" sz="2800" spc="-1" strike="noStrike">
                <a:solidFill>
                  <a:srgbClr val="ed7d31"/>
                </a:solidFill>
                <a:latin typeface="Calibri"/>
              </a:rPr>
              <a:t>НЕЗАВИСИМО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от пола, расы, национальности, языка, происхождения, имущественного, социального происхождения, места жительства, отношения к религии, убеждений, принадлежности к общественным объединениям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" name="Group 36"/>
          <p:cNvGrpSpPr/>
          <p:nvPr/>
        </p:nvGrpSpPr>
        <p:grpSpPr>
          <a:xfrm>
            <a:off x="6813720" y="100080"/>
            <a:ext cx="2250720" cy="2090520"/>
            <a:chOff x="6813720" y="100080"/>
            <a:chExt cx="2250720" cy="2090520"/>
          </a:xfrm>
        </p:grpSpPr>
        <p:sp>
          <p:nvSpPr>
            <p:cNvPr id="50" name="AutoShape 34"/>
            <p:cNvSpPr/>
            <p:nvPr/>
          </p:nvSpPr>
          <p:spPr>
            <a:xfrm rot="20700000">
              <a:off x="6996240" y="315720"/>
              <a:ext cx="1885680" cy="165888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Text Box 35"/>
            <p:cNvSpPr/>
            <p:nvPr/>
          </p:nvSpPr>
          <p:spPr>
            <a:xfrm>
              <a:off x="7359480" y="874440"/>
              <a:ext cx="89028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ff0000"/>
                  </a:solidFill>
                  <a:latin typeface="Tahoma"/>
                </a:rPr>
                <a:t>Глава 1. Статья 5. Пункты 1 и 2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2320" y="770040"/>
            <a:ext cx="7886880" cy="177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alibri Light"/>
              </a:rPr>
              <a:t>Основные понятия в новом федеральном законе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Calibri Light"/>
              </a:rPr>
              <a:t> «Об образовании в Российской Федерации»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libri Light"/>
              </a:rPr>
              <a:t>Федеральный закон "Об образовании в Российской Федерации" вносит изменения в юридическую терминологию российского права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2928960"/>
            <a:ext cx="3867120" cy="32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d7d31"/>
                </a:solidFill>
                <a:latin typeface="Calibri"/>
              </a:rPr>
              <a:t>Во-первых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он вводит четкие определения часто употребляемых терминов и понятий: "образование", "воспитание", "обучение", "уровень образования", "квалификация", "учебный план", "практика", "направленность (профиль) образования" и т. д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2835360"/>
            <a:ext cx="386712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d7d31"/>
                </a:solidFill>
                <a:latin typeface="Calibri"/>
              </a:rPr>
              <a:t>Во-вторых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он меняет термин "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образовательное учреждение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" на термин "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образовательная организация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". Прошлый Закон РФ "Об образовании" разрешал образовательную деятельность любым некоммерческим организациям, однако именовал их все образовательными учреждениям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Group 36"/>
          <p:cNvGrpSpPr/>
          <p:nvPr/>
        </p:nvGrpSpPr>
        <p:grpSpPr>
          <a:xfrm>
            <a:off x="544680" y="4694040"/>
            <a:ext cx="2250720" cy="2090520"/>
            <a:chOff x="544680" y="4694040"/>
            <a:chExt cx="2250720" cy="2090520"/>
          </a:xfrm>
        </p:grpSpPr>
        <p:sp>
          <p:nvSpPr>
            <p:cNvPr id="56" name="AutoShape 34"/>
            <p:cNvSpPr/>
            <p:nvPr/>
          </p:nvSpPr>
          <p:spPr>
            <a:xfrm rot="20700000">
              <a:off x="727200" y="4909680"/>
              <a:ext cx="1885680" cy="165888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Text Box 35"/>
            <p:cNvSpPr/>
            <p:nvPr/>
          </p:nvSpPr>
          <p:spPr>
            <a:xfrm>
              <a:off x="1090440" y="5468400"/>
              <a:ext cx="8902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ff0000"/>
                  </a:solidFill>
                  <a:latin typeface="Tahoma"/>
                </a:rPr>
                <a:t>Глава 1. Статья 2.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" name="Group 36"/>
          <p:cNvGrpSpPr/>
          <p:nvPr/>
        </p:nvGrpSpPr>
        <p:grpSpPr>
          <a:xfrm>
            <a:off x="544680" y="4694040"/>
            <a:ext cx="2250720" cy="2090520"/>
            <a:chOff x="544680" y="4694040"/>
            <a:chExt cx="2250720" cy="2090520"/>
          </a:xfrm>
        </p:grpSpPr>
        <p:sp>
          <p:nvSpPr>
            <p:cNvPr id="59" name="AutoShape 34"/>
            <p:cNvSpPr/>
            <p:nvPr/>
          </p:nvSpPr>
          <p:spPr>
            <a:xfrm rot="20700000">
              <a:off x="727200" y="4909680"/>
              <a:ext cx="1885680" cy="165888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Text Box 35"/>
            <p:cNvSpPr/>
            <p:nvPr/>
          </p:nvSpPr>
          <p:spPr>
            <a:xfrm>
              <a:off x="1090440" y="5468400"/>
              <a:ext cx="8902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ff0000"/>
                  </a:solidFill>
                  <a:latin typeface="Tahoma"/>
                </a:rPr>
                <a:t>Глава 1. Статья 2.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" name="Group 36"/>
          <p:cNvGrpSpPr/>
          <p:nvPr/>
        </p:nvGrpSpPr>
        <p:grpSpPr>
          <a:xfrm>
            <a:off x="557280" y="4681440"/>
            <a:ext cx="2251080" cy="2090520"/>
            <a:chOff x="557280" y="4681440"/>
            <a:chExt cx="2251080" cy="2090520"/>
          </a:xfrm>
        </p:grpSpPr>
        <p:sp>
          <p:nvSpPr>
            <p:cNvPr id="62" name="AutoShape 34"/>
            <p:cNvSpPr/>
            <p:nvPr/>
          </p:nvSpPr>
          <p:spPr>
            <a:xfrm rot="20700000">
              <a:off x="739800" y="4897080"/>
              <a:ext cx="1886040" cy="165888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Text Box 35"/>
            <p:cNvSpPr/>
            <p:nvPr/>
          </p:nvSpPr>
          <p:spPr>
            <a:xfrm>
              <a:off x="1103040" y="5455800"/>
              <a:ext cx="8906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ff0000"/>
                  </a:solidFill>
                  <a:latin typeface="Tahoma"/>
                </a:rPr>
                <a:t>Глава 1. Статья 2.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Calibri"/>
              </a:rPr>
              <a:t>Образование</a:t>
            </a:r>
            <a:r>
              <a:rPr b="0" lang="ru-RU" sz="4400" spc="-1" strike="noStrike">
                <a:solidFill>
                  <a:srgbClr val="ffffff"/>
                </a:solidFill>
                <a:latin typeface="Calibri Ligh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Единый целенаправленный процесс воспитания и обучения, являющийся общественно значимым благом и осуществляемый в интересах человека, семьи, общества и государства, а также совокупность приобретаемых знаний, умений и навыков, ценностных установок, опыта деятельности и компетенции определённых объёма и сложности в целях интеллектуального, духовно-нравственного, творческого, физического и профессионального развития человека, удовлетворения его образовательных потребностей и интересов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7512120" y="4237200"/>
            <a:ext cx="1100160" cy="180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alibri Light"/>
              </a:rPr>
              <a:t>В Российской Федерации 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Calibri Light"/>
              </a:rPr>
              <a:t>устанавливаются следующие  уровни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730160"/>
            <a:ext cx="3867120" cy="444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d7d31"/>
                </a:solidFill>
                <a:latin typeface="Calibri"/>
              </a:rPr>
              <a:t>общего образовани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cc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9bd5"/>
                </a:solidFill>
                <a:latin typeface="Calibri"/>
              </a:rPr>
              <a:t>дошкольное образова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cc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9bd5"/>
                </a:solidFill>
                <a:latin typeface="Calibri"/>
              </a:rPr>
              <a:t>начальное общее образование;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cc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9bd5"/>
                </a:solidFill>
                <a:latin typeface="Calibri"/>
              </a:rPr>
              <a:t>основное общее образование;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cc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9bd5"/>
                </a:solidFill>
                <a:latin typeface="Calibri"/>
              </a:rPr>
              <a:t>среднее общее образовани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95600"/>
            <a:ext cx="3867120" cy="44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d7d31"/>
                </a:solidFill>
                <a:latin typeface="Calibri"/>
              </a:rPr>
              <a:t>профессионального образования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5b9bd5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9bd5"/>
                </a:solidFill>
                <a:latin typeface="Calibri"/>
              </a:rPr>
              <a:t>среднее профессиональное образование;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5b9bd5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9bd5"/>
                </a:solidFill>
                <a:latin typeface="Calibri"/>
              </a:rPr>
              <a:t>высшее образование - бакалавриат;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5b9bd5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9bd5"/>
                </a:solidFill>
                <a:latin typeface="Calibri"/>
              </a:rPr>
              <a:t>высшее образование - специалитет, магистратура;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5b9bd5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9bd5"/>
                </a:solidFill>
                <a:latin typeface="Calibri"/>
              </a:rPr>
              <a:t>высшее образование - подготовка кадров высшей квалифика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" name="Group 36"/>
          <p:cNvGrpSpPr/>
          <p:nvPr/>
        </p:nvGrpSpPr>
        <p:grpSpPr>
          <a:xfrm>
            <a:off x="1565280" y="4670280"/>
            <a:ext cx="2251080" cy="2090520"/>
            <a:chOff x="1565280" y="4670280"/>
            <a:chExt cx="2251080" cy="2090520"/>
          </a:xfrm>
        </p:grpSpPr>
        <p:sp>
          <p:nvSpPr>
            <p:cNvPr id="71" name="AutoShape 34"/>
            <p:cNvSpPr/>
            <p:nvPr/>
          </p:nvSpPr>
          <p:spPr>
            <a:xfrm rot="20700000">
              <a:off x="1747800" y="4885920"/>
              <a:ext cx="1886040" cy="165888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Text Box 35"/>
            <p:cNvSpPr/>
            <p:nvPr/>
          </p:nvSpPr>
          <p:spPr>
            <a:xfrm>
              <a:off x="2111040" y="5444640"/>
              <a:ext cx="89064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ff0000"/>
                  </a:solidFill>
                  <a:latin typeface="Tahoma"/>
                </a:rPr>
                <a:t>Глава 2. Статья 10. Пункты 4 и 5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" name="Group 36"/>
          <p:cNvGrpSpPr/>
          <p:nvPr/>
        </p:nvGrpSpPr>
        <p:grpSpPr>
          <a:xfrm>
            <a:off x="1577880" y="4672080"/>
            <a:ext cx="2251080" cy="2090520"/>
            <a:chOff x="1577880" y="4672080"/>
            <a:chExt cx="2251080" cy="2090520"/>
          </a:xfrm>
        </p:grpSpPr>
        <p:sp>
          <p:nvSpPr>
            <p:cNvPr id="74" name="AutoShape 34"/>
            <p:cNvSpPr/>
            <p:nvPr/>
          </p:nvSpPr>
          <p:spPr>
            <a:xfrm rot="20700000">
              <a:off x="1760400" y="4887720"/>
              <a:ext cx="1886040" cy="165888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Text Box 35"/>
            <p:cNvSpPr/>
            <p:nvPr/>
          </p:nvSpPr>
          <p:spPr>
            <a:xfrm>
              <a:off x="2123640" y="5446440"/>
              <a:ext cx="89064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ff0000"/>
                  </a:solidFill>
                  <a:latin typeface="Tahoma"/>
                </a:rPr>
                <a:t>Глава 2. Статья 10. Пункты 4 и 5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ed7d31"/>
                </a:solidFill>
                <a:latin typeface="Arial"/>
              </a:rPr>
              <a:t>Важно!!!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Дошкольное образование теперь является </a:t>
            </a:r>
            <a:r>
              <a:rPr b="1" i="1" lang="ru-RU" sz="2800" spc="-1" strike="noStrike">
                <a:solidFill>
                  <a:srgbClr val="ed7d31"/>
                </a:solidFill>
                <a:latin typeface="Calibri"/>
              </a:rPr>
              <a:t>одним из уровней общего образования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. В связи с этим изменится и схема его финансового обеспечения – она будет аналогична "школьной". Федеральный закон "Об образовании в Российской Федерации" четко определяет, в какой части финансирование возложено на субъекты РФ, а в какой – на муниципалитеты. С учетом дефицита муниципальных бюджетов принятое решение может поспособствовать улучшению ситуации с финансовым обеспечением детских сад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1071720" y="498600"/>
            <a:ext cx="1565280" cy="11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671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 новом законе «Об образовании» прописаны гарантии государства по "обязательности дошкольного образования".  «В Российской Федерации гарантируются </a:t>
            </a:r>
            <a:r>
              <a:rPr b="0" lang="ru-RU" sz="1600" spc="-1" strike="noStrike">
                <a:solidFill>
                  <a:srgbClr val="ed7d31"/>
                </a:solidFill>
                <a:latin typeface="Calibri"/>
              </a:rPr>
              <a:t>общедоступность и бесплатность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в соответствии с федеральными государственными образовательными стандартам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Это не обязательность для всех детей ходить в д/с, а гарантии государства, что оно берет на себя обязательства и официально фиксирует это в законе - обеспечить всех полноценным дошкольным образованием". Родитель сам будет решать, куда отдавать ему ребенка - в детский сад, семейную группу, негосударственное учреждение или будет его воспитывать самостоятельно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825200"/>
            <a:ext cx="386712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" name="Group 36"/>
          <p:cNvGrpSpPr/>
          <p:nvPr/>
        </p:nvGrpSpPr>
        <p:grpSpPr>
          <a:xfrm>
            <a:off x="6192000" y="350640"/>
            <a:ext cx="2012040" cy="1548360"/>
            <a:chOff x="6192000" y="350640"/>
            <a:chExt cx="2012040" cy="1548360"/>
          </a:xfrm>
        </p:grpSpPr>
        <p:sp>
          <p:nvSpPr>
            <p:cNvPr id="83" name="AutoShape 34"/>
            <p:cNvSpPr/>
            <p:nvPr/>
          </p:nvSpPr>
          <p:spPr>
            <a:xfrm rot="20700000">
              <a:off x="6307200" y="561960"/>
              <a:ext cx="1781280" cy="112572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 Box 35"/>
            <p:cNvSpPr/>
            <p:nvPr/>
          </p:nvSpPr>
          <p:spPr>
            <a:xfrm>
              <a:off x="6651360" y="939960"/>
              <a:ext cx="839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ff0000"/>
                  </a:solidFill>
                  <a:latin typeface="Tahoma"/>
                </a:rPr>
                <a:t>Глава 1. Статья 5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ff0000"/>
                  </a:solidFill>
                  <a:latin typeface="Tahoma"/>
                </a:rPr>
                <a:t>пункт 3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5" name="Picture 12" descr=""/>
          <p:cNvPicPr/>
          <p:nvPr/>
        </p:nvPicPr>
        <p:blipFill>
          <a:blip r:embed="rId1"/>
          <a:stretch/>
        </p:blipFill>
        <p:spPr>
          <a:xfrm>
            <a:off x="4651200" y="1833480"/>
            <a:ext cx="3837240" cy="43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Дошкольное образование может осуществляться как в дошкольном учреждении, так и в форме семейного образования.</a:t>
            </a:r>
            <a:r>
              <a:rPr b="0" lang="ru-RU" sz="40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671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«Родители (законные представители) несовершеннолетних обучающихся, обеспечивающие получение детьми дошкольного образования в форме семейного образования, </a:t>
            </a:r>
            <a:r>
              <a:rPr b="0" lang="ru-RU" sz="1600" spc="-1" strike="noStrike">
                <a:solidFill>
                  <a:srgbClr val="ed7d31"/>
                </a:solidFill>
                <a:latin typeface="Calibri"/>
              </a:rPr>
              <a:t>имеют право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на получение методической, психолого-педагогической, диагностической и консультативной помощи без взимания платы, в том числе в дошкольных образовательных организациях и общеобразовательных организациях, если в них созданы соответствующие консультационные центры. Обеспечение предоставления таких видов помощи осуществляется органами государственной власти субъектов Российской Федерации»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03840" y="1908000"/>
            <a:ext cx="37116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" name="Group 36"/>
          <p:cNvGrpSpPr/>
          <p:nvPr/>
        </p:nvGrpSpPr>
        <p:grpSpPr>
          <a:xfrm>
            <a:off x="7089480" y="5089320"/>
            <a:ext cx="2223000" cy="1986120"/>
            <a:chOff x="7089480" y="5089320"/>
            <a:chExt cx="2223000" cy="1986120"/>
          </a:xfrm>
        </p:grpSpPr>
        <p:sp>
          <p:nvSpPr>
            <p:cNvPr id="90" name="AutoShape 34"/>
            <p:cNvSpPr/>
            <p:nvPr/>
          </p:nvSpPr>
          <p:spPr>
            <a:xfrm rot="20700000">
              <a:off x="7257960" y="5306760"/>
              <a:ext cx="1886040" cy="155088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Text Box 35"/>
            <p:cNvSpPr/>
            <p:nvPr/>
          </p:nvSpPr>
          <p:spPr>
            <a:xfrm>
              <a:off x="7621200" y="5829120"/>
              <a:ext cx="8906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ff0000"/>
                  </a:solidFill>
                  <a:latin typeface="Tahoma"/>
                </a:rPr>
                <a:t>Глава 7. Статья 64.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2" name="Picture 9" descr=""/>
          <p:cNvPicPr/>
          <p:nvPr/>
        </p:nvPicPr>
        <p:blipFill>
          <a:blip r:embed="rId1"/>
          <a:stretch/>
        </p:blipFill>
        <p:spPr>
          <a:xfrm>
            <a:off x="4873680" y="1940040"/>
            <a:ext cx="3433680" cy="36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ed7d31"/>
                </a:solidFill>
                <a:latin typeface="Arial"/>
              </a:rPr>
              <a:t>Важно!!!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огласно новому Закону «Об образовании» </a:t>
            </a:r>
            <a:r>
              <a:rPr b="0" lang="ru-RU" sz="1800" spc="-1" strike="noStrike">
                <a:solidFill>
                  <a:srgbClr val="ed7d31"/>
                </a:solidFill>
                <a:latin typeface="Calibri"/>
              </a:rPr>
              <a:t>дошкольное образование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отделено от присмотра и ухода за детьми. </a:t>
            </a:r>
            <a:r>
              <a:rPr b="0" lang="ru-RU" sz="1800" spc="-1" strike="noStrike">
                <a:solidFill>
                  <a:srgbClr val="ed7d31"/>
                </a:solidFill>
                <a:latin typeface="Calibri"/>
              </a:rPr>
              <a:t>Присмотр и уход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за детьми могут осуществлять не только образовательные организации, но и иные организации, осуществляющие образовательную деятельность. Присмотр и уход за детьми – это комплекс мер по организации питания и хозяйственно-бытового обслуживания детей, обеспечению соблюдения ими личной гигиены и режима дня. </a:t>
            </a:r>
            <a:r>
              <a:rPr b="0" lang="ru-RU" sz="1800" spc="-1" strike="noStrike" u="sng">
                <a:solidFill>
                  <a:srgbClr val="ed7d31"/>
                </a:solidFill>
                <a:uFillTx/>
                <a:latin typeface="Calibri"/>
              </a:rPr>
              <a:t>Дошкольное образование бесплатное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, </a:t>
            </a:r>
            <a:r>
              <a:rPr b="0" lang="ru-RU" sz="1800" spc="-1" strike="noStrike" u="sng">
                <a:solidFill>
                  <a:srgbClr val="ed7d31"/>
                </a:solidFill>
                <a:uFillTx/>
                <a:latin typeface="Calibri"/>
              </a:rPr>
              <a:t>а присмотр и уход за детьми становится платным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. Сумма будет зависеть от учредителя садика. В то же время учредителю предоставлено право не взимать плату или снизить ее размер для отдельных категорий родителей. За присмотр и уход за детьми-инвалидами, детьми-сиротами и детьми, оставшимися без попечения родителей, а также за детьми с туберкулезной интоксикацией, обучающимися в государственных и муниципальных образовательных организациях, родительская плата не взимается. При этом сохраняются нормы компенсации части родительской платы: не менее 20% среднего размера родительской платы - на первого ребенка, не менее 50% - на второго ребенка, не менее 70% размера такой платы на третьего ребенка и последующих дете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1071720" y="498600"/>
            <a:ext cx="1565280" cy="11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03T20:43:13Z</dcterms:created>
  <dc:creator>Инна</dc:creator>
  <dc:description/>
  <dc:language>en-US</dc:language>
  <cp:lastModifiedBy>Марина Капранова</cp:lastModifiedBy>
  <dcterms:modified xsi:type="dcterms:W3CDTF">2021-10-25T12:05:09Z</dcterms:modified>
  <cp:revision>10</cp:revision>
  <dc:subject/>
  <dc:title>Презентация PowerPoint</dc:title>
</cp:coreProperties>
</file>